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D75-3C54-46BC-BB13-2B0C17B4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927-3E18-4BFC-A488-B2EAAD2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831-F614-4C3F-8807-FFBC00B3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D8F-1852-40DB-B311-85A87F3F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E69-A68C-4605-A30A-5AB6A3D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24F-8A50-4055-A97B-C0B71AB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883-B95F-4B09-A6C2-CDAFF41B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B6A-6D09-437D-8B8E-D792CDF8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010-E5B4-410F-9BA7-6FEC773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BC5-FD37-4603-ABBF-370AEE1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A06-C588-42B4-9B59-A30C8EB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077-2932-4CF2-9AE2-DE66C2C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B22-9168-4B73-A8DF-E7422A6A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5"/>
          <p:cNvGrpSpPr/>
          <p:nvPr/>
        </p:nvGrpSpPr>
        <p:grpSpPr>
          <a:xfrm>
            <a:off x="6362640" y="4610160"/>
            <a:ext cx="1629000" cy="1404360"/>
            <a:chOff x="6362640" y="4610160"/>
            <a:chExt cx="1629000" cy="1404360"/>
          </a:xfrm>
        </p:grpSpPr>
        <p:sp>
          <p:nvSpPr>
            <p:cNvPr id="42" name="Freeform 32"/>
            <p:cNvSpPr/>
            <p:nvPr/>
          </p:nvSpPr>
          <p:spPr>
            <a:xfrm>
              <a:off x="6388200" y="4905000"/>
              <a:ext cx="234720" cy="398160"/>
            </a:xfrm>
            <a:custGeom>
              <a:avLst/>
              <a:gdLst/>
              <a:ahLst/>
              <a:rect l="l" t="t" r="r" b="b"/>
              <a:pathLst>
                <a:path w="148" h="251">
                  <a:moveTo>
                    <a:pt x="12" y="163"/>
                  </a:moveTo>
                  <a:lnTo>
                    <a:pt x="14" y="159"/>
                  </a:lnTo>
                  <a:lnTo>
                    <a:pt x="12" y="155"/>
                  </a:lnTo>
                  <a:lnTo>
                    <a:pt x="6" y="155"/>
                  </a:lnTo>
                  <a:lnTo>
                    <a:pt x="4" y="151"/>
                  </a:lnTo>
                  <a:lnTo>
                    <a:pt x="0" y="145"/>
                  </a:lnTo>
                  <a:lnTo>
                    <a:pt x="128" y="0"/>
                  </a:lnTo>
                  <a:lnTo>
                    <a:pt x="136" y="12"/>
                  </a:lnTo>
                  <a:lnTo>
                    <a:pt x="138" y="18"/>
                  </a:lnTo>
                  <a:lnTo>
                    <a:pt x="138" y="26"/>
                  </a:lnTo>
                  <a:lnTo>
                    <a:pt x="146" y="36"/>
                  </a:lnTo>
                  <a:lnTo>
                    <a:pt x="130" y="54"/>
                  </a:lnTo>
                  <a:lnTo>
                    <a:pt x="130" y="58"/>
                  </a:lnTo>
                  <a:lnTo>
                    <a:pt x="124" y="63"/>
                  </a:lnTo>
                  <a:lnTo>
                    <a:pt x="128" y="71"/>
                  </a:lnTo>
                  <a:lnTo>
                    <a:pt x="138" y="77"/>
                  </a:lnTo>
                  <a:lnTo>
                    <a:pt x="136" y="83"/>
                  </a:lnTo>
                  <a:lnTo>
                    <a:pt x="128" y="93"/>
                  </a:lnTo>
                  <a:lnTo>
                    <a:pt x="134" y="101"/>
                  </a:lnTo>
                  <a:lnTo>
                    <a:pt x="134" y="109"/>
                  </a:lnTo>
                  <a:lnTo>
                    <a:pt x="130" y="113"/>
                  </a:lnTo>
                  <a:lnTo>
                    <a:pt x="124" y="115"/>
                  </a:lnTo>
                  <a:lnTo>
                    <a:pt x="124" y="133"/>
                  </a:lnTo>
                  <a:lnTo>
                    <a:pt x="128" y="135"/>
                  </a:lnTo>
                  <a:lnTo>
                    <a:pt x="128" y="141"/>
                  </a:lnTo>
                  <a:lnTo>
                    <a:pt x="126" y="141"/>
                  </a:lnTo>
                  <a:lnTo>
                    <a:pt x="126" y="147"/>
                  </a:lnTo>
                  <a:lnTo>
                    <a:pt x="130" y="149"/>
                  </a:lnTo>
                  <a:lnTo>
                    <a:pt x="128" y="157"/>
                  </a:lnTo>
                  <a:lnTo>
                    <a:pt x="124" y="159"/>
                  </a:lnTo>
                  <a:lnTo>
                    <a:pt x="124" y="167"/>
                  </a:lnTo>
                  <a:lnTo>
                    <a:pt x="120" y="171"/>
                  </a:lnTo>
                  <a:lnTo>
                    <a:pt x="120" y="187"/>
                  </a:lnTo>
                  <a:lnTo>
                    <a:pt x="124" y="189"/>
                  </a:lnTo>
                  <a:lnTo>
                    <a:pt x="126" y="197"/>
                  </a:lnTo>
                  <a:lnTo>
                    <a:pt x="128" y="205"/>
                  </a:lnTo>
                  <a:lnTo>
                    <a:pt x="128" y="213"/>
                  </a:lnTo>
                  <a:lnTo>
                    <a:pt x="126" y="215"/>
                  </a:lnTo>
                  <a:lnTo>
                    <a:pt x="126" y="221"/>
                  </a:lnTo>
                  <a:lnTo>
                    <a:pt x="130" y="223"/>
                  </a:lnTo>
                  <a:lnTo>
                    <a:pt x="136" y="223"/>
                  </a:lnTo>
                  <a:lnTo>
                    <a:pt x="138" y="227"/>
                  </a:lnTo>
                  <a:lnTo>
                    <a:pt x="144" y="227"/>
                  </a:lnTo>
                  <a:lnTo>
                    <a:pt x="148" y="229"/>
                  </a:lnTo>
                  <a:lnTo>
                    <a:pt x="146" y="233"/>
                  </a:lnTo>
                  <a:lnTo>
                    <a:pt x="144" y="233"/>
                  </a:lnTo>
                  <a:lnTo>
                    <a:pt x="144" y="239"/>
                  </a:lnTo>
                  <a:lnTo>
                    <a:pt x="146" y="251"/>
                  </a:lnTo>
                  <a:lnTo>
                    <a:pt x="120" y="237"/>
                  </a:lnTo>
                  <a:lnTo>
                    <a:pt x="100" y="227"/>
                  </a:lnTo>
                  <a:lnTo>
                    <a:pt x="92" y="221"/>
                  </a:lnTo>
                  <a:lnTo>
                    <a:pt x="76" y="211"/>
                  </a:lnTo>
                  <a:lnTo>
                    <a:pt x="66" y="203"/>
                  </a:lnTo>
                  <a:lnTo>
                    <a:pt x="46" y="191"/>
                  </a:lnTo>
                  <a:lnTo>
                    <a:pt x="34" y="181"/>
                  </a:lnTo>
                  <a:lnTo>
                    <a:pt x="24" y="175"/>
                  </a:lnTo>
                  <a:lnTo>
                    <a:pt x="12" y="16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33"/>
            <p:cNvSpPr/>
            <p:nvPr/>
          </p:nvSpPr>
          <p:spPr>
            <a:xfrm>
              <a:off x="6597720" y="5329080"/>
              <a:ext cx="233280" cy="404280"/>
            </a:xfrm>
            <a:custGeom>
              <a:avLst/>
              <a:gdLst/>
              <a:ahLst/>
              <a:rect l="l" t="t" r="r" b="b"/>
              <a:pathLst>
                <a:path w="147" h="255">
                  <a:moveTo>
                    <a:pt x="50" y="0"/>
                  </a:moveTo>
                  <a:lnTo>
                    <a:pt x="74" y="8"/>
                  </a:lnTo>
                  <a:lnTo>
                    <a:pt x="95" y="14"/>
                  </a:lnTo>
                  <a:lnTo>
                    <a:pt x="119" y="22"/>
                  </a:lnTo>
                  <a:lnTo>
                    <a:pt x="147" y="32"/>
                  </a:lnTo>
                  <a:lnTo>
                    <a:pt x="95" y="255"/>
                  </a:lnTo>
                  <a:lnTo>
                    <a:pt x="40" y="241"/>
                  </a:lnTo>
                  <a:lnTo>
                    <a:pt x="34" y="227"/>
                  </a:lnTo>
                  <a:lnTo>
                    <a:pt x="38" y="217"/>
                  </a:lnTo>
                  <a:lnTo>
                    <a:pt x="38" y="209"/>
                  </a:lnTo>
                  <a:lnTo>
                    <a:pt x="32" y="195"/>
                  </a:lnTo>
                  <a:lnTo>
                    <a:pt x="28" y="183"/>
                  </a:lnTo>
                  <a:lnTo>
                    <a:pt x="20" y="165"/>
                  </a:lnTo>
                  <a:lnTo>
                    <a:pt x="14" y="153"/>
                  </a:lnTo>
                  <a:lnTo>
                    <a:pt x="8" y="137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34"/>
            <p:cNvSpPr/>
            <p:nvPr/>
          </p:nvSpPr>
          <p:spPr>
            <a:xfrm>
              <a:off x="6748560" y="5379840"/>
              <a:ext cx="212760" cy="388440"/>
            </a:xfrm>
            <a:custGeom>
              <a:avLst/>
              <a:gdLst/>
              <a:ahLst/>
              <a:rect l="l" t="t" r="r" b="b"/>
              <a:pathLst>
                <a:path w="134" h="245">
                  <a:moveTo>
                    <a:pt x="52" y="0"/>
                  </a:moveTo>
                  <a:lnTo>
                    <a:pt x="72" y="4"/>
                  </a:lnTo>
                  <a:lnTo>
                    <a:pt x="92" y="8"/>
                  </a:lnTo>
                  <a:lnTo>
                    <a:pt x="114" y="12"/>
                  </a:lnTo>
                  <a:lnTo>
                    <a:pt x="134" y="16"/>
                  </a:lnTo>
                  <a:lnTo>
                    <a:pt x="118" y="245"/>
                  </a:lnTo>
                  <a:lnTo>
                    <a:pt x="104" y="243"/>
                  </a:lnTo>
                  <a:lnTo>
                    <a:pt x="80" y="241"/>
                  </a:lnTo>
                  <a:lnTo>
                    <a:pt x="56" y="237"/>
                  </a:lnTo>
                  <a:lnTo>
                    <a:pt x="34" y="233"/>
                  </a:lnTo>
                  <a:lnTo>
                    <a:pt x="14" y="229"/>
                  </a:lnTo>
                  <a:lnTo>
                    <a:pt x="0" y="22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5"/>
            <p:cNvSpPr/>
            <p:nvPr/>
          </p:nvSpPr>
          <p:spPr>
            <a:xfrm>
              <a:off x="6935760" y="5405040"/>
              <a:ext cx="247680" cy="372960"/>
            </a:xfrm>
            <a:custGeom>
              <a:avLst/>
              <a:gdLst/>
              <a:ahLst/>
              <a:rect l="l" t="t" r="r" b="b"/>
              <a:pathLst>
                <a:path w="156" h="235">
                  <a:moveTo>
                    <a:pt x="16" y="0"/>
                  </a:moveTo>
                  <a:lnTo>
                    <a:pt x="54" y="0"/>
                  </a:lnTo>
                  <a:lnTo>
                    <a:pt x="90" y="4"/>
                  </a:lnTo>
                  <a:lnTo>
                    <a:pt x="90" y="8"/>
                  </a:lnTo>
                  <a:lnTo>
                    <a:pt x="90" y="14"/>
                  </a:lnTo>
                  <a:lnTo>
                    <a:pt x="90" y="24"/>
                  </a:lnTo>
                  <a:lnTo>
                    <a:pt x="96" y="28"/>
                  </a:lnTo>
                  <a:lnTo>
                    <a:pt x="104" y="28"/>
                  </a:lnTo>
                  <a:lnTo>
                    <a:pt x="110" y="30"/>
                  </a:lnTo>
                  <a:lnTo>
                    <a:pt x="112" y="36"/>
                  </a:lnTo>
                  <a:lnTo>
                    <a:pt x="114" y="44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6" y="61"/>
                  </a:lnTo>
                  <a:lnTo>
                    <a:pt x="122" y="61"/>
                  </a:lnTo>
                  <a:lnTo>
                    <a:pt x="130" y="57"/>
                  </a:lnTo>
                  <a:lnTo>
                    <a:pt x="136" y="57"/>
                  </a:lnTo>
                  <a:lnTo>
                    <a:pt x="142" y="57"/>
                  </a:lnTo>
                  <a:lnTo>
                    <a:pt x="146" y="61"/>
                  </a:lnTo>
                  <a:lnTo>
                    <a:pt x="150" y="63"/>
                  </a:lnTo>
                  <a:lnTo>
                    <a:pt x="156" y="65"/>
                  </a:lnTo>
                  <a:lnTo>
                    <a:pt x="88" y="149"/>
                  </a:lnTo>
                  <a:lnTo>
                    <a:pt x="86" y="235"/>
                  </a:lnTo>
                  <a:lnTo>
                    <a:pt x="78" y="233"/>
                  </a:lnTo>
                  <a:lnTo>
                    <a:pt x="68" y="233"/>
                  </a:lnTo>
                  <a:lnTo>
                    <a:pt x="54" y="233"/>
                  </a:lnTo>
                  <a:lnTo>
                    <a:pt x="42" y="233"/>
                  </a:lnTo>
                  <a:lnTo>
                    <a:pt x="30" y="233"/>
                  </a:lnTo>
                  <a:lnTo>
                    <a:pt x="14" y="231"/>
                  </a:lnTo>
                  <a:lnTo>
                    <a:pt x="6" y="231"/>
                  </a:lnTo>
                  <a:lnTo>
                    <a:pt x="0" y="22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36"/>
            <p:cNvSpPr/>
            <p:nvPr/>
          </p:nvSpPr>
          <p:spPr>
            <a:xfrm>
              <a:off x="7072200" y="5508360"/>
              <a:ext cx="498600" cy="47268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70" y="0"/>
                  </a:moveTo>
                  <a:lnTo>
                    <a:pt x="74" y="0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8" y="14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6" y="22"/>
                  </a:lnTo>
                  <a:lnTo>
                    <a:pt x="120" y="24"/>
                  </a:lnTo>
                  <a:lnTo>
                    <a:pt x="130" y="24"/>
                  </a:lnTo>
                  <a:lnTo>
                    <a:pt x="140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8" y="38"/>
                  </a:lnTo>
                  <a:lnTo>
                    <a:pt x="160" y="46"/>
                  </a:lnTo>
                  <a:lnTo>
                    <a:pt x="162" y="52"/>
                  </a:lnTo>
                  <a:lnTo>
                    <a:pt x="164" y="64"/>
                  </a:lnTo>
                  <a:lnTo>
                    <a:pt x="170" y="72"/>
                  </a:lnTo>
                  <a:lnTo>
                    <a:pt x="178" y="80"/>
                  </a:lnTo>
                  <a:lnTo>
                    <a:pt x="186" y="86"/>
                  </a:lnTo>
                  <a:lnTo>
                    <a:pt x="194" y="94"/>
                  </a:lnTo>
                  <a:lnTo>
                    <a:pt x="200" y="98"/>
                  </a:lnTo>
                  <a:lnTo>
                    <a:pt x="204" y="96"/>
                  </a:lnTo>
                  <a:lnTo>
                    <a:pt x="206" y="94"/>
                  </a:lnTo>
                  <a:lnTo>
                    <a:pt x="224" y="168"/>
                  </a:lnTo>
                  <a:lnTo>
                    <a:pt x="228" y="176"/>
                  </a:lnTo>
                  <a:lnTo>
                    <a:pt x="234" y="184"/>
                  </a:lnTo>
                  <a:lnTo>
                    <a:pt x="242" y="190"/>
                  </a:lnTo>
                  <a:lnTo>
                    <a:pt x="256" y="194"/>
                  </a:lnTo>
                  <a:lnTo>
                    <a:pt x="262" y="192"/>
                  </a:lnTo>
                  <a:lnTo>
                    <a:pt x="266" y="198"/>
                  </a:lnTo>
                  <a:lnTo>
                    <a:pt x="270" y="198"/>
                  </a:lnTo>
                  <a:lnTo>
                    <a:pt x="274" y="196"/>
                  </a:lnTo>
                  <a:lnTo>
                    <a:pt x="276" y="200"/>
                  </a:lnTo>
                  <a:lnTo>
                    <a:pt x="284" y="200"/>
                  </a:lnTo>
                  <a:lnTo>
                    <a:pt x="292" y="198"/>
                  </a:lnTo>
                  <a:lnTo>
                    <a:pt x="296" y="196"/>
                  </a:lnTo>
                  <a:lnTo>
                    <a:pt x="302" y="192"/>
                  </a:lnTo>
                  <a:lnTo>
                    <a:pt x="312" y="192"/>
                  </a:lnTo>
                  <a:lnTo>
                    <a:pt x="312" y="198"/>
                  </a:lnTo>
                  <a:lnTo>
                    <a:pt x="314" y="204"/>
                  </a:lnTo>
                  <a:lnTo>
                    <a:pt x="306" y="204"/>
                  </a:lnTo>
                  <a:lnTo>
                    <a:pt x="292" y="226"/>
                  </a:lnTo>
                  <a:lnTo>
                    <a:pt x="288" y="226"/>
                  </a:lnTo>
                  <a:lnTo>
                    <a:pt x="282" y="232"/>
                  </a:lnTo>
                  <a:lnTo>
                    <a:pt x="280" y="234"/>
                  </a:lnTo>
                  <a:lnTo>
                    <a:pt x="280" y="236"/>
                  </a:lnTo>
                  <a:lnTo>
                    <a:pt x="280" y="238"/>
                  </a:lnTo>
                  <a:lnTo>
                    <a:pt x="270" y="238"/>
                  </a:lnTo>
                  <a:lnTo>
                    <a:pt x="264" y="242"/>
                  </a:lnTo>
                  <a:lnTo>
                    <a:pt x="256" y="244"/>
                  </a:lnTo>
                  <a:lnTo>
                    <a:pt x="252" y="248"/>
                  </a:lnTo>
                  <a:lnTo>
                    <a:pt x="248" y="252"/>
                  </a:lnTo>
                  <a:lnTo>
                    <a:pt x="246" y="256"/>
                  </a:lnTo>
                  <a:lnTo>
                    <a:pt x="244" y="260"/>
                  </a:lnTo>
                  <a:lnTo>
                    <a:pt x="246" y="264"/>
                  </a:lnTo>
                  <a:lnTo>
                    <a:pt x="250" y="264"/>
                  </a:lnTo>
                  <a:lnTo>
                    <a:pt x="254" y="260"/>
                  </a:lnTo>
                  <a:lnTo>
                    <a:pt x="256" y="262"/>
                  </a:lnTo>
                  <a:lnTo>
                    <a:pt x="260" y="266"/>
                  </a:lnTo>
                  <a:lnTo>
                    <a:pt x="260" y="268"/>
                  </a:lnTo>
                  <a:lnTo>
                    <a:pt x="260" y="270"/>
                  </a:lnTo>
                  <a:lnTo>
                    <a:pt x="252" y="270"/>
                  </a:lnTo>
                  <a:lnTo>
                    <a:pt x="248" y="270"/>
                  </a:lnTo>
                  <a:lnTo>
                    <a:pt x="240" y="274"/>
                  </a:lnTo>
                  <a:lnTo>
                    <a:pt x="238" y="278"/>
                  </a:lnTo>
                  <a:lnTo>
                    <a:pt x="236" y="280"/>
                  </a:lnTo>
                  <a:lnTo>
                    <a:pt x="230" y="280"/>
                  </a:lnTo>
                  <a:lnTo>
                    <a:pt x="226" y="280"/>
                  </a:lnTo>
                  <a:lnTo>
                    <a:pt x="222" y="282"/>
                  </a:lnTo>
                  <a:lnTo>
                    <a:pt x="218" y="288"/>
                  </a:lnTo>
                  <a:lnTo>
                    <a:pt x="214" y="292"/>
                  </a:lnTo>
                  <a:lnTo>
                    <a:pt x="210" y="294"/>
                  </a:lnTo>
                  <a:lnTo>
                    <a:pt x="206" y="298"/>
                  </a:lnTo>
                  <a:lnTo>
                    <a:pt x="200" y="296"/>
                  </a:lnTo>
                  <a:lnTo>
                    <a:pt x="202" y="288"/>
                  </a:lnTo>
                  <a:lnTo>
                    <a:pt x="202" y="282"/>
                  </a:lnTo>
                  <a:lnTo>
                    <a:pt x="204" y="278"/>
                  </a:lnTo>
                  <a:lnTo>
                    <a:pt x="208" y="272"/>
                  </a:lnTo>
                  <a:lnTo>
                    <a:pt x="212" y="268"/>
                  </a:lnTo>
                  <a:lnTo>
                    <a:pt x="212" y="260"/>
                  </a:lnTo>
                  <a:lnTo>
                    <a:pt x="210" y="254"/>
                  </a:lnTo>
                  <a:lnTo>
                    <a:pt x="210" y="246"/>
                  </a:lnTo>
                  <a:lnTo>
                    <a:pt x="212" y="240"/>
                  </a:lnTo>
                  <a:lnTo>
                    <a:pt x="212" y="234"/>
                  </a:lnTo>
                  <a:lnTo>
                    <a:pt x="208" y="230"/>
                  </a:lnTo>
                  <a:lnTo>
                    <a:pt x="212" y="228"/>
                  </a:lnTo>
                  <a:lnTo>
                    <a:pt x="218" y="232"/>
                  </a:lnTo>
                  <a:lnTo>
                    <a:pt x="224" y="236"/>
                  </a:lnTo>
                  <a:lnTo>
                    <a:pt x="232" y="236"/>
                  </a:lnTo>
                  <a:lnTo>
                    <a:pt x="236" y="232"/>
                  </a:lnTo>
                  <a:lnTo>
                    <a:pt x="232" y="226"/>
                  </a:lnTo>
                  <a:lnTo>
                    <a:pt x="224" y="218"/>
                  </a:lnTo>
                  <a:lnTo>
                    <a:pt x="216" y="210"/>
                  </a:lnTo>
                  <a:lnTo>
                    <a:pt x="208" y="210"/>
                  </a:lnTo>
                  <a:lnTo>
                    <a:pt x="202" y="210"/>
                  </a:lnTo>
                  <a:lnTo>
                    <a:pt x="194" y="210"/>
                  </a:lnTo>
                  <a:lnTo>
                    <a:pt x="188" y="210"/>
                  </a:lnTo>
                  <a:lnTo>
                    <a:pt x="174" y="210"/>
                  </a:lnTo>
                  <a:lnTo>
                    <a:pt x="166" y="210"/>
                  </a:lnTo>
                  <a:lnTo>
                    <a:pt x="162" y="208"/>
                  </a:lnTo>
                  <a:lnTo>
                    <a:pt x="158" y="208"/>
                  </a:lnTo>
                  <a:lnTo>
                    <a:pt x="158" y="202"/>
                  </a:lnTo>
                  <a:lnTo>
                    <a:pt x="154" y="198"/>
                  </a:lnTo>
                  <a:lnTo>
                    <a:pt x="154" y="190"/>
                  </a:lnTo>
                  <a:lnTo>
                    <a:pt x="148" y="188"/>
                  </a:lnTo>
                  <a:lnTo>
                    <a:pt x="148" y="180"/>
                  </a:lnTo>
                  <a:lnTo>
                    <a:pt x="140" y="182"/>
                  </a:lnTo>
                  <a:lnTo>
                    <a:pt x="134" y="180"/>
                  </a:lnTo>
                  <a:lnTo>
                    <a:pt x="130" y="176"/>
                  </a:lnTo>
                  <a:lnTo>
                    <a:pt x="126" y="168"/>
                  </a:lnTo>
                  <a:lnTo>
                    <a:pt x="122" y="166"/>
                  </a:lnTo>
                  <a:lnTo>
                    <a:pt x="116" y="166"/>
                  </a:lnTo>
                  <a:lnTo>
                    <a:pt x="106" y="166"/>
                  </a:lnTo>
                  <a:lnTo>
                    <a:pt x="102" y="162"/>
                  </a:lnTo>
                  <a:lnTo>
                    <a:pt x="98" y="166"/>
                  </a:lnTo>
                  <a:lnTo>
                    <a:pt x="96" y="168"/>
                  </a:lnTo>
                  <a:lnTo>
                    <a:pt x="92" y="172"/>
                  </a:lnTo>
                  <a:lnTo>
                    <a:pt x="92" y="178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84" y="176"/>
                  </a:lnTo>
                  <a:lnTo>
                    <a:pt x="84" y="182"/>
                  </a:lnTo>
                  <a:lnTo>
                    <a:pt x="78" y="184"/>
                  </a:lnTo>
                  <a:lnTo>
                    <a:pt x="68" y="184"/>
                  </a:lnTo>
                  <a:lnTo>
                    <a:pt x="62" y="182"/>
                  </a:lnTo>
                  <a:lnTo>
                    <a:pt x="58" y="184"/>
                  </a:lnTo>
                  <a:lnTo>
                    <a:pt x="52" y="186"/>
                  </a:lnTo>
                  <a:lnTo>
                    <a:pt x="48" y="182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34" y="176"/>
                  </a:lnTo>
                  <a:lnTo>
                    <a:pt x="26" y="174"/>
                  </a:lnTo>
                  <a:lnTo>
                    <a:pt x="20" y="176"/>
                  </a:lnTo>
                  <a:lnTo>
                    <a:pt x="14" y="176"/>
                  </a:lnTo>
                  <a:lnTo>
                    <a:pt x="6" y="174"/>
                  </a:lnTo>
                  <a:lnTo>
                    <a:pt x="6" y="166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0" y="160"/>
                  </a:lnTo>
                  <a:lnTo>
                    <a:pt x="2" y="8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37"/>
            <p:cNvSpPr/>
            <p:nvPr/>
          </p:nvSpPr>
          <p:spPr>
            <a:xfrm>
              <a:off x="7765920" y="5663880"/>
              <a:ext cx="60480" cy="3132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8" y="20"/>
                  </a:moveTo>
                  <a:lnTo>
                    <a:pt x="8" y="14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38"/>
            <p:cNvSpPr/>
            <p:nvPr/>
          </p:nvSpPr>
          <p:spPr>
            <a:xfrm>
              <a:off x="7765920" y="5679720"/>
              <a:ext cx="95400" cy="11088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32" y="12"/>
                  </a:moveTo>
                  <a:lnTo>
                    <a:pt x="26" y="12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6" y="70"/>
                  </a:lnTo>
                  <a:lnTo>
                    <a:pt x="22" y="68"/>
                  </a:lnTo>
                  <a:lnTo>
                    <a:pt x="22" y="60"/>
                  </a:lnTo>
                  <a:lnTo>
                    <a:pt x="26" y="5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6" y="32"/>
                  </a:lnTo>
                  <a:lnTo>
                    <a:pt x="42" y="26"/>
                  </a:lnTo>
                  <a:lnTo>
                    <a:pt x="48" y="20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0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39"/>
            <p:cNvSpPr/>
            <p:nvPr/>
          </p:nvSpPr>
          <p:spPr>
            <a:xfrm>
              <a:off x="7839000" y="5628960"/>
              <a:ext cx="34920" cy="50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" y="12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4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40"/>
            <p:cNvSpPr/>
            <p:nvPr/>
          </p:nvSpPr>
          <p:spPr>
            <a:xfrm>
              <a:off x="7661160" y="5654520"/>
              <a:ext cx="127080" cy="10728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74" y="28"/>
                  </a:moveTo>
                  <a:lnTo>
                    <a:pt x="80" y="30"/>
                  </a:lnTo>
                  <a:lnTo>
                    <a:pt x="80" y="36"/>
                  </a:lnTo>
                  <a:lnTo>
                    <a:pt x="76" y="36"/>
                  </a:lnTo>
                  <a:lnTo>
                    <a:pt x="74" y="40"/>
                  </a:lnTo>
                  <a:lnTo>
                    <a:pt x="70" y="46"/>
                  </a:lnTo>
                  <a:lnTo>
                    <a:pt x="68" y="48"/>
                  </a:lnTo>
                  <a:lnTo>
                    <a:pt x="64" y="54"/>
                  </a:lnTo>
                  <a:lnTo>
                    <a:pt x="62" y="58"/>
                  </a:lnTo>
                  <a:lnTo>
                    <a:pt x="58" y="64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0" y="68"/>
                  </a:lnTo>
                  <a:lnTo>
                    <a:pt x="36" y="64"/>
                  </a:lnTo>
                  <a:lnTo>
                    <a:pt x="36" y="60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4" y="44"/>
                  </a:lnTo>
                  <a:lnTo>
                    <a:pt x="22" y="38"/>
                  </a:lnTo>
                  <a:lnTo>
                    <a:pt x="20" y="34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60" y="18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4" y="28"/>
                  </a:lnTo>
                  <a:close/>
                </a:path>
              </a:pathLst>
            </a:custGeom>
            <a:solidFill>
              <a:srgbClr val="ff1a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41"/>
            <p:cNvSpPr/>
            <p:nvPr/>
          </p:nvSpPr>
          <p:spPr>
            <a:xfrm>
              <a:off x="7835760" y="5443200"/>
              <a:ext cx="155880" cy="15048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4" y="37"/>
                  </a:moveTo>
                  <a:lnTo>
                    <a:pt x="0" y="26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6" y="30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8" y="33"/>
                  </a:lnTo>
                  <a:lnTo>
                    <a:pt x="34" y="35"/>
                  </a:lnTo>
                  <a:lnTo>
                    <a:pt x="38" y="31"/>
                  </a:lnTo>
                  <a:lnTo>
                    <a:pt x="42" y="31"/>
                  </a:lnTo>
                  <a:lnTo>
                    <a:pt x="46" y="30"/>
                  </a:lnTo>
                  <a:lnTo>
                    <a:pt x="46" y="26"/>
                  </a:lnTo>
                  <a:lnTo>
                    <a:pt x="54" y="24"/>
                  </a:lnTo>
                  <a:lnTo>
                    <a:pt x="60" y="22"/>
                  </a:lnTo>
                  <a:lnTo>
                    <a:pt x="62" y="24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6" y="33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3"/>
                  </a:lnTo>
                  <a:lnTo>
                    <a:pt x="76" y="37"/>
                  </a:lnTo>
                  <a:lnTo>
                    <a:pt x="72" y="39"/>
                  </a:lnTo>
                  <a:lnTo>
                    <a:pt x="72" y="43"/>
                  </a:lnTo>
                  <a:lnTo>
                    <a:pt x="76" y="43"/>
                  </a:lnTo>
                  <a:lnTo>
                    <a:pt x="78" y="47"/>
                  </a:lnTo>
                  <a:lnTo>
                    <a:pt x="80" y="49"/>
                  </a:lnTo>
                  <a:lnTo>
                    <a:pt x="80" y="43"/>
                  </a:lnTo>
                  <a:lnTo>
                    <a:pt x="80" y="39"/>
                  </a:lnTo>
                  <a:lnTo>
                    <a:pt x="80" y="35"/>
                  </a:lnTo>
                  <a:lnTo>
                    <a:pt x="84" y="35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86" y="49"/>
                  </a:lnTo>
                  <a:lnTo>
                    <a:pt x="90" y="47"/>
                  </a:lnTo>
                  <a:lnTo>
                    <a:pt x="88" y="41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4" y="37"/>
                  </a:lnTo>
                  <a:lnTo>
                    <a:pt x="96" y="45"/>
                  </a:lnTo>
                  <a:lnTo>
                    <a:pt x="96" y="53"/>
                  </a:lnTo>
                  <a:lnTo>
                    <a:pt x="98" y="57"/>
                  </a:lnTo>
                  <a:lnTo>
                    <a:pt x="98" y="61"/>
                  </a:lnTo>
                  <a:lnTo>
                    <a:pt x="96" y="65"/>
                  </a:lnTo>
                  <a:lnTo>
                    <a:pt x="92" y="61"/>
                  </a:lnTo>
                  <a:lnTo>
                    <a:pt x="90" y="59"/>
                  </a:lnTo>
                  <a:lnTo>
                    <a:pt x="86" y="57"/>
                  </a:lnTo>
                  <a:lnTo>
                    <a:pt x="86" y="61"/>
                  </a:lnTo>
                  <a:lnTo>
                    <a:pt x="86" y="65"/>
                  </a:lnTo>
                  <a:lnTo>
                    <a:pt x="84" y="67"/>
                  </a:lnTo>
                  <a:lnTo>
                    <a:pt x="82" y="61"/>
                  </a:lnTo>
                  <a:lnTo>
                    <a:pt x="80" y="57"/>
                  </a:lnTo>
                  <a:lnTo>
                    <a:pt x="78" y="53"/>
                  </a:lnTo>
                  <a:lnTo>
                    <a:pt x="76" y="51"/>
                  </a:lnTo>
                  <a:lnTo>
                    <a:pt x="72" y="51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61"/>
                  </a:lnTo>
                  <a:lnTo>
                    <a:pt x="70" y="65"/>
                  </a:lnTo>
                  <a:lnTo>
                    <a:pt x="70" y="67"/>
                  </a:lnTo>
                  <a:lnTo>
                    <a:pt x="72" y="73"/>
                  </a:lnTo>
                  <a:lnTo>
                    <a:pt x="68" y="77"/>
                  </a:lnTo>
                  <a:lnTo>
                    <a:pt x="66" y="81"/>
                  </a:lnTo>
                  <a:lnTo>
                    <a:pt x="62" y="79"/>
                  </a:lnTo>
                  <a:lnTo>
                    <a:pt x="62" y="73"/>
                  </a:lnTo>
                  <a:lnTo>
                    <a:pt x="64" y="69"/>
                  </a:lnTo>
                  <a:lnTo>
                    <a:pt x="66" y="65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5"/>
                  </a:lnTo>
                  <a:lnTo>
                    <a:pt x="60" y="69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71"/>
                  </a:lnTo>
                  <a:lnTo>
                    <a:pt x="44" y="75"/>
                  </a:lnTo>
                  <a:lnTo>
                    <a:pt x="40" y="79"/>
                  </a:lnTo>
                  <a:lnTo>
                    <a:pt x="36" y="81"/>
                  </a:lnTo>
                  <a:lnTo>
                    <a:pt x="30" y="83"/>
                  </a:lnTo>
                  <a:lnTo>
                    <a:pt x="26" y="85"/>
                  </a:lnTo>
                  <a:lnTo>
                    <a:pt x="22" y="87"/>
                  </a:lnTo>
                  <a:lnTo>
                    <a:pt x="18" y="91"/>
                  </a:lnTo>
                  <a:lnTo>
                    <a:pt x="14" y="95"/>
                  </a:lnTo>
                  <a:lnTo>
                    <a:pt x="10" y="93"/>
                  </a:lnTo>
                  <a:lnTo>
                    <a:pt x="6" y="87"/>
                  </a:lnTo>
                  <a:lnTo>
                    <a:pt x="10" y="81"/>
                  </a:lnTo>
                  <a:lnTo>
                    <a:pt x="12" y="77"/>
                  </a:lnTo>
                  <a:lnTo>
                    <a:pt x="8" y="73"/>
                  </a:lnTo>
                  <a:lnTo>
                    <a:pt x="4" y="75"/>
                  </a:lnTo>
                  <a:lnTo>
                    <a:pt x="8" y="67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6" y="59"/>
                  </a:lnTo>
                  <a:lnTo>
                    <a:pt x="6" y="49"/>
                  </a:lnTo>
                  <a:lnTo>
                    <a:pt x="4" y="41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2"/>
            <p:cNvSpPr/>
            <p:nvPr/>
          </p:nvSpPr>
          <p:spPr>
            <a:xfrm>
              <a:off x="7554960" y="5278320"/>
              <a:ext cx="280800" cy="2613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0" y="0"/>
                  </a:moveTo>
                  <a:lnTo>
                    <a:pt x="8" y="10"/>
                  </a:lnTo>
                  <a:lnTo>
                    <a:pt x="17" y="16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29" y="26"/>
                  </a:lnTo>
                  <a:lnTo>
                    <a:pt x="31" y="30"/>
                  </a:lnTo>
                  <a:lnTo>
                    <a:pt x="39" y="28"/>
                  </a:lnTo>
                  <a:lnTo>
                    <a:pt x="41" y="34"/>
                  </a:lnTo>
                  <a:lnTo>
                    <a:pt x="47" y="32"/>
                  </a:lnTo>
                  <a:lnTo>
                    <a:pt x="53" y="36"/>
                  </a:lnTo>
                  <a:lnTo>
                    <a:pt x="53" y="42"/>
                  </a:lnTo>
                  <a:lnTo>
                    <a:pt x="59" y="44"/>
                  </a:lnTo>
                  <a:lnTo>
                    <a:pt x="65" y="44"/>
                  </a:lnTo>
                  <a:lnTo>
                    <a:pt x="67" y="50"/>
                  </a:lnTo>
                  <a:lnTo>
                    <a:pt x="67" y="56"/>
                  </a:lnTo>
                  <a:lnTo>
                    <a:pt x="67" y="62"/>
                  </a:lnTo>
                  <a:lnTo>
                    <a:pt x="75" y="64"/>
                  </a:lnTo>
                  <a:lnTo>
                    <a:pt x="81" y="64"/>
                  </a:lnTo>
                  <a:lnTo>
                    <a:pt x="89" y="62"/>
                  </a:lnTo>
                  <a:lnTo>
                    <a:pt x="89" y="66"/>
                  </a:lnTo>
                  <a:lnTo>
                    <a:pt x="89" y="70"/>
                  </a:lnTo>
                  <a:lnTo>
                    <a:pt x="95" y="70"/>
                  </a:lnTo>
                  <a:lnTo>
                    <a:pt x="99" y="68"/>
                  </a:lnTo>
                  <a:lnTo>
                    <a:pt x="105" y="68"/>
                  </a:lnTo>
                  <a:lnTo>
                    <a:pt x="109" y="66"/>
                  </a:lnTo>
                  <a:lnTo>
                    <a:pt x="115" y="66"/>
                  </a:lnTo>
                  <a:lnTo>
                    <a:pt x="121" y="64"/>
                  </a:lnTo>
                  <a:lnTo>
                    <a:pt x="121" y="62"/>
                  </a:lnTo>
                  <a:lnTo>
                    <a:pt x="125" y="62"/>
                  </a:lnTo>
                  <a:lnTo>
                    <a:pt x="129" y="64"/>
                  </a:lnTo>
                  <a:lnTo>
                    <a:pt x="131" y="66"/>
                  </a:lnTo>
                  <a:lnTo>
                    <a:pt x="127" y="70"/>
                  </a:lnTo>
                  <a:lnTo>
                    <a:pt x="125" y="76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19" y="90"/>
                  </a:lnTo>
                  <a:lnTo>
                    <a:pt x="115" y="92"/>
                  </a:lnTo>
                  <a:lnTo>
                    <a:pt x="113" y="98"/>
                  </a:lnTo>
                  <a:lnTo>
                    <a:pt x="113" y="100"/>
                  </a:lnTo>
                  <a:lnTo>
                    <a:pt x="117" y="100"/>
                  </a:lnTo>
                  <a:lnTo>
                    <a:pt x="121" y="96"/>
                  </a:lnTo>
                  <a:lnTo>
                    <a:pt x="125" y="90"/>
                  </a:lnTo>
                  <a:lnTo>
                    <a:pt x="125" y="86"/>
                  </a:lnTo>
                  <a:lnTo>
                    <a:pt x="127" y="82"/>
                  </a:lnTo>
                  <a:lnTo>
                    <a:pt x="127" y="76"/>
                  </a:lnTo>
                  <a:lnTo>
                    <a:pt x="131" y="74"/>
                  </a:lnTo>
                  <a:lnTo>
                    <a:pt x="135" y="72"/>
                  </a:lnTo>
                  <a:lnTo>
                    <a:pt x="141" y="72"/>
                  </a:lnTo>
                  <a:lnTo>
                    <a:pt x="141" y="76"/>
                  </a:lnTo>
                  <a:lnTo>
                    <a:pt x="143" y="80"/>
                  </a:lnTo>
                  <a:lnTo>
                    <a:pt x="145" y="80"/>
                  </a:lnTo>
                  <a:lnTo>
                    <a:pt x="147" y="76"/>
                  </a:lnTo>
                  <a:lnTo>
                    <a:pt x="151" y="74"/>
                  </a:lnTo>
                  <a:lnTo>
                    <a:pt x="157" y="74"/>
                  </a:lnTo>
                  <a:lnTo>
                    <a:pt x="163" y="78"/>
                  </a:lnTo>
                  <a:lnTo>
                    <a:pt x="167" y="84"/>
                  </a:lnTo>
                  <a:lnTo>
                    <a:pt x="169" y="88"/>
                  </a:lnTo>
                  <a:lnTo>
                    <a:pt x="175" y="88"/>
                  </a:lnTo>
                  <a:lnTo>
                    <a:pt x="177" y="94"/>
                  </a:lnTo>
                  <a:lnTo>
                    <a:pt x="177" y="100"/>
                  </a:lnTo>
                  <a:lnTo>
                    <a:pt x="177" y="106"/>
                  </a:lnTo>
                  <a:lnTo>
                    <a:pt x="171" y="112"/>
                  </a:lnTo>
                  <a:lnTo>
                    <a:pt x="169" y="116"/>
                  </a:lnTo>
                  <a:lnTo>
                    <a:pt x="163" y="108"/>
                  </a:lnTo>
                  <a:lnTo>
                    <a:pt x="89" y="149"/>
                  </a:lnTo>
                  <a:lnTo>
                    <a:pt x="87" y="147"/>
                  </a:lnTo>
                  <a:lnTo>
                    <a:pt x="81" y="145"/>
                  </a:lnTo>
                  <a:lnTo>
                    <a:pt x="79" y="151"/>
                  </a:lnTo>
                  <a:lnTo>
                    <a:pt x="81" y="153"/>
                  </a:lnTo>
                  <a:lnTo>
                    <a:pt x="83" y="157"/>
                  </a:lnTo>
                  <a:lnTo>
                    <a:pt x="87" y="161"/>
                  </a:lnTo>
                  <a:lnTo>
                    <a:pt x="85" y="165"/>
                  </a:lnTo>
                  <a:lnTo>
                    <a:pt x="79" y="163"/>
                  </a:lnTo>
                  <a:lnTo>
                    <a:pt x="75" y="163"/>
                  </a:lnTo>
                  <a:lnTo>
                    <a:pt x="71" y="163"/>
                  </a:lnTo>
                  <a:lnTo>
                    <a:pt x="71" y="161"/>
                  </a:lnTo>
                  <a:lnTo>
                    <a:pt x="69" y="159"/>
                  </a:lnTo>
                  <a:lnTo>
                    <a:pt x="65" y="159"/>
                  </a:lnTo>
                  <a:lnTo>
                    <a:pt x="63" y="163"/>
                  </a:lnTo>
                  <a:lnTo>
                    <a:pt x="55" y="163"/>
                  </a:lnTo>
                  <a:lnTo>
                    <a:pt x="53" y="159"/>
                  </a:lnTo>
                  <a:lnTo>
                    <a:pt x="53" y="153"/>
                  </a:lnTo>
                  <a:lnTo>
                    <a:pt x="49" y="149"/>
                  </a:lnTo>
                  <a:lnTo>
                    <a:pt x="47" y="151"/>
                  </a:lnTo>
                  <a:lnTo>
                    <a:pt x="45" y="155"/>
                  </a:lnTo>
                  <a:lnTo>
                    <a:pt x="43" y="155"/>
                  </a:lnTo>
                  <a:lnTo>
                    <a:pt x="39" y="153"/>
                  </a:lnTo>
                  <a:lnTo>
                    <a:pt x="39" y="147"/>
                  </a:lnTo>
                  <a:lnTo>
                    <a:pt x="41" y="141"/>
                  </a:lnTo>
                  <a:lnTo>
                    <a:pt x="37" y="141"/>
                  </a:lnTo>
                  <a:lnTo>
                    <a:pt x="33" y="139"/>
                  </a:lnTo>
                  <a:lnTo>
                    <a:pt x="29" y="137"/>
                  </a:lnTo>
                  <a:lnTo>
                    <a:pt x="25" y="134"/>
                  </a:lnTo>
                  <a:lnTo>
                    <a:pt x="25" y="130"/>
                  </a:lnTo>
                  <a:lnTo>
                    <a:pt x="21" y="124"/>
                  </a:lnTo>
                  <a:lnTo>
                    <a:pt x="25" y="120"/>
                  </a:lnTo>
                  <a:lnTo>
                    <a:pt x="25" y="116"/>
                  </a:lnTo>
                  <a:lnTo>
                    <a:pt x="31" y="114"/>
                  </a:lnTo>
                  <a:lnTo>
                    <a:pt x="27" y="112"/>
                  </a:lnTo>
                  <a:lnTo>
                    <a:pt x="27" y="106"/>
                  </a:lnTo>
                  <a:lnTo>
                    <a:pt x="33" y="108"/>
                  </a:lnTo>
                  <a:lnTo>
                    <a:pt x="35" y="110"/>
                  </a:lnTo>
                  <a:lnTo>
                    <a:pt x="39" y="108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04"/>
                  </a:lnTo>
                  <a:lnTo>
                    <a:pt x="49" y="104"/>
                  </a:lnTo>
                  <a:lnTo>
                    <a:pt x="53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59" y="98"/>
                  </a:lnTo>
                  <a:lnTo>
                    <a:pt x="61" y="94"/>
                  </a:lnTo>
                  <a:lnTo>
                    <a:pt x="59" y="90"/>
                  </a:lnTo>
                  <a:lnTo>
                    <a:pt x="55" y="84"/>
                  </a:lnTo>
                  <a:lnTo>
                    <a:pt x="53" y="78"/>
                  </a:lnTo>
                  <a:lnTo>
                    <a:pt x="51" y="76"/>
                  </a:lnTo>
                  <a:lnTo>
                    <a:pt x="45" y="76"/>
                  </a:lnTo>
                  <a:lnTo>
                    <a:pt x="43" y="70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7" y="52"/>
                  </a:lnTo>
                  <a:lnTo>
                    <a:pt x="35" y="46"/>
                  </a:lnTo>
                  <a:lnTo>
                    <a:pt x="29" y="48"/>
                  </a:lnTo>
                  <a:lnTo>
                    <a:pt x="23" y="44"/>
                  </a:lnTo>
                  <a:lnTo>
                    <a:pt x="21" y="36"/>
                  </a:lnTo>
                  <a:lnTo>
                    <a:pt x="23" y="34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3" y="28"/>
                  </a:lnTo>
                  <a:lnTo>
                    <a:pt x="11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43"/>
            <p:cNvSpPr/>
            <p:nvPr/>
          </p:nvSpPr>
          <p:spPr>
            <a:xfrm>
              <a:off x="7718400" y="5574960"/>
              <a:ext cx="66600" cy="187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6"/>
                  </a:moveTo>
                  <a:lnTo>
                    <a:pt x="8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36" y="8"/>
                  </a:lnTo>
                  <a:lnTo>
                    <a:pt x="30" y="10"/>
                  </a:lnTo>
                  <a:lnTo>
                    <a:pt x="24" y="12"/>
                  </a:lnTo>
                  <a:lnTo>
                    <a:pt x="16" y="12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44"/>
            <p:cNvSpPr/>
            <p:nvPr/>
          </p:nvSpPr>
          <p:spPr>
            <a:xfrm>
              <a:off x="7332840" y="5271840"/>
              <a:ext cx="490320" cy="560160"/>
            </a:xfrm>
            <a:custGeom>
              <a:avLst/>
              <a:gdLst/>
              <a:ahLst/>
              <a:rect l="l" t="t" r="r" b="b"/>
              <a:pathLst>
                <a:path w="309" h="353">
                  <a:moveTo>
                    <a:pt x="309" y="120"/>
                  </a:moveTo>
                  <a:lnTo>
                    <a:pt x="305" y="122"/>
                  </a:lnTo>
                  <a:lnTo>
                    <a:pt x="303" y="128"/>
                  </a:lnTo>
                  <a:lnTo>
                    <a:pt x="297" y="134"/>
                  </a:lnTo>
                  <a:lnTo>
                    <a:pt x="297" y="139"/>
                  </a:lnTo>
                  <a:lnTo>
                    <a:pt x="295" y="149"/>
                  </a:lnTo>
                  <a:lnTo>
                    <a:pt x="293" y="157"/>
                  </a:lnTo>
                  <a:lnTo>
                    <a:pt x="287" y="163"/>
                  </a:lnTo>
                  <a:lnTo>
                    <a:pt x="281" y="171"/>
                  </a:lnTo>
                  <a:lnTo>
                    <a:pt x="219" y="201"/>
                  </a:lnTo>
                  <a:lnTo>
                    <a:pt x="215" y="203"/>
                  </a:lnTo>
                  <a:lnTo>
                    <a:pt x="213" y="209"/>
                  </a:lnTo>
                  <a:lnTo>
                    <a:pt x="211" y="219"/>
                  </a:lnTo>
                  <a:lnTo>
                    <a:pt x="211" y="227"/>
                  </a:lnTo>
                  <a:lnTo>
                    <a:pt x="205" y="229"/>
                  </a:lnTo>
                  <a:lnTo>
                    <a:pt x="199" y="241"/>
                  </a:lnTo>
                  <a:lnTo>
                    <a:pt x="195" y="251"/>
                  </a:lnTo>
                  <a:lnTo>
                    <a:pt x="193" y="257"/>
                  </a:lnTo>
                  <a:lnTo>
                    <a:pt x="193" y="265"/>
                  </a:lnTo>
                  <a:lnTo>
                    <a:pt x="191" y="277"/>
                  </a:lnTo>
                  <a:lnTo>
                    <a:pt x="185" y="287"/>
                  </a:lnTo>
                  <a:lnTo>
                    <a:pt x="183" y="293"/>
                  </a:lnTo>
                  <a:lnTo>
                    <a:pt x="179" y="297"/>
                  </a:lnTo>
                  <a:lnTo>
                    <a:pt x="175" y="301"/>
                  </a:lnTo>
                  <a:lnTo>
                    <a:pt x="171" y="307"/>
                  </a:lnTo>
                  <a:lnTo>
                    <a:pt x="169" y="309"/>
                  </a:lnTo>
                  <a:lnTo>
                    <a:pt x="165" y="315"/>
                  </a:lnTo>
                  <a:lnTo>
                    <a:pt x="161" y="321"/>
                  </a:lnTo>
                  <a:lnTo>
                    <a:pt x="159" y="329"/>
                  </a:lnTo>
                  <a:lnTo>
                    <a:pt x="155" y="335"/>
                  </a:lnTo>
                  <a:lnTo>
                    <a:pt x="157" y="337"/>
                  </a:lnTo>
                  <a:lnTo>
                    <a:pt x="157" y="339"/>
                  </a:lnTo>
                  <a:lnTo>
                    <a:pt x="159" y="337"/>
                  </a:lnTo>
                  <a:lnTo>
                    <a:pt x="161" y="327"/>
                  </a:lnTo>
                  <a:lnTo>
                    <a:pt x="183" y="295"/>
                  </a:lnTo>
                  <a:lnTo>
                    <a:pt x="189" y="289"/>
                  </a:lnTo>
                  <a:lnTo>
                    <a:pt x="193" y="281"/>
                  </a:lnTo>
                  <a:lnTo>
                    <a:pt x="195" y="267"/>
                  </a:lnTo>
                  <a:lnTo>
                    <a:pt x="201" y="255"/>
                  </a:lnTo>
                  <a:lnTo>
                    <a:pt x="211" y="241"/>
                  </a:lnTo>
                  <a:lnTo>
                    <a:pt x="219" y="231"/>
                  </a:lnTo>
                  <a:lnTo>
                    <a:pt x="227" y="223"/>
                  </a:lnTo>
                  <a:lnTo>
                    <a:pt x="235" y="217"/>
                  </a:lnTo>
                  <a:lnTo>
                    <a:pt x="251" y="215"/>
                  </a:lnTo>
                  <a:lnTo>
                    <a:pt x="257" y="217"/>
                  </a:lnTo>
                  <a:lnTo>
                    <a:pt x="257" y="221"/>
                  </a:lnTo>
                  <a:lnTo>
                    <a:pt x="257" y="227"/>
                  </a:lnTo>
                  <a:lnTo>
                    <a:pt x="253" y="231"/>
                  </a:lnTo>
                  <a:lnTo>
                    <a:pt x="253" y="235"/>
                  </a:lnTo>
                  <a:lnTo>
                    <a:pt x="249" y="241"/>
                  </a:lnTo>
                  <a:lnTo>
                    <a:pt x="241" y="241"/>
                  </a:lnTo>
                  <a:lnTo>
                    <a:pt x="239" y="243"/>
                  </a:lnTo>
                  <a:lnTo>
                    <a:pt x="233" y="245"/>
                  </a:lnTo>
                  <a:lnTo>
                    <a:pt x="229" y="251"/>
                  </a:lnTo>
                  <a:lnTo>
                    <a:pt x="223" y="255"/>
                  </a:lnTo>
                  <a:lnTo>
                    <a:pt x="217" y="255"/>
                  </a:lnTo>
                  <a:lnTo>
                    <a:pt x="213" y="261"/>
                  </a:lnTo>
                  <a:lnTo>
                    <a:pt x="213" y="267"/>
                  </a:lnTo>
                  <a:lnTo>
                    <a:pt x="211" y="273"/>
                  </a:lnTo>
                  <a:lnTo>
                    <a:pt x="207" y="277"/>
                  </a:lnTo>
                  <a:lnTo>
                    <a:pt x="205" y="275"/>
                  </a:lnTo>
                  <a:lnTo>
                    <a:pt x="203" y="277"/>
                  </a:lnTo>
                  <a:lnTo>
                    <a:pt x="201" y="281"/>
                  </a:lnTo>
                  <a:lnTo>
                    <a:pt x="201" y="285"/>
                  </a:lnTo>
                  <a:lnTo>
                    <a:pt x="199" y="287"/>
                  </a:lnTo>
                  <a:lnTo>
                    <a:pt x="199" y="291"/>
                  </a:lnTo>
                  <a:lnTo>
                    <a:pt x="199" y="297"/>
                  </a:lnTo>
                  <a:lnTo>
                    <a:pt x="201" y="305"/>
                  </a:lnTo>
                  <a:lnTo>
                    <a:pt x="201" y="313"/>
                  </a:lnTo>
                  <a:lnTo>
                    <a:pt x="199" y="321"/>
                  </a:lnTo>
                  <a:lnTo>
                    <a:pt x="195" y="327"/>
                  </a:lnTo>
                  <a:lnTo>
                    <a:pt x="193" y="331"/>
                  </a:lnTo>
                  <a:lnTo>
                    <a:pt x="191" y="337"/>
                  </a:lnTo>
                  <a:lnTo>
                    <a:pt x="185" y="339"/>
                  </a:lnTo>
                  <a:lnTo>
                    <a:pt x="175" y="343"/>
                  </a:lnTo>
                  <a:lnTo>
                    <a:pt x="161" y="347"/>
                  </a:lnTo>
                  <a:lnTo>
                    <a:pt x="155" y="349"/>
                  </a:lnTo>
                  <a:lnTo>
                    <a:pt x="150" y="353"/>
                  </a:lnTo>
                  <a:lnTo>
                    <a:pt x="148" y="341"/>
                  </a:lnTo>
                  <a:lnTo>
                    <a:pt x="138" y="341"/>
                  </a:lnTo>
                  <a:lnTo>
                    <a:pt x="132" y="345"/>
                  </a:lnTo>
                  <a:lnTo>
                    <a:pt x="128" y="347"/>
                  </a:lnTo>
                  <a:lnTo>
                    <a:pt x="120" y="349"/>
                  </a:lnTo>
                  <a:lnTo>
                    <a:pt x="118" y="349"/>
                  </a:lnTo>
                  <a:lnTo>
                    <a:pt x="112" y="349"/>
                  </a:lnTo>
                  <a:lnTo>
                    <a:pt x="110" y="345"/>
                  </a:lnTo>
                  <a:lnTo>
                    <a:pt x="106" y="347"/>
                  </a:lnTo>
                  <a:lnTo>
                    <a:pt x="102" y="347"/>
                  </a:lnTo>
                  <a:lnTo>
                    <a:pt x="98" y="341"/>
                  </a:lnTo>
                  <a:lnTo>
                    <a:pt x="92" y="343"/>
                  </a:lnTo>
                  <a:lnTo>
                    <a:pt x="78" y="339"/>
                  </a:lnTo>
                  <a:lnTo>
                    <a:pt x="68" y="331"/>
                  </a:lnTo>
                  <a:lnTo>
                    <a:pt x="64" y="325"/>
                  </a:lnTo>
                  <a:lnTo>
                    <a:pt x="60" y="317"/>
                  </a:lnTo>
                  <a:lnTo>
                    <a:pt x="42" y="243"/>
                  </a:lnTo>
                  <a:lnTo>
                    <a:pt x="42" y="239"/>
                  </a:lnTo>
                  <a:lnTo>
                    <a:pt x="42" y="235"/>
                  </a:lnTo>
                  <a:lnTo>
                    <a:pt x="46" y="237"/>
                  </a:lnTo>
                  <a:lnTo>
                    <a:pt x="50" y="241"/>
                  </a:lnTo>
                  <a:lnTo>
                    <a:pt x="52" y="237"/>
                  </a:lnTo>
                  <a:lnTo>
                    <a:pt x="48" y="233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44" y="211"/>
                  </a:lnTo>
                  <a:lnTo>
                    <a:pt x="38" y="201"/>
                  </a:lnTo>
                  <a:lnTo>
                    <a:pt x="36" y="189"/>
                  </a:lnTo>
                  <a:lnTo>
                    <a:pt x="34" y="185"/>
                  </a:lnTo>
                  <a:lnTo>
                    <a:pt x="28" y="181"/>
                  </a:lnTo>
                  <a:lnTo>
                    <a:pt x="24" y="175"/>
                  </a:lnTo>
                  <a:lnTo>
                    <a:pt x="24" y="169"/>
                  </a:lnTo>
                  <a:lnTo>
                    <a:pt x="28" y="169"/>
                  </a:lnTo>
                  <a:lnTo>
                    <a:pt x="34" y="167"/>
                  </a:lnTo>
                  <a:lnTo>
                    <a:pt x="40" y="157"/>
                  </a:lnTo>
                  <a:lnTo>
                    <a:pt x="48" y="143"/>
                  </a:lnTo>
                  <a:lnTo>
                    <a:pt x="50" y="126"/>
                  </a:lnTo>
                  <a:lnTo>
                    <a:pt x="46" y="114"/>
                  </a:lnTo>
                  <a:lnTo>
                    <a:pt x="38" y="104"/>
                  </a:lnTo>
                  <a:lnTo>
                    <a:pt x="28" y="98"/>
                  </a:lnTo>
                  <a:lnTo>
                    <a:pt x="22" y="96"/>
                  </a:lnTo>
                  <a:lnTo>
                    <a:pt x="16" y="92"/>
                  </a:lnTo>
                  <a:lnTo>
                    <a:pt x="14" y="86"/>
                  </a:lnTo>
                  <a:lnTo>
                    <a:pt x="16" y="80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2" y="54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10" y="34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4" y="10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60" y="10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0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2" y="24"/>
                  </a:lnTo>
                  <a:lnTo>
                    <a:pt x="94" y="30"/>
                  </a:lnTo>
                  <a:lnTo>
                    <a:pt x="96" y="36"/>
                  </a:lnTo>
                  <a:lnTo>
                    <a:pt x="100" y="38"/>
                  </a:lnTo>
                  <a:lnTo>
                    <a:pt x="100" y="44"/>
                  </a:lnTo>
                  <a:lnTo>
                    <a:pt x="104" y="46"/>
                  </a:lnTo>
                  <a:lnTo>
                    <a:pt x="108" y="50"/>
                  </a:lnTo>
                  <a:lnTo>
                    <a:pt x="104" y="54"/>
                  </a:lnTo>
                  <a:lnTo>
                    <a:pt x="104" y="58"/>
                  </a:lnTo>
                  <a:lnTo>
                    <a:pt x="108" y="58"/>
                  </a:lnTo>
                  <a:lnTo>
                    <a:pt x="110" y="54"/>
                  </a:lnTo>
                  <a:lnTo>
                    <a:pt x="118" y="52"/>
                  </a:lnTo>
                  <a:lnTo>
                    <a:pt x="126" y="56"/>
                  </a:lnTo>
                  <a:lnTo>
                    <a:pt x="132" y="58"/>
                  </a:lnTo>
                  <a:lnTo>
                    <a:pt x="138" y="48"/>
                  </a:lnTo>
                  <a:lnTo>
                    <a:pt x="142" y="40"/>
                  </a:lnTo>
                  <a:lnTo>
                    <a:pt x="140" y="28"/>
                  </a:lnTo>
                  <a:lnTo>
                    <a:pt x="140" y="18"/>
                  </a:lnTo>
                  <a:lnTo>
                    <a:pt x="140" y="8"/>
                  </a:lnTo>
                  <a:lnTo>
                    <a:pt x="142" y="12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1" y="26"/>
                  </a:lnTo>
                  <a:lnTo>
                    <a:pt x="153" y="32"/>
                  </a:lnTo>
                  <a:lnTo>
                    <a:pt x="159" y="32"/>
                  </a:lnTo>
                  <a:lnTo>
                    <a:pt x="161" y="32"/>
                  </a:lnTo>
                  <a:lnTo>
                    <a:pt x="163" y="38"/>
                  </a:lnTo>
                  <a:lnTo>
                    <a:pt x="161" y="40"/>
                  </a:lnTo>
                  <a:lnTo>
                    <a:pt x="163" y="48"/>
                  </a:lnTo>
                  <a:lnTo>
                    <a:pt x="169" y="52"/>
                  </a:lnTo>
                  <a:lnTo>
                    <a:pt x="175" y="50"/>
                  </a:lnTo>
                  <a:lnTo>
                    <a:pt x="177" y="56"/>
                  </a:lnTo>
                  <a:lnTo>
                    <a:pt x="179" y="62"/>
                  </a:lnTo>
                  <a:lnTo>
                    <a:pt x="179" y="70"/>
                  </a:lnTo>
                  <a:lnTo>
                    <a:pt x="183" y="74"/>
                  </a:lnTo>
                  <a:lnTo>
                    <a:pt x="185" y="80"/>
                  </a:lnTo>
                  <a:lnTo>
                    <a:pt x="191" y="80"/>
                  </a:lnTo>
                  <a:lnTo>
                    <a:pt x="193" y="82"/>
                  </a:lnTo>
                  <a:lnTo>
                    <a:pt x="201" y="98"/>
                  </a:lnTo>
                  <a:lnTo>
                    <a:pt x="199" y="102"/>
                  </a:lnTo>
                  <a:lnTo>
                    <a:pt x="203" y="108"/>
                  </a:lnTo>
                  <a:lnTo>
                    <a:pt x="197" y="108"/>
                  </a:lnTo>
                  <a:lnTo>
                    <a:pt x="193" y="108"/>
                  </a:lnTo>
                  <a:lnTo>
                    <a:pt x="189" y="108"/>
                  </a:lnTo>
                  <a:lnTo>
                    <a:pt x="185" y="108"/>
                  </a:lnTo>
                  <a:lnTo>
                    <a:pt x="183" y="114"/>
                  </a:lnTo>
                  <a:lnTo>
                    <a:pt x="181" y="114"/>
                  </a:lnTo>
                  <a:lnTo>
                    <a:pt x="179" y="112"/>
                  </a:lnTo>
                  <a:lnTo>
                    <a:pt x="175" y="114"/>
                  </a:lnTo>
                  <a:lnTo>
                    <a:pt x="167" y="110"/>
                  </a:lnTo>
                  <a:lnTo>
                    <a:pt x="167" y="116"/>
                  </a:lnTo>
                  <a:lnTo>
                    <a:pt x="171" y="118"/>
                  </a:lnTo>
                  <a:lnTo>
                    <a:pt x="165" y="120"/>
                  </a:lnTo>
                  <a:lnTo>
                    <a:pt x="165" y="124"/>
                  </a:lnTo>
                  <a:lnTo>
                    <a:pt x="161" y="128"/>
                  </a:lnTo>
                  <a:lnTo>
                    <a:pt x="165" y="134"/>
                  </a:lnTo>
                  <a:lnTo>
                    <a:pt x="165" y="138"/>
                  </a:lnTo>
                  <a:lnTo>
                    <a:pt x="169" y="141"/>
                  </a:lnTo>
                  <a:lnTo>
                    <a:pt x="173" y="143"/>
                  </a:lnTo>
                  <a:lnTo>
                    <a:pt x="177" y="145"/>
                  </a:lnTo>
                  <a:lnTo>
                    <a:pt x="181" y="145"/>
                  </a:lnTo>
                  <a:lnTo>
                    <a:pt x="179" y="151"/>
                  </a:lnTo>
                  <a:lnTo>
                    <a:pt x="179" y="157"/>
                  </a:lnTo>
                  <a:lnTo>
                    <a:pt x="183" y="159"/>
                  </a:lnTo>
                  <a:lnTo>
                    <a:pt x="185" y="159"/>
                  </a:lnTo>
                  <a:lnTo>
                    <a:pt x="187" y="155"/>
                  </a:lnTo>
                  <a:lnTo>
                    <a:pt x="189" y="153"/>
                  </a:lnTo>
                  <a:lnTo>
                    <a:pt x="193" y="157"/>
                  </a:lnTo>
                  <a:lnTo>
                    <a:pt x="193" y="163"/>
                  </a:lnTo>
                  <a:lnTo>
                    <a:pt x="195" y="167"/>
                  </a:lnTo>
                  <a:lnTo>
                    <a:pt x="203" y="167"/>
                  </a:lnTo>
                  <a:lnTo>
                    <a:pt x="205" y="163"/>
                  </a:lnTo>
                  <a:lnTo>
                    <a:pt x="209" y="163"/>
                  </a:lnTo>
                  <a:lnTo>
                    <a:pt x="211" y="165"/>
                  </a:lnTo>
                  <a:lnTo>
                    <a:pt x="211" y="167"/>
                  </a:lnTo>
                  <a:lnTo>
                    <a:pt x="217" y="167"/>
                  </a:lnTo>
                  <a:lnTo>
                    <a:pt x="225" y="169"/>
                  </a:lnTo>
                  <a:lnTo>
                    <a:pt x="227" y="165"/>
                  </a:lnTo>
                  <a:lnTo>
                    <a:pt x="223" y="161"/>
                  </a:lnTo>
                  <a:lnTo>
                    <a:pt x="221" y="157"/>
                  </a:lnTo>
                  <a:lnTo>
                    <a:pt x="219" y="155"/>
                  </a:lnTo>
                  <a:lnTo>
                    <a:pt x="221" y="149"/>
                  </a:lnTo>
                  <a:lnTo>
                    <a:pt x="227" y="151"/>
                  </a:lnTo>
                  <a:lnTo>
                    <a:pt x="229" y="153"/>
                  </a:lnTo>
                  <a:lnTo>
                    <a:pt x="303" y="112"/>
                  </a:lnTo>
                  <a:lnTo>
                    <a:pt x="309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45"/>
            <p:cNvSpPr/>
            <p:nvPr/>
          </p:nvSpPr>
          <p:spPr>
            <a:xfrm>
              <a:off x="7332840" y="5271840"/>
              <a:ext cx="490320" cy="560160"/>
            </a:xfrm>
            <a:custGeom>
              <a:avLst/>
              <a:gdLst/>
              <a:ahLst/>
              <a:rect l="l" t="t" r="r" b="b"/>
              <a:pathLst>
                <a:path w="309" h="353">
                  <a:moveTo>
                    <a:pt x="309" y="120"/>
                  </a:moveTo>
                  <a:lnTo>
                    <a:pt x="305" y="122"/>
                  </a:lnTo>
                  <a:lnTo>
                    <a:pt x="303" y="128"/>
                  </a:lnTo>
                  <a:lnTo>
                    <a:pt x="297" y="134"/>
                  </a:lnTo>
                  <a:lnTo>
                    <a:pt x="297" y="139"/>
                  </a:lnTo>
                  <a:lnTo>
                    <a:pt x="295" y="149"/>
                  </a:lnTo>
                  <a:lnTo>
                    <a:pt x="293" y="157"/>
                  </a:lnTo>
                  <a:lnTo>
                    <a:pt x="287" y="163"/>
                  </a:lnTo>
                  <a:lnTo>
                    <a:pt x="281" y="171"/>
                  </a:lnTo>
                  <a:lnTo>
                    <a:pt x="219" y="201"/>
                  </a:lnTo>
                  <a:lnTo>
                    <a:pt x="215" y="203"/>
                  </a:lnTo>
                  <a:lnTo>
                    <a:pt x="213" y="209"/>
                  </a:lnTo>
                  <a:lnTo>
                    <a:pt x="211" y="219"/>
                  </a:lnTo>
                  <a:lnTo>
                    <a:pt x="211" y="227"/>
                  </a:lnTo>
                  <a:lnTo>
                    <a:pt x="205" y="229"/>
                  </a:lnTo>
                  <a:lnTo>
                    <a:pt x="199" y="241"/>
                  </a:lnTo>
                  <a:lnTo>
                    <a:pt x="195" y="251"/>
                  </a:lnTo>
                  <a:lnTo>
                    <a:pt x="193" y="257"/>
                  </a:lnTo>
                  <a:lnTo>
                    <a:pt x="193" y="265"/>
                  </a:lnTo>
                  <a:lnTo>
                    <a:pt x="191" y="277"/>
                  </a:lnTo>
                  <a:lnTo>
                    <a:pt x="185" y="287"/>
                  </a:lnTo>
                  <a:lnTo>
                    <a:pt x="183" y="293"/>
                  </a:lnTo>
                  <a:lnTo>
                    <a:pt x="179" y="297"/>
                  </a:lnTo>
                  <a:lnTo>
                    <a:pt x="175" y="301"/>
                  </a:lnTo>
                  <a:lnTo>
                    <a:pt x="171" y="307"/>
                  </a:lnTo>
                  <a:lnTo>
                    <a:pt x="169" y="309"/>
                  </a:lnTo>
                  <a:lnTo>
                    <a:pt x="165" y="315"/>
                  </a:lnTo>
                  <a:lnTo>
                    <a:pt x="161" y="321"/>
                  </a:lnTo>
                  <a:lnTo>
                    <a:pt x="159" y="329"/>
                  </a:lnTo>
                  <a:lnTo>
                    <a:pt x="155" y="335"/>
                  </a:lnTo>
                  <a:lnTo>
                    <a:pt x="157" y="337"/>
                  </a:lnTo>
                  <a:lnTo>
                    <a:pt x="157" y="339"/>
                  </a:lnTo>
                  <a:lnTo>
                    <a:pt x="159" y="337"/>
                  </a:lnTo>
                  <a:lnTo>
                    <a:pt x="161" y="327"/>
                  </a:lnTo>
                  <a:lnTo>
                    <a:pt x="183" y="295"/>
                  </a:lnTo>
                  <a:lnTo>
                    <a:pt x="189" y="289"/>
                  </a:lnTo>
                  <a:lnTo>
                    <a:pt x="193" y="281"/>
                  </a:lnTo>
                  <a:lnTo>
                    <a:pt x="195" y="267"/>
                  </a:lnTo>
                  <a:lnTo>
                    <a:pt x="201" y="255"/>
                  </a:lnTo>
                  <a:lnTo>
                    <a:pt x="211" y="241"/>
                  </a:lnTo>
                  <a:lnTo>
                    <a:pt x="219" y="231"/>
                  </a:lnTo>
                  <a:lnTo>
                    <a:pt x="227" y="223"/>
                  </a:lnTo>
                  <a:lnTo>
                    <a:pt x="235" y="217"/>
                  </a:lnTo>
                  <a:lnTo>
                    <a:pt x="251" y="215"/>
                  </a:lnTo>
                  <a:lnTo>
                    <a:pt x="257" y="217"/>
                  </a:lnTo>
                  <a:lnTo>
                    <a:pt x="257" y="221"/>
                  </a:lnTo>
                  <a:lnTo>
                    <a:pt x="257" y="227"/>
                  </a:lnTo>
                  <a:lnTo>
                    <a:pt x="253" y="231"/>
                  </a:lnTo>
                  <a:lnTo>
                    <a:pt x="253" y="235"/>
                  </a:lnTo>
                  <a:lnTo>
                    <a:pt x="249" y="241"/>
                  </a:lnTo>
                  <a:lnTo>
                    <a:pt x="241" y="241"/>
                  </a:lnTo>
                  <a:lnTo>
                    <a:pt x="239" y="243"/>
                  </a:lnTo>
                  <a:lnTo>
                    <a:pt x="233" y="245"/>
                  </a:lnTo>
                  <a:lnTo>
                    <a:pt x="229" y="251"/>
                  </a:lnTo>
                  <a:lnTo>
                    <a:pt x="223" y="255"/>
                  </a:lnTo>
                  <a:lnTo>
                    <a:pt x="217" y="255"/>
                  </a:lnTo>
                  <a:lnTo>
                    <a:pt x="213" y="261"/>
                  </a:lnTo>
                  <a:lnTo>
                    <a:pt x="213" y="267"/>
                  </a:lnTo>
                  <a:lnTo>
                    <a:pt x="211" y="273"/>
                  </a:lnTo>
                  <a:lnTo>
                    <a:pt x="207" y="277"/>
                  </a:lnTo>
                  <a:lnTo>
                    <a:pt x="205" y="275"/>
                  </a:lnTo>
                  <a:lnTo>
                    <a:pt x="203" y="277"/>
                  </a:lnTo>
                  <a:lnTo>
                    <a:pt x="201" y="281"/>
                  </a:lnTo>
                  <a:lnTo>
                    <a:pt x="201" y="285"/>
                  </a:lnTo>
                  <a:lnTo>
                    <a:pt x="199" y="287"/>
                  </a:lnTo>
                  <a:lnTo>
                    <a:pt x="199" y="291"/>
                  </a:lnTo>
                  <a:lnTo>
                    <a:pt x="199" y="297"/>
                  </a:lnTo>
                  <a:lnTo>
                    <a:pt x="201" y="305"/>
                  </a:lnTo>
                  <a:lnTo>
                    <a:pt x="201" y="313"/>
                  </a:lnTo>
                  <a:lnTo>
                    <a:pt x="199" y="321"/>
                  </a:lnTo>
                  <a:lnTo>
                    <a:pt x="195" y="327"/>
                  </a:lnTo>
                  <a:lnTo>
                    <a:pt x="193" y="331"/>
                  </a:lnTo>
                  <a:lnTo>
                    <a:pt x="191" y="337"/>
                  </a:lnTo>
                  <a:lnTo>
                    <a:pt x="185" y="339"/>
                  </a:lnTo>
                  <a:lnTo>
                    <a:pt x="175" y="343"/>
                  </a:lnTo>
                  <a:lnTo>
                    <a:pt x="161" y="347"/>
                  </a:lnTo>
                  <a:lnTo>
                    <a:pt x="155" y="349"/>
                  </a:lnTo>
                  <a:lnTo>
                    <a:pt x="150" y="353"/>
                  </a:lnTo>
                  <a:lnTo>
                    <a:pt x="148" y="341"/>
                  </a:lnTo>
                  <a:lnTo>
                    <a:pt x="138" y="341"/>
                  </a:lnTo>
                  <a:lnTo>
                    <a:pt x="132" y="345"/>
                  </a:lnTo>
                  <a:lnTo>
                    <a:pt x="128" y="347"/>
                  </a:lnTo>
                  <a:lnTo>
                    <a:pt x="120" y="349"/>
                  </a:lnTo>
                  <a:lnTo>
                    <a:pt x="118" y="349"/>
                  </a:lnTo>
                  <a:lnTo>
                    <a:pt x="112" y="349"/>
                  </a:lnTo>
                  <a:lnTo>
                    <a:pt x="110" y="345"/>
                  </a:lnTo>
                  <a:lnTo>
                    <a:pt x="106" y="347"/>
                  </a:lnTo>
                  <a:lnTo>
                    <a:pt x="102" y="347"/>
                  </a:lnTo>
                  <a:lnTo>
                    <a:pt x="98" y="341"/>
                  </a:lnTo>
                  <a:lnTo>
                    <a:pt x="92" y="343"/>
                  </a:lnTo>
                  <a:lnTo>
                    <a:pt x="78" y="339"/>
                  </a:lnTo>
                  <a:lnTo>
                    <a:pt x="68" y="331"/>
                  </a:lnTo>
                  <a:lnTo>
                    <a:pt x="64" y="325"/>
                  </a:lnTo>
                  <a:lnTo>
                    <a:pt x="60" y="317"/>
                  </a:lnTo>
                  <a:lnTo>
                    <a:pt x="42" y="243"/>
                  </a:lnTo>
                  <a:lnTo>
                    <a:pt x="42" y="239"/>
                  </a:lnTo>
                  <a:lnTo>
                    <a:pt x="42" y="235"/>
                  </a:lnTo>
                  <a:lnTo>
                    <a:pt x="46" y="237"/>
                  </a:lnTo>
                  <a:lnTo>
                    <a:pt x="50" y="241"/>
                  </a:lnTo>
                  <a:lnTo>
                    <a:pt x="52" y="237"/>
                  </a:lnTo>
                  <a:lnTo>
                    <a:pt x="48" y="233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44" y="211"/>
                  </a:lnTo>
                  <a:lnTo>
                    <a:pt x="38" y="201"/>
                  </a:lnTo>
                  <a:lnTo>
                    <a:pt x="36" y="189"/>
                  </a:lnTo>
                  <a:lnTo>
                    <a:pt x="34" y="185"/>
                  </a:lnTo>
                  <a:lnTo>
                    <a:pt x="28" y="181"/>
                  </a:lnTo>
                  <a:lnTo>
                    <a:pt x="24" y="175"/>
                  </a:lnTo>
                  <a:lnTo>
                    <a:pt x="24" y="169"/>
                  </a:lnTo>
                  <a:lnTo>
                    <a:pt x="28" y="169"/>
                  </a:lnTo>
                  <a:lnTo>
                    <a:pt x="34" y="167"/>
                  </a:lnTo>
                  <a:lnTo>
                    <a:pt x="40" y="157"/>
                  </a:lnTo>
                  <a:lnTo>
                    <a:pt x="48" y="143"/>
                  </a:lnTo>
                  <a:lnTo>
                    <a:pt x="50" y="126"/>
                  </a:lnTo>
                  <a:lnTo>
                    <a:pt x="46" y="114"/>
                  </a:lnTo>
                  <a:lnTo>
                    <a:pt x="38" y="104"/>
                  </a:lnTo>
                  <a:lnTo>
                    <a:pt x="28" y="98"/>
                  </a:lnTo>
                  <a:lnTo>
                    <a:pt x="22" y="96"/>
                  </a:lnTo>
                  <a:lnTo>
                    <a:pt x="16" y="92"/>
                  </a:lnTo>
                  <a:lnTo>
                    <a:pt x="14" y="86"/>
                  </a:lnTo>
                  <a:lnTo>
                    <a:pt x="16" y="80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2" y="54"/>
                  </a:lnTo>
                  <a:lnTo>
                    <a:pt x="16" y="52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10" y="34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4" y="10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60" y="10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80" y="20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2" y="24"/>
                  </a:lnTo>
                  <a:lnTo>
                    <a:pt x="94" y="30"/>
                  </a:lnTo>
                  <a:lnTo>
                    <a:pt x="96" y="36"/>
                  </a:lnTo>
                  <a:lnTo>
                    <a:pt x="100" y="38"/>
                  </a:lnTo>
                  <a:lnTo>
                    <a:pt x="100" y="44"/>
                  </a:lnTo>
                  <a:lnTo>
                    <a:pt x="104" y="46"/>
                  </a:lnTo>
                  <a:lnTo>
                    <a:pt x="108" y="50"/>
                  </a:lnTo>
                  <a:lnTo>
                    <a:pt x="104" y="54"/>
                  </a:lnTo>
                  <a:lnTo>
                    <a:pt x="104" y="58"/>
                  </a:lnTo>
                  <a:lnTo>
                    <a:pt x="108" y="58"/>
                  </a:lnTo>
                  <a:lnTo>
                    <a:pt x="110" y="54"/>
                  </a:lnTo>
                  <a:lnTo>
                    <a:pt x="118" y="52"/>
                  </a:lnTo>
                  <a:lnTo>
                    <a:pt x="126" y="56"/>
                  </a:lnTo>
                  <a:lnTo>
                    <a:pt x="132" y="58"/>
                  </a:lnTo>
                  <a:lnTo>
                    <a:pt x="138" y="48"/>
                  </a:lnTo>
                  <a:lnTo>
                    <a:pt x="142" y="40"/>
                  </a:lnTo>
                  <a:lnTo>
                    <a:pt x="140" y="28"/>
                  </a:lnTo>
                  <a:lnTo>
                    <a:pt x="140" y="18"/>
                  </a:lnTo>
                  <a:lnTo>
                    <a:pt x="140" y="8"/>
                  </a:lnTo>
                  <a:lnTo>
                    <a:pt x="142" y="12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1" y="26"/>
                  </a:lnTo>
                  <a:lnTo>
                    <a:pt x="153" y="32"/>
                  </a:lnTo>
                  <a:lnTo>
                    <a:pt x="159" y="32"/>
                  </a:lnTo>
                  <a:lnTo>
                    <a:pt x="161" y="32"/>
                  </a:lnTo>
                  <a:lnTo>
                    <a:pt x="163" y="38"/>
                  </a:lnTo>
                  <a:lnTo>
                    <a:pt x="161" y="40"/>
                  </a:lnTo>
                  <a:lnTo>
                    <a:pt x="163" y="48"/>
                  </a:lnTo>
                  <a:lnTo>
                    <a:pt x="169" y="52"/>
                  </a:lnTo>
                  <a:lnTo>
                    <a:pt x="175" y="50"/>
                  </a:lnTo>
                  <a:lnTo>
                    <a:pt x="177" y="56"/>
                  </a:lnTo>
                  <a:lnTo>
                    <a:pt x="179" y="62"/>
                  </a:lnTo>
                  <a:lnTo>
                    <a:pt x="179" y="70"/>
                  </a:lnTo>
                  <a:lnTo>
                    <a:pt x="183" y="74"/>
                  </a:lnTo>
                  <a:lnTo>
                    <a:pt x="185" y="80"/>
                  </a:lnTo>
                  <a:lnTo>
                    <a:pt x="191" y="80"/>
                  </a:lnTo>
                  <a:lnTo>
                    <a:pt x="193" y="82"/>
                  </a:lnTo>
                  <a:lnTo>
                    <a:pt x="201" y="98"/>
                  </a:lnTo>
                  <a:lnTo>
                    <a:pt x="199" y="102"/>
                  </a:lnTo>
                  <a:lnTo>
                    <a:pt x="203" y="108"/>
                  </a:lnTo>
                  <a:lnTo>
                    <a:pt x="197" y="108"/>
                  </a:lnTo>
                  <a:lnTo>
                    <a:pt x="193" y="108"/>
                  </a:lnTo>
                  <a:lnTo>
                    <a:pt x="189" y="108"/>
                  </a:lnTo>
                  <a:lnTo>
                    <a:pt x="185" y="108"/>
                  </a:lnTo>
                  <a:lnTo>
                    <a:pt x="183" y="114"/>
                  </a:lnTo>
                  <a:lnTo>
                    <a:pt x="181" y="114"/>
                  </a:lnTo>
                  <a:lnTo>
                    <a:pt x="179" y="112"/>
                  </a:lnTo>
                  <a:lnTo>
                    <a:pt x="175" y="114"/>
                  </a:lnTo>
                  <a:lnTo>
                    <a:pt x="167" y="110"/>
                  </a:lnTo>
                  <a:lnTo>
                    <a:pt x="167" y="116"/>
                  </a:lnTo>
                  <a:lnTo>
                    <a:pt x="171" y="118"/>
                  </a:lnTo>
                  <a:lnTo>
                    <a:pt x="165" y="120"/>
                  </a:lnTo>
                  <a:lnTo>
                    <a:pt x="165" y="124"/>
                  </a:lnTo>
                  <a:lnTo>
                    <a:pt x="161" y="128"/>
                  </a:lnTo>
                  <a:lnTo>
                    <a:pt x="165" y="134"/>
                  </a:lnTo>
                  <a:lnTo>
                    <a:pt x="165" y="138"/>
                  </a:lnTo>
                  <a:lnTo>
                    <a:pt x="169" y="141"/>
                  </a:lnTo>
                  <a:lnTo>
                    <a:pt x="173" y="143"/>
                  </a:lnTo>
                  <a:lnTo>
                    <a:pt x="177" y="145"/>
                  </a:lnTo>
                  <a:lnTo>
                    <a:pt x="181" y="145"/>
                  </a:lnTo>
                  <a:lnTo>
                    <a:pt x="179" y="151"/>
                  </a:lnTo>
                  <a:lnTo>
                    <a:pt x="179" y="157"/>
                  </a:lnTo>
                  <a:lnTo>
                    <a:pt x="183" y="159"/>
                  </a:lnTo>
                  <a:lnTo>
                    <a:pt x="185" y="159"/>
                  </a:lnTo>
                  <a:lnTo>
                    <a:pt x="187" y="155"/>
                  </a:lnTo>
                  <a:lnTo>
                    <a:pt x="189" y="153"/>
                  </a:lnTo>
                  <a:lnTo>
                    <a:pt x="193" y="157"/>
                  </a:lnTo>
                  <a:lnTo>
                    <a:pt x="193" y="163"/>
                  </a:lnTo>
                  <a:lnTo>
                    <a:pt x="195" y="167"/>
                  </a:lnTo>
                  <a:lnTo>
                    <a:pt x="203" y="167"/>
                  </a:lnTo>
                  <a:lnTo>
                    <a:pt x="205" y="163"/>
                  </a:lnTo>
                  <a:lnTo>
                    <a:pt x="209" y="163"/>
                  </a:lnTo>
                  <a:lnTo>
                    <a:pt x="211" y="165"/>
                  </a:lnTo>
                  <a:lnTo>
                    <a:pt x="211" y="167"/>
                  </a:lnTo>
                  <a:lnTo>
                    <a:pt x="217" y="167"/>
                  </a:lnTo>
                  <a:lnTo>
                    <a:pt x="225" y="169"/>
                  </a:lnTo>
                  <a:lnTo>
                    <a:pt x="227" y="165"/>
                  </a:lnTo>
                  <a:lnTo>
                    <a:pt x="223" y="161"/>
                  </a:lnTo>
                  <a:lnTo>
                    <a:pt x="221" y="157"/>
                  </a:lnTo>
                  <a:lnTo>
                    <a:pt x="219" y="155"/>
                  </a:lnTo>
                  <a:lnTo>
                    <a:pt x="221" y="149"/>
                  </a:lnTo>
                  <a:lnTo>
                    <a:pt x="227" y="151"/>
                  </a:lnTo>
                  <a:lnTo>
                    <a:pt x="229" y="153"/>
                  </a:lnTo>
                  <a:lnTo>
                    <a:pt x="303" y="11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46"/>
            <p:cNvSpPr/>
            <p:nvPr/>
          </p:nvSpPr>
          <p:spPr>
            <a:xfrm>
              <a:off x="6578640" y="4952880"/>
              <a:ext cx="395280" cy="451800"/>
            </a:xfrm>
            <a:custGeom>
              <a:avLst/>
              <a:gdLst/>
              <a:ahLst/>
              <a:rect l="l" t="t" r="r" b="b"/>
              <a:pathLst>
                <a:path w="249" h="285">
                  <a:moveTo>
                    <a:pt x="26" y="6"/>
                  </a:moveTo>
                  <a:lnTo>
                    <a:pt x="28" y="8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62" y="10"/>
                  </a:lnTo>
                  <a:lnTo>
                    <a:pt x="68" y="8"/>
                  </a:lnTo>
                  <a:lnTo>
                    <a:pt x="74" y="8"/>
                  </a:lnTo>
                  <a:lnTo>
                    <a:pt x="82" y="12"/>
                  </a:lnTo>
                  <a:lnTo>
                    <a:pt x="80" y="16"/>
                  </a:lnTo>
                  <a:lnTo>
                    <a:pt x="70" y="16"/>
                  </a:lnTo>
                  <a:lnTo>
                    <a:pt x="60" y="16"/>
                  </a:lnTo>
                  <a:lnTo>
                    <a:pt x="52" y="14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52" y="18"/>
                  </a:lnTo>
                  <a:lnTo>
                    <a:pt x="62" y="18"/>
                  </a:lnTo>
                  <a:lnTo>
                    <a:pt x="74" y="20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6" y="20"/>
                  </a:lnTo>
                  <a:lnTo>
                    <a:pt x="89" y="16"/>
                  </a:lnTo>
                  <a:lnTo>
                    <a:pt x="91" y="16"/>
                  </a:lnTo>
                  <a:lnTo>
                    <a:pt x="91" y="10"/>
                  </a:lnTo>
                  <a:lnTo>
                    <a:pt x="95" y="12"/>
                  </a:lnTo>
                  <a:lnTo>
                    <a:pt x="95" y="35"/>
                  </a:lnTo>
                  <a:lnTo>
                    <a:pt x="99" y="37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07" y="37"/>
                  </a:lnTo>
                  <a:lnTo>
                    <a:pt x="105" y="43"/>
                  </a:lnTo>
                  <a:lnTo>
                    <a:pt x="109" y="45"/>
                  </a:lnTo>
                  <a:lnTo>
                    <a:pt x="115" y="45"/>
                  </a:lnTo>
                  <a:lnTo>
                    <a:pt x="117" y="39"/>
                  </a:lnTo>
                  <a:lnTo>
                    <a:pt x="127" y="45"/>
                  </a:lnTo>
                  <a:lnTo>
                    <a:pt x="129" y="49"/>
                  </a:lnTo>
                  <a:lnTo>
                    <a:pt x="129" y="53"/>
                  </a:lnTo>
                  <a:lnTo>
                    <a:pt x="119" y="81"/>
                  </a:lnTo>
                  <a:lnTo>
                    <a:pt x="165" y="153"/>
                  </a:lnTo>
                  <a:lnTo>
                    <a:pt x="179" y="155"/>
                  </a:lnTo>
                  <a:lnTo>
                    <a:pt x="189" y="173"/>
                  </a:lnTo>
                  <a:lnTo>
                    <a:pt x="249" y="195"/>
                  </a:lnTo>
                  <a:lnTo>
                    <a:pt x="241" y="285"/>
                  </a:lnTo>
                  <a:lnTo>
                    <a:pt x="221" y="281"/>
                  </a:lnTo>
                  <a:lnTo>
                    <a:pt x="199" y="277"/>
                  </a:lnTo>
                  <a:lnTo>
                    <a:pt x="177" y="273"/>
                  </a:lnTo>
                  <a:lnTo>
                    <a:pt x="159" y="269"/>
                  </a:lnTo>
                  <a:lnTo>
                    <a:pt x="145" y="265"/>
                  </a:lnTo>
                  <a:lnTo>
                    <a:pt x="119" y="255"/>
                  </a:lnTo>
                  <a:lnTo>
                    <a:pt x="107" y="251"/>
                  </a:lnTo>
                  <a:lnTo>
                    <a:pt x="82" y="245"/>
                  </a:lnTo>
                  <a:lnTo>
                    <a:pt x="62" y="237"/>
                  </a:lnTo>
                  <a:lnTo>
                    <a:pt x="44" y="231"/>
                  </a:lnTo>
                  <a:lnTo>
                    <a:pt x="26" y="221"/>
                  </a:lnTo>
                  <a:lnTo>
                    <a:pt x="24" y="203"/>
                  </a:lnTo>
                  <a:lnTo>
                    <a:pt x="26" y="203"/>
                  </a:lnTo>
                  <a:lnTo>
                    <a:pt x="28" y="199"/>
                  </a:lnTo>
                  <a:lnTo>
                    <a:pt x="24" y="197"/>
                  </a:lnTo>
                  <a:lnTo>
                    <a:pt x="18" y="197"/>
                  </a:lnTo>
                  <a:lnTo>
                    <a:pt x="16" y="193"/>
                  </a:lnTo>
                  <a:lnTo>
                    <a:pt x="10" y="193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6" y="167"/>
                  </a:lnTo>
                  <a:lnTo>
                    <a:pt x="4" y="159"/>
                  </a:lnTo>
                  <a:lnTo>
                    <a:pt x="0" y="157"/>
                  </a:lnTo>
                  <a:lnTo>
                    <a:pt x="0" y="141"/>
                  </a:lnTo>
                  <a:lnTo>
                    <a:pt x="4" y="137"/>
                  </a:lnTo>
                  <a:lnTo>
                    <a:pt x="4" y="129"/>
                  </a:lnTo>
                  <a:lnTo>
                    <a:pt x="8" y="127"/>
                  </a:lnTo>
                  <a:lnTo>
                    <a:pt x="10" y="119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8" y="111"/>
                  </a:lnTo>
                  <a:lnTo>
                    <a:pt x="8" y="105"/>
                  </a:lnTo>
                  <a:lnTo>
                    <a:pt x="4" y="103"/>
                  </a:lnTo>
                  <a:lnTo>
                    <a:pt x="4" y="85"/>
                  </a:lnTo>
                  <a:lnTo>
                    <a:pt x="10" y="83"/>
                  </a:lnTo>
                  <a:lnTo>
                    <a:pt x="14" y="79"/>
                  </a:lnTo>
                  <a:lnTo>
                    <a:pt x="14" y="71"/>
                  </a:lnTo>
                  <a:lnTo>
                    <a:pt x="8" y="63"/>
                  </a:lnTo>
                  <a:lnTo>
                    <a:pt x="16" y="53"/>
                  </a:lnTo>
                  <a:lnTo>
                    <a:pt x="18" y="47"/>
                  </a:lnTo>
                  <a:lnTo>
                    <a:pt x="8" y="41"/>
                  </a:lnTo>
                  <a:lnTo>
                    <a:pt x="4" y="33"/>
                  </a:lnTo>
                  <a:lnTo>
                    <a:pt x="10" y="28"/>
                  </a:lnTo>
                  <a:lnTo>
                    <a:pt x="10" y="24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7"/>
            <p:cNvSpPr/>
            <p:nvPr/>
          </p:nvSpPr>
          <p:spPr>
            <a:xfrm>
              <a:off x="6773760" y="4873320"/>
              <a:ext cx="111240" cy="10440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0" y="38"/>
                  </a:moveTo>
                  <a:lnTo>
                    <a:pt x="26" y="14"/>
                  </a:lnTo>
                  <a:lnTo>
                    <a:pt x="26" y="6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4" y="18"/>
                  </a:lnTo>
                  <a:lnTo>
                    <a:pt x="68" y="24"/>
                  </a:lnTo>
                  <a:lnTo>
                    <a:pt x="70" y="28"/>
                  </a:lnTo>
                  <a:lnTo>
                    <a:pt x="68" y="34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4" y="44"/>
                  </a:lnTo>
                  <a:lnTo>
                    <a:pt x="40" y="48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0" y="56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4" y="66"/>
                  </a:lnTo>
                  <a:lnTo>
                    <a:pt x="8" y="64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8" y="56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48"/>
            <p:cNvSpPr/>
            <p:nvPr/>
          </p:nvSpPr>
          <p:spPr>
            <a:xfrm>
              <a:off x="6831000" y="4939920"/>
              <a:ext cx="98280" cy="11880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2" y="22"/>
                  </a:moveTo>
                  <a:lnTo>
                    <a:pt x="8" y="16"/>
                  </a:lnTo>
                  <a:lnTo>
                    <a:pt x="12" y="8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0" y="6"/>
                  </a:lnTo>
                  <a:lnTo>
                    <a:pt x="34" y="14"/>
                  </a:lnTo>
                  <a:lnTo>
                    <a:pt x="42" y="16"/>
                  </a:lnTo>
                  <a:lnTo>
                    <a:pt x="46" y="12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58" y="24"/>
                  </a:lnTo>
                  <a:lnTo>
                    <a:pt x="62" y="22"/>
                  </a:lnTo>
                  <a:lnTo>
                    <a:pt x="48" y="75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0" y="73"/>
                  </a:lnTo>
                  <a:lnTo>
                    <a:pt x="30" y="69"/>
                  </a:lnTo>
                  <a:lnTo>
                    <a:pt x="2" y="59"/>
                  </a:lnTo>
                  <a:lnTo>
                    <a:pt x="4" y="57"/>
                  </a:lnTo>
                  <a:lnTo>
                    <a:pt x="12" y="57"/>
                  </a:lnTo>
                  <a:lnTo>
                    <a:pt x="20" y="61"/>
                  </a:lnTo>
                  <a:lnTo>
                    <a:pt x="26" y="63"/>
                  </a:lnTo>
                  <a:lnTo>
                    <a:pt x="34" y="65"/>
                  </a:lnTo>
                  <a:lnTo>
                    <a:pt x="38" y="63"/>
                  </a:lnTo>
                  <a:lnTo>
                    <a:pt x="32" y="57"/>
                  </a:lnTo>
                  <a:lnTo>
                    <a:pt x="28" y="53"/>
                  </a:lnTo>
                  <a:lnTo>
                    <a:pt x="20" y="53"/>
                  </a:lnTo>
                  <a:lnTo>
                    <a:pt x="10" y="51"/>
                  </a:lnTo>
                  <a:lnTo>
                    <a:pt x="4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6" y="36"/>
                  </a:lnTo>
                  <a:lnTo>
                    <a:pt x="16" y="36"/>
                  </a:lnTo>
                  <a:lnTo>
                    <a:pt x="20" y="34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9"/>
            <p:cNvSpPr/>
            <p:nvPr/>
          </p:nvSpPr>
          <p:spPr>
            <a:xfrm>
              <a:off x="6888240" y="4838400"/>
              <a:ext cx="66600" cy="69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26"/>
                  </a:moveTo>
                  <a:lnTo>
                    <a:pt x="38" y="26"/>
                  </a:lnTo>
                  <a:lnTo>
                    <a:pt x="34" y="20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10" y="30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30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4" y="34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50"/>
            <p:cNvSpPr/>
            <p:nvPr/>
          </p:nvSpPr>
          <p:spPr>
            <a:xfrm>
              <a:off x="6856560" y="4797000"/>
              <a:ext cx="69840" cy="4428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30" y="16"/>
                  </a:moveTo>
                  <a:lnTo>
                    <a:pt x="28" y="2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8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8" y="8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0" y="28"/>
                  </a:lnTo>
                  <a:lnTo>
                    <a:pt x="16" y="28"/>
                  </a:lnTo>
                  <a:lnTo>
                    <a:pt x="18" y="24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51"/>
            <p:cNvSpPr/>
            <p:nvPr/>
          </p:nvSpPr>
          <p:spPr>
            <a:xfrm>
              <a:off x="6945480" y="4790880"/>
              <a:ext cx="28440" cy="24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2" y="14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52"/>
            <p:cNvSpPr/>
            <p:nvPr/>
          </p:nvSpPr>
          <p:spPr>
            <a:xfrm>
              <a:off x="7243920" y="5290920"/>
              <a:ext cx="28440" cy="28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4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3"/>
            <p:cNvSpPr/>
            <p:nvPr/>
          </p:nvSpPr>
          <p:spPr>
            <a:xfrm>
              <a:off x="7148520" y="5765400"/>
              <a:ext cx="298440" cy="249120"/>
            </a:xfrm>
            <a:custGeom>
              <a:avLst/>
              <a:gdLst/>
              <a:ahLst/>
              <a:rect l="l" t="t" r="r" b="b"/>
              <a:pathLst>
                <a:path w="188" h="157">
                  <a:moveTo>
                    <a:pt x="36" y="20"/>
                  </a:moveTo>
                  <a:lnTo>
                    <a:pt x="36" y="14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4" y="0"/>
                  </a:lnTo>
                  <a:lnTo>
                    <a:pt x="58" y="4"/>
                  </a:lnTo>
                  <a:lnTo>
                    <a:pt x="68" y="4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2" y="14"/>
                  </a:lnTo>
                  <a:lnTo>
                    <a:pt x="86" y="18"/>
                  </a:lnTo>
                  <a:lnTo>
                    <a:pt x="92" y="20"/>
                  </a:lnTo>
                  <a:lnTo>
                    <a:pt x="100" y="18"/>
                  </a:lnTo>
                  <a:lnTo>
                    <a:pt x="100" y="26"/>
                  </a:lnTo>
                  <a:lnTo>
                    <a:pt x="106" y="28"/>
                  </a:lnTo>
                  <a:lnTo>
                    <a:pt x="106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114" y="46"/>
                  </a:lnTo>
                  <a:lnTo>
                    <a:pt x="118" y="48"/>
                  </a:lnTo>
                  <a:lnTo>
                    <a:pt x="126" y="48"/>
                  </a:lnTo>
                  <a:lnTo>
                    <a:pt x="154" y="48"/>
                  </a:lnTo>
                  <a:lnTo>
                    <a:pt x="160" y="48"/>
                  </a:lnTo>
                  <a:lnTo>
                    <a:pt x="168" y="48"/>
                  </a:lnTo>
                  <a:lnTo>
                    <a:pt x="184" y="64"/>
                  </a:lnTo>
                  <a:lnTo>
                    <a:pt x="188" y="70"/>
                  </a:lnTo>
                  <a:lnTo>
                    <a:pt x="184" y="74"/>
                  </a:lnTo>
                  <a:lnTo>
                    <a:pt x="176" y="74"/>
                  </a:lnTo>
                  <a:lnTo>
                    <a:pt x="170" y="70"/>
                  </a:lnTo>
                  <a:lnTo>
                    <a:pt x="164" y="66"/>
                  </a:lnTo>
                  <a:lnTo>
                    <a:pt x="160" y="68"/>
                  </a:lnTo>
                  <a:lnTo>
                    <a:pt x="164" y="72"/>
                  </a:lnTo>
                  <a:lnTo>
                    <a:pt x="164" y="78"/>
                  </a:lnTo>
                  <a:lnTo>
                    <a:pt x="162" y="84"/>
                  </a:lnTo>
                  <a:lnTo>
                    <a:pt x="162" y="92"/>
                  </a:lnTo>
                  <a:lnTo>
                    <a:pt x="164" y="98"/>
                  </a:lnTo>
                  <a:lnTo>
                    <a:pt x="164" y="106"/>
                  </a:lnTo>
                  <a:lnTo>
                    <a:pt x="160" y="110"/>
                  </a:lnTo>
                  <a:lnTo>
                    <a:pt x="156" y="116"/>
                  </a:lnTo>
                  <a:lnTo>
                    <a:pt x="154" y="120"/>
                  </a:lnTo>
                  <a:lnTo>
                    <a:pt x="152" y="134"/>
                  </a:lnTo>
                  <a:lnTo>
                    <a:pt x="150" y="132"/>
                  </a:lnTo>
                  <a:lnTo>
                    <a:pt x="150" y="126"/>
                  </a:lnTo>
                  <a:lnTo>
                    <a:pt x="152" y="124"/>
                  </a:lnTo>
                  <a:lnTo>
                    <a:pt x="156" y="116"/>
                  </a:lnTo>
                  <a:lnTo>
                    <a:pt x="152" y="112"/>
                  </a:lnTo>
                  <a:lnTo>
                    <a:pt x="152" y="106"/>
                  </a:lnTo>
                  <a:lnTo>
                    <a:pt x="150" y="102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0" y="96"/>
                  </a:lnTo>
                  <a:lnTo>
                    <a:pt x="138" y="100"/>
                  </a:lnTo>
                  <a:lnTo>
                    <a:pt x="138" y="104"/>
                  </a:lnTo>
                  <a:lnTo>
                    <a:pt x="136" y="106"/>
                  </a:lnTo>
                  <a:lnTo>
                    <a:pt x="132" y="106"/>
                  </a:lnTo>
                  <a:lnTo>
                    <a:pt x="130" y="102"/>
                  </a:lnTo>
                  <a:lnTo>
                    <a:pt x="132" y="96"/>
                  </a:lnTo>
                  <a:lnTo>
                    <a:pt x="134" y="92"/>
                  </a:lnTo>
                  <a:lnTo>
                    <a:pt x="134" y="84"/>
                  </a:lnTo>
                  <a:lnTo>
                    <a:pt x="134" y="78"/>
                  </a:lnTo>
                  <a:lnTo>
                    <a:pt x="134" y="74"/>
                  </a:lnTo>
                  <a:lnTo>
                    <a:pt x="130" y="70"/>
                  </a:lnTo>
                  <a:lnTo>
                    <a:pt x="122" y="68"/>
                  </a:lnTo>
                  <a:lnTo>
                    <a:pt x="118" y="66"/>
                  </a:lnTo>
                  <a:lnTo>
                    <a:pt x="110" y="64"/>
                  </a:lnTo>
                  <a:lnTo>
                    <a:pt x="106" y="66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6"/>
                  </a:lnTo>
                  <a:lnTo>
                    <a:pt x="102" y="80"/>
                  </a:lnTo>
                  <a:lnTo>
                    <a:pt x="100" y="82"/>
                  </a:lnTo>
                  <a:lnTo>
                    <a:pt x="98" y="82"/>
                  </a:lnTo>
                  <a:lnTo>
                    <a:pt x="98" y="80"/>
                  </a:lnTo>
                  <a:lnTo>
                    <a:pt x="94" y="82"/>
                  </a:lnTo>
                  <a:lnTo>
                    <a:pt x="94" y="86"/>
                  </a:lnTo>
                  <a:lnTo>
                    <a:pt x="90" y="94"/>
                  </a:lnTo>
                  <a:lnTo>
                    <a:pt x="90" y="106"/>
                  </a:lnTo>
                  <a:lnTo>
                    <a:pt x="90" y="116"/>
                  </a:lnTo>
                  <a:lnTo>
                    <a:pt x="92" y="124"/>
                  </a:lnTo>
                  <a:lnTo>
                    <a:pt x="96" y="130"/>
                  </a:lnTo>
                  <a:lnTo>
                    <a:pt x="98" y="136"/>
                  </a:lnTo>
                  <a:lnTo>
                    <a:pt x="98" y="141"/>
                  </a:lnTo>
                  <a:lnTo>
                    <a:pt x="94" y="149"/>
                  </a:lnTo>
                  <a:lnTo>
                    <a:pt x="90" y="155"/>
                  </a:lnTo>
                  <a:lnTo>
                    <a:pt x="82" y="157"/>
                  </a:lnTo>
                  <a:lnTo>
                    <a:pt x="78" y="155"/>
                  </a:lnTo>
                  <a:lnTo>
                    <a:pt x="74" y="151"/>
                  </a:lnTo>
                  <a:lnTo>
                    <a:pt x="70" y="147"/>
                  </a:lnTo>
                  <a:lnTo>
                    <a:pt x="70" y="141"/>
                  </a:lnTo>
                  <a:lnTo>
                    <a:pt x="72" y="138"/>
                  </a:lnTo>
                  <a:lnTo>
                    <a:pt x="70" y="132"/>
                  </a:lnTo>
                  <a:lnTo>
                    <a:pt x="68" y="128"/>
                  </a:lnTo>
                  <a:lnTo>
                    <a:pt x="68" y="122"/>
                  </a:lnTo>
                  <a:lnTo>
                    <a:pt x="70" y="114"/>
                  </a:lnTo>
                  <a:lnTo>
                    <a:pt x="72" y="98"/>
                  </a:lnTo>
                  <a:lnTo>
                    <a:pt x="74" y="94"/>
                  </a:lnTo>
                  <a:lnTo>
                    <a:pt x="74" y="90"/>
                  </a:lnTo>
                  <a:lnTo>
                    <a:pt x="76" y="86"/>
                  </a:lnTo>
                  <a:lnTo>
                    <a:pt x="72" y="86"/>
                  </a:lnTo>
                  <a:lnTo>
                    <a:pt x="68" y="92"/>
                  </a:lnTo>
                  <a:lnTo>
                    <a:pt x="66" y="96"/>
                  </a:lnTo>
                  <a:lnTo>
                    <a:pt x="64" y="98"/>
                  </a:lnTo>
                  <a:lnTo>
                    <a:pt x="62" y="96"/>
                  </a:lnTo>
                  <a:lnTo>
                    <a:pt x="66" y="84"/>
                  </a:lnTo>
                  <a:lnTo>
                    <a:pt x="70" y="76"/>
                  </a:lnTo>
                  <a:lnTo>
                    <a:pt x="76" y="68"/>
                  </a:lnTo>
                  <a:lnTo>
                    <a:pt x="82" y="66"/>
                  </a:lnTo>
                  <a:lnTo>
                    <a:pt x="88" y="62"/>
                  </a:lnTo>
                  <a:lnTo>
                    <a:pt x="96" y="60"/>
                  </a:lnTo>
                  <a:lnTo>
                    <a:pt x="104" y="60"/>
                  </a:lnTo>
                  <a:lnTo>
                    <a:pt x="114" y="58"/>
                  </a:lnTo>
                  <a:lnTo>
                    <a:pt x="118" y="56"/>
                  </a:lnTo>
                  <a:lnTo>
                    <a:pt x="114" y="50"/>
                  </a:lnTo>
                  <a:lnTo>
                    <a:pt x="106" y="46"/>
                  </a:lnTo>
                  <a:lnTo>
                    <a:pt x="102" y="48"/>
                  </a:lnTo>
                  <a:lnTo>
                    <a:pt x="102" y="44"/>
                  </a:lnTo>
                  <a:lnTo>
                    <a:pt x="98" y="44"/>
                  </a:lnTo>
                  <a:lnTo>
                    <a:pt x="96" y="46"/>
                  </a:lnTo>
                  <a:lnTo>
                    <a:pt x="86" y="46"/>
                  </a:lnTo>
                  <a:lnTo>
                    <a:pt x="84" y="48"/>
                  </a:lnTo>
                  <a:lnTo>
                    <a:pt x="80" y="52"/>
                  </a:lnTo>
                  <a:lnTo>
                    <a:pt x="76" y="52"/>
                  </a:lnTo>
                  <a:lnTo>
                    <a:pt x="70" y="52"/>
                  </a:lnTo>
                  <a:lnTo>
                    <a:pt x="66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50" y="46"/>
                  </a:lnTo>
                  <a:lnTo>
                    <a:pt x="54" y="40"/>
                  </a:lnTo>
                  <a:lnTo>
                    <a:pt x="58" y="36"/>
                  </a:lnTo>
                  <a:lnTo>
                    <a:pt x="60" y="34"/>
                  </a:lnTo>
                  <a:lnTo>
                    <a:pt x="56" y="34"/>
                  </a:lnTo>
                  <a:lnTo>
                    <a:pt x="54" y="34"/>
                  </a:lnTo>
                  <a:lnTo>
                    <a:pt x="52" y="38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2" y="56"/>
                  </a:lnTo>
                  <a:lnTo>
                    <a:pt x="18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2" y="50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6" y="46"/>
                  </a:lnTo>
                  <a:lnTo>
                    <a:pt x="14" y="36"/>
                  </a:lnTo>
                  <a:lnTo>
                    <a:pt x="22" y="32"/>
                  </a:lnTo>
                  <a:lnTo>
                    <a:pt x="28" y="28"/>
                  </a:lnTo>
                  <a:lnTo>
                    <a:pt x="32" y="22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4"/>
            <p:cNvSpPr/>
            <p:nvPr/>
          </p:nvSpPr>
          <p:spPr>
            <a:xfrm>
              <a:off x="7380360" y="5937120"/>
              <a:ext cx="104760" cy="67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2" y="30"/>
                  </a:moveTo>
                  <a:lnTo>
                    <a:pt x="0" y="33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14" y="43"/>
                  </a:lnTo>
                  <a:lnTo>
                    <a:pt x="24" y="39"/>
                  </a:lnTo>
                  <a:lnTo>
                    <a:pt x="32" y="33"/>
                  </a:lnTo>
                  <a:lnTo>
                    <a:pt x="40" y="28"/>
                  </a:lnTo>
                  <a:lnTo>
                    <a:pt x="48" y="20"/>
                  </a:lnTo>
                  <a:lnTo>
                    <a:pt x="54" y="14"/>
                  </a:lnTo>
                  <a:lnTo>
                    <a:pt x="62" y="8"/>
                  </a:lnTo>
                  <a:lnTo>
                    <a:pt x="64" y="4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6" y="4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0" y="22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55"/>
            <p:cNvSpPr/>
            <p:nvPr/>
          </p:nvSpPr>
          <p:spPr>
            <a:xfrm>
              <a:off x="7459560" y="5867280"/>
              <a:ext cx="82800" cy="597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48" y="0"/>
                  </a:moveTo>
                  <a:lnTo>
                    <a:pt x="48" y="2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56"/>
            <p:cNvSpPr/>
            <p:nvPr/>
          </p:nvSpPr>
          <p:spPr>
            <a:xfrm>
              <a:off x="6767640" y="5014800"/>
              <a:ext cx="482400" cy="396360"/>
            </a:xfrm>
            <a:custGeom>
              <a:avLst/>
              <a:gdLst/>
              <a:ahLst/>
              <a:rect l="l" t="t" r="r" b="b"/>
              <a:pathLst>
                <a:path w="304" h="250">
                  <a:moveTo>
                    <a:pt x="10" y="14"/>
                  </a:moveTo>
                  <a:lnTo>
                    <a:pt x="22" y="20"/>
                  </a:lnTo>
                  <a:lnTo>
                    <a:pt x="26" y="30"/>
                  </a:lnTo>
                  <a:lnTo>
                    <a:pt x="36" y="36"/>
                  </a:lnTo>
                  <a:lnTo>
                    <a:pt x="46" y="38"/>
                  </a:lnTo>
                  <a:lnTo>
                    <a:pt x="50" y="46"/>
                  </a:lnTo>
                  <a:lnTo>
                    <a:pt x="50" y="54"/>
                  </a:lnTo>
                  <a:lnTo>
                    <a:pt x="44" y="54"/>
                  </a:lnTo>
                  <a:lnTo>
                    <a:pt x="40" y="54"/>
                  </a:lnTo>
                  <a:lnTo>
                    <a:pt x="38" y="60"/>
                  </a:lnTo>
                  <a:lnTo>
                    <a:pt x="48" y="66"/>
                  </a:lnTo>
                  <a:lnTo>
                    <a:pt x="60" y="70"/>
                  </a:lnTo>
                  <a:lnTo>
                    <a:pt x="80" y="70"/>
                  </a:lnTo>
                  <a:lnTo>
                    <a:pt x="86" y="80"/>
                  </a:lnTo>
                  <a:lnTo>
                    <a:pt x="90" y="94"/>
                  </a:lnTo>
                  <a:lnTo>
                    <a:pt x="96" y="94"/>
                  </a:lnTo>
                  <a:lnTo>
                    <a:pt x="94" y="86"/>
                  </a:lnTo>
                  <a:lnTo>
                    <a:pt x="96" y="74"/>
                  </a:lnTo>
                  <a:lnTo>
                    <a:pt x="106" y="70"/>
                  </a:lnTo>
                  <a:lnTo>
                    <a:pt x="116" y="66"/>
                  </a:lnTo>
                  <a:lnTo>
                    <a:pt x="120" y="70"/>
                  </a:lnTo>
                  <a:lnTo>
                    <a:pt x="126" y="76"/>
                  </a:lnTo>
                  <a:lnTo>
                    <a:pt x="132" y="76"/>
                  </a:lnTo>
                  <a:lnTo>
                    <a:pt x="138" y="86"/>
                  </a:lnTo>
                  <a:lnTo>
                    <a:pt x="158" y="86"/>
                  </a:lnTo>
                  <a:lnTo>
                    <a:pt x="164" y="86"/>
                  </a:lnTo>
                  <a:lnTo>
                    <a:pt x="168" y="84"/>
                  </a:lnTo>
                  <a:lnTo>
                    <a:pt x="172" y="88"/>
                  </a:lnTo>
                  <a:lnTo>
                    <a:pt x="180" y="90"/>
                  </a:lnTo>
                  <a:lnTo>
                    <a:pt x="178" y="84"/>
                  </a:lnTo>
                  <a:lnTo>
                    <a:pt x="174" y="82"/>
                  </a:lnTo>
                  <a:lnTo>
                    <a:pt x="168" y="78"/>
                  </a:lnTo>
                  <a:lnTo>
                    <a:pt x="172" y="72"/>
                  </a:lnTo>
                  <a:lnTo>
                    <a:pt x="178" y="72"/>
                  </a:lnTo>
                  <a:lnTo>
                    <a:pt x="178" y="76"/>
                  </a:lnTo>
                  <a:lnTo>
                    <a:pt x="188" y="78"/>
                  </a:lnTo>
                  <a:lnTo>
                    <a:pt x="184" y="86"/>
                  </a:lnTo>
                  <a:lnTo>
                    <a:pt x="184" y="96"/>
                  </a:lnTo>
                  <a:lnTo>
                    <a:pt x="194" y="98"/>
                  </a:lnTo>
                  <a:lnTo>
                    <a:pt x="192" y="82"/>
                  </a:lnTo>
                  <a:lnTo>
                    <a:pt x="200" y="78"/>
                  </a:lnTo>
                  <a:lnTo>
                    <a:pt x="204" y="72"/>
                  </a:lnTo>
                  <a:lnTo>
                    <a:pt x="208" y="64"/>
                  </a:lnTo>
                  <a:lnTo>
                    <a:pt x="204" y="62"/>
                  </a:lnTo>
                  <a:lnTo>
                    <a:pt x="202" y="66"/>
                  </a:lnTo>
                  <a:lnTo>
                    <a:pt x="198" y="62"/>
                  </a:lnTo>
                  <a:lnTo>
                    <a:pt x="204" y="58"/>
                  </a:lnTo>
                  <a:lnTo>
                    <a:pt x="202" y="50"/>
                  </a:lnTo>
                  <a:lnTo>
                    <a:pt x="196" y="48"/>
                  </a:lnTo>
                  <a:lnTo>
                    <a:pt x="188" y="40"/>
                  </a:lnTo>
                  <a:lnTo>
                    <a:pt x="186" y="34"/>
                  </a:lnTo>
                  <a:lnTo>
                    <a:pt x="188" y="28"/>
                  </a:lnTo>
                  <a:lnTo>
                    <a:pt x="188" y="24"/>
                  </a:lnTo>
                  <a:lnTo>
                    <a:pt x="186" y="22"/>
                  </a:lnTo>
                  <a:lnTo>
                    <a:pt x="186" y="16"/>
                  </a:lnTo>
                  <a:lnTo>
                    <a:pt x="186" y="12"/>
                  </a:lnTo>
                  <a:lnTo>
                    <a:pt x="190" y="10"/>
                  </a:lnTo>
                  <a:lnTo>
                    <a:pt x="192" y="4"/>
                  </a:lnTo>
                  <a:lnTo>
                    <a:pt x="194" y="0"/>
                  </a:lnTo>
                  <a:lnTo>
                    <a:pt x="198" y="2"/>
                  </a:lnTo>
                  <a:lnTo>
                    <a:pt x="206" y="8"/>
                  </a:lnTo>
                  <a:lnTo>
                    <a:pt x="208" y="14"/>
                  </a:lnTo>
                  <a:lnTo>
                    <a:pt x="210" y="22"/>
                  </a:lnTo>
                  <a:lnTo>
                    <a:pt x="214" y="26"/>
                  </a:lnTo>
                  <a:lnTo>
                    <a:pt x="214" y="32"/>
                  </a:lnTo>
                  <a:lnTo>
                    <a:pt x="214" y="36"/>
                  </a:lnTo>
                  <a:lnTo>
                    <a:pt x="212" y="42"/>
                  </a:lnTo>
                  <a:lnTo>
                    <a:pt x="216" y="48"/>
                  </a:lnTo>
                  <a:lnTo>
                    <a:pt x="222" y="50"/>
                  </a:lnTo>
                  <a:lnTo>
                    <a:pt x="226" y="54"/>
                  </a:lnTo>
                  <a:lnTo>
                    <a:pt x="228" y="60"/>
                  </a:lnTo>
                  <a:lnTo>
                    <a:pt x="228" y="64"/>
                  </a:lnTo>
                  <a:lnTo>
                    <a:pt x="230" y="70"/>
                  </a:lnTo>
                  <a:lnTo>
                    <a:pt x="234" y="74"/>
                  </a:lnTo>
                  <a:lnTo>
                    <a:pt x="234" y="68"/>
                  </a:lnTo>
                  <a:lnTo>
                    <a:pt x="234" y="62"/>
                  </a:lnTo>
                  <a:lnTo>
                    <a:pt x="234" y="56"/>
                  </a:lnTo>
                  <a:lnTo>
                    <a:pt x="234" y="50"/>
                  </a:lnTo>
                  <a:lnTo>
                    <a:pt x="240" y="50"/>
                  </a:lnTo>
                  <a:lnTo>
                    <a:pt x="244" y="60"/>
                  </a:lnTo>
                  <a:lnTo>
                    <a:pt x="248" y="64"/>
                  </a:lnTo>
                  <a:lnTo>
                    <a:pt x="252" y="70"/>
                  </a:lnTo>
                  <a:lnTo>
                    <a:pt x="250" y="72"/>
                  </a:lnTo>
                  <a:lnTo>
                    <a:pt x="246" y="74"/>
                  </a:lnTo>
                  <a:lnTo>
                    <a:pt x="244" y="74"/>
                  </a:lnTo>
                  <a:lnTo>
                    <a:pt x="248" y="80"/>
                  </a:lnTo>
                  <a:lnTo>
                    <a:pt x="252" y="88"/>
                  </a:lnTo>
                  <a:lnTo>
                    <a:pt x="256" y="96"/>
                  </a:lnTo>
                  <a:lnTo>
                    <a:pt x="264" y="88"/>
                  </a:lnTo>
                  <a:lnTo>
                    <a:pt x="264" y="78"/>
                  </a:lnTo>
                  <a:lnTo>
                    <a:pt x="266" y="62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64" y="42"/>
                  </a:lnTo>
                  <a:lnTo>
                    <a:pt x="266" y="38"/>
                  </a:lnTo>
                  <a:lnTo>
                    <a:pt x="274" y="38"/>
                  </a:lnTo>
                  <a:lnTo>
                    <a:pt x="282" y="40"/>
                  </a:lnTo>
                  <a:lnTo>
                    <a:pt x="286" y="42"/>
                  </a:lnTo>
                  <a:lnTo>
                    <a:pt x="290" y="46"/>
                  </a:lnTo>
                  <a:lnTo>
                    <a:pt x="294" y="46"/>
                  </a:lnTo>
                  <a:lnTo>
                    <a:pt x="298" y="52"/>
                  </a:lnTo>
                  <a:lnTo>
                    <a:pt x="298" y="56"/>
                  </a:lnTo>
                  <a:lnTo>
                    <a:pt x="296" y="60"/>
                  </a:lnTo>
                  <a:lnTo>
                    <a:pt x="292" y="62"/>
                  </a:lnTo>
                  <a:lnTo>
                    <a:pt x="290" y="66"/>
                  </a:lnTo>
                  <a:lnTo>
                    <a:pt x="294" y="70"/>
                  </a:lnTo>
                  <a:lnTo>
                    <a:pt x="298" y="76"/>
                  </a:lnTo>
                  <a:lnTo>
                    <a:pt x="304" y="80"/>
                  </a:lnTo>
                  <a:lnTo>
                    <a:pt x="304" y="86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102"/>
                  </a:lnTo>
                  <a:lnTo>
                    <a:pt x="292" y="104"/>
                  </a:lnTo>
                  <a:lnTo>
                    <a:pt x="286" y="104"/>
                  </a:lnTo>
                  <a:lnTo>
                    <a:pt x="284" y="108"/>
                  </a:lnTo>
                  <a:lnTo>
                    <a:pt x="282" y="110"/>
                  </a:lnTo>
                  <a:lnTo>
                    <a:pt x="278" y="110"/>
                  </a:lnTo>
                  <a:lnTo>
                    <a:pt x="274" y="108"/>
                  </a:lnTo>
                  <a:lnTo>
                    <a:pt x="272" y="106"/>
                  </a:lnTo>
                  <a:lnTo>
                    <a:pt x="270" y="106"/>
                  </a:lnTo>
                  <a:lnTo>
                    <a:pt x="266" y="106"/>
                  </a:lnTo>
                  <a:lnTo>
                    <a:pt x="264" y="110"/>
                  </a:lnTo>
                  <a:lnTo>
                    <a:pt x="268" y="110"/>
                  </a:lnTo>
                  <a:lnTo>
                    <a:pt x="272" y="116"/>
                  </a:lnTo>
                  <a:lnTo>
                    <a:pt x="270" y="120"/>
                  </a:lnTo>
                  <a:lnTo>
                    <a:pt x="266" y="126"/>
                  </a:lnTo>
                  <a:lnTo>
                    <a:pt x="264" y="132"/>
                  </a:lnTo>
                  <a:lnTo>
                    <a:pt x="258" y="132"/>
                  </a:lnTo>
                  <a:lnTo>
                    <a:pt x="252" y="130"/>
                  </a:lnTo>
                  <a:lnTo>
                    <a:pt x="246" y="126"/>
                  </a:lnTo>
                  <a:lnTo>
                    <a:pt x="242" y="124"/>
                  </a:lnTo>
                  <a:lnTo>
                    <a:pt x="238" y="122"/>
                  </a:lnTo>
                  <a:lnTo>
                    <a:pt x="234" y="122"/>
                  </a:lnTo>
                  <a:lnTo>
                    <a:pt x="236" y="126"/>
                  </a:lnTo>
                  <a:lnTo>
                    <a:pt x="240" y="128"/>
                  </a:lnTo>
                  <a:lnTo>
                    <a:pt x="244" y="134"/>
                  </a:lnTo>
                  <a:lnTo>
                    <a:pt x="250" y="136"/>
                  </a:lnTo>
                  <a:lnTo>
                    <a:pt x="254" y="136"/>
                  </a:lnTo>
                  <a:lnTo>
                    <a:pt x="262" y="136"/>
                  </a:lnTo>
                  <a:lnTo>
                    <a:pt x="264" y="138"/>
                  </a:lnTo>
                  <a:lnTo>
                    <a:pt x="262" y="146"/>
                  </a:lnTo>
                  <a:lnTo>
                    <a:pt x="258" y="150"/>
                  </a:lnTo>
                  <a:lnTo>
                    <a:pt x="258" y="156"/>
                  </a:lnTo>
                  <a:lnTo>
                    <a:pt x="254" y="160"/>
                  </a:lnTo>
                  <a:lnTo>
                    <a:pt x="250" y="162"/>
                  </a:lnTo>
                  <a:lnTo>
                    <a:pt x="246" y="162"/>
                  </a:lnTo>
                  <a:lnTo>
                    <a:pt x="242" y="162"/>
                  </a:lnTo>
                  <a:lnTo>
                    <a:pt x="242" y="166"/>
                  </a:lnTo>
                  <a:lnTo>
                    <a:pt x="238" y="170"/>
                  </a:lnTo>
                  <a:lnTo>
                    <a:pt x="234" y="174"/>
                  </a:lnTo>
                  <a:lnTo>
                    <a:pt x="228" y="170"/>
                  </a:lnTo>
                  <a:lnTo>
                    <a:pt x="224" y="168"/>
                  </a:lnTo>
                  <a:lnTo>
                    <a:pt x="220" y="168"/>
                  </a:lnTo>
                  <a:lnTo>
                    <a:pt x="214" y="166"/>
                  </a:lnTo>
                  <a:lnTo>
                    <a:pt x="210" y="164"/>
                  </a:lnTo>
                  <a:lnTo>
                    <a:pt x="210" y="168"/>
                  </a:lnTo>
                  <a:lnTo>
                    <a:pt x="216" y="170"/>
                  </a:lnTo>
                  <a:lnTo>
                    <a:pt x="222" y="172"/>
                  </a:lnTo>
                  <a:lnTo>
                    <a:pt x="230" y="174"/>
                  </a:lnTo>
                  <a:lnTo>
                    <a:pt x="234" y="178"/>
                  </a:lnTo>
                  <a:lnTo>
                    <a:pt x="234" y="182"/>
                  </a:lnTo>
                  <a:lnTo>
                    <a:pt x="232" y="186"/>
                  </a:lnTo>
                  <a:lnTo>
                    <a:pt x="230" y="188"/>
                  </a:lnTo>
                  <a:lnTo>
                    <a:pt x="224" y="190"/>
                  </a:lnTo>
                  <a:lnTo>
                    <a:pt x="220" y="190"/>
                  </a:lnTo>
                  <a:lnTo>
                    <a:pt x="220" y="196"/>
                  </a:lnTo>
                  <a:lnTo>
                    <a:pt x="218" y="200"/>
                  </a:lnTo>
                  <a:lnTo>
                    <a:pt x="214" y="202"/>
                  </a:lnTo>
                  <a:lnTo>
                    <a:pt x="212" y="206"/>
                  </a:lnTo>
                  <a:lnTo>
                    <a:pt x="208" y="212"/>
                  </a:lnTo>
                  <a:lnTo>
                    <a:pt x="206" y="216"/>
                  </a:lnTo>
                  <a:lnTo>
                    <a:pt x="204" y="226"/>
                  </a:lnTo>
                  <a:lnTo>
                    <a:pt x="200" y="234"/>
                  </a:lnTo>
                  <a:lnTo>
                    <a:pt x="198" y="240"/>
                  </a:lnTo>
                  <a:lnTo>
                    <a:pt x="196" y="250"/>
                  </a:lnTo>
                  <a:lnTo>
                    <a:pt x="122" y="246"/>
                  </a:lnTo>
                  <a:lnTo>
                    <a:pt x="130" y="156"/>
                  </a:lnTo>
                  <a:lnTo>
                    <a:pt x="70" y="134"/>
                  </a:lnTo>
                  <a:lnTo>
                    <a:pt x="60" y="116"/>
                  </a:lnTo>
                  <a:lnTo>
                    <a:pt x="46" y="114"/>
                  </a:lnTo>
                  <a:lnTo>
                    <a:pt x="0" y="4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57"/>
            <p:cNvSpPr/>
            <p:nvPr/>
          </p:nvSpPr>
          <p:spPr>
            <a:xfrm>
              <a:off x="6827760" y="4959000"/>
              <a:ext cx="184320" cy="150480"/>
            </a:xfrm>
            <a:custGeom>
              <a:avLst/>
              <a:gdLst/>
              <a:ahLst/>
              <a:rect l="l" t="t" r="r" b="b"/>
              <a:pathLst>
                <a:path w="116" h="95">
                  <a:moveTo>
                    <a:pt x="4" y="61"/>
                  </a:moveTo>
                  <a:lnTo>
                    <a:pt x="2" y="55"/>
                  </a:lnTo>
                  <a:lnTo>
                    <a:pt x="0" y="49"/>
                  </a:lnTo>
                  <a:lnTo>
                    <a:pt x="4" y="47"/>
                  </a:lnTo>
                  <a:lnTo>
                    <a:pt x="32" y="57"/>
                  </a:lnTo>
                  <a:lnTo>
                    <a:pt x="32" y="61"/>
                  </a:lnTo>
                  <a:lnTo>
                    <a:pt x="36" y="59"/>
                  </a:lnTo>
                  <a:lnTo>
                    <a:pt x="50" y="63"/>
                  </a:lnTo>
                  <a:lnTo>
                    <a:pt x="66" y="2"/>
                  </a:lnTo>
                  <a:lnTo>
                    <a:pt x="70" y="8"/>
                  </a:lnTo>
                  <a:lnTo>
                    <a:pt x="70" y="12"/>
                  </a:lnTo>
                  <a:lnTo>
                    <a:pt x="70" y="18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4" y="31"/>
                  </a:lnTo>
                  <a:lnTo>
                    <a:pt x="76" y="27"/>
                  </a:lnTo>
                  <a:lnTo>
                    <a:pt x="76" y="20"/>
                  </a:lnTo>
                  <a:lnTo>
                    <a:pt x="76" y="10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94" y="18"/>
                  </a:lnTo>
                  <a:lnTo>
                    <a:pt x="92" y="33"/>
                  </a:lnTo>
                  <a:lnTo>
                    <a:pt x="96" y="39"/>
                  </a:lnTo>
                  <a:lnTo>
                    <a:pt x="94" y="41"/>
                  </a:lnTo>
                  <a:lnTo>
                    <a:pt x="94" y="45"/>
                  </a:lnTo>
                  <a:lnTo>
                    <a:pt x="96" y="55"/>
                  </a:lnTo>
                  <a:lnTo>
                    <a:pt x="104" y="59"/>
                  </a:lnTo>
                  <a:lnTo>
                    <a:pt x="106" y="65"/>
                  </a:lnTo>
                  <a:lnTo>
                    <a:pt x="108" y="67"/>
                  </a:lnTo>
                  <a:lnTo>
                    <a:pt x="114" y="71"/>
                  </a:lnTo>
                  <a:lnTo>
                    <a:pt x="116" y="77"/>
                  </a:lnTo>
                  <a:lnTo>
                    <a:pt x="110" y="79"/>
                  </a:lnTo>
                  <a:lnTo>
                    <a:pt x="108" y="75"/>
                  </a:lnTo>
                  <a:lnTo>
                    <a:pt x="104" y="75"/>
                  </a:lnTo>
                  <a:lnTo>
                    <a:pt x="104" y="79"/>
                  </a:lnTo>
                  <a:lnTo>
                    <a:pt x="102" y="79"/>
                  </a:lnTo>
                  <a:lnTo>
                    <a:pt x="98" y="79"/>
                  </a:lnTo>
                  <a:lnTo>
                    <a:pt x="98" y="85"/>
                  </a:lnTo>
                  <a:lnTo>
                    <a:pt x="102" y="85"/>
                  </a:lnTo>
                  <a:lnTo>
                    <a:pt x="106" y="87"/>
                  </a:lnTo>
                  <a:lnTo>
                    <a:pt x="106" y="93"/>
                  </a:lnTo>
                  <a:lnTo>
                    <a:pt x="100" y="95"/>
                  </a:lnTo>
                  <a:lnTo>
                    <a:pt x="90" y="93"/>
                  </a:lnTo>
                  <a:lnTo>
                    <a:pt x="82" y="91"/>
                  </a:lnTo>
                  <a:lnTo>
                    <a:pt x="80" y="87"/>
                  </a:lnTo>
                  <a:lnTo>
                    <a:pt x="74" y="85"/>
                  </a:lnTo>
                  <a:lnTo>
                    <a:pt x="74" y="81"/>
                  </a:lnTo>
                  <a:lnTo>
                    <a:pt x="70" y="79"/>
                  </a:lnTo>
                  <a:lnTo>
                    <a:pt x="68" y="85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50" y="89"/>
                  </a:lnTo>
                  <a:lnTo>
                    <a:pt x="36" y="89"/>
                  </a:lnTo>
                  <a:lnTo>
                    <a:pt x="24" y="89"/>
                  </a:lnTo>
                  <a:lnTo>
                    <a:pt x="20" y="85"/>
                  </a:lnTo>
                  <a:lnTo>
                    <a:pt x="20" y="79"/>
                  </a:lnTo>
                  <a:lnTo>
                    <a:pt x="18" y="71"/>
                  </a:lnTo>
                  <a:lnTo>
                    <a:pt x="12" y="67"/>
                  </a:lnTo>
                  <a:lnTo>
                    <a:pt x="6" y="65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58"/>
            <p:cNvSpPr/>
            <p:nvPr/>
          </p:nvSpPr>
          <p:spPr>
            <a:xfrm>
              <a:off x="6948360" y="4838400"/>
              <a:ext cx="44640" cy="6624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4" y="26"/>
                  </a:moveTo>
                  <a:lnTo>
                    <a:pt x="8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2" y="40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59"/>
            <p:cNvSpPr/>
            <p:nvPr/>
          </p:nvSpPr>
          <p:spPr>
            <a:xfrm>
              <a:off x="7129440" y="4943160"/>
              <a:ext cx="384120" cy="309240"/>
            </a:xfrm>
            <a:custGeom>
              <a:avLst/>
              <a:gdLst/>
              <a:ahLst/>
              <a:rect l="l" t="t" r="r" b="b"/>
              <a:pathLst>
                <a:path w="242" h="195">
                  <a:moveTo>
                    <a:pt x="152" y="167"/>
                  </a:moveTo>
                  <a:lnTo>
                    <a:pt x="162" y="171"/>
                  </a:lnTo>
                  <a:lnTo>
                    <a:pt x="170" y="179"/>
                  </a:lnTo>
                  <a:lnTo>
                    <a:pt x="178" y="177"/>
                  </a:lnTo>
                  <a:lnTo>
                    <a:pt x="178" y="183"/>
                  </a:lnTo>
                  <a:lnTo>
                    <a:pt x="184" y="189"/>
                  </a:lnTo>
                  <a:lnTo>
                    <a:pt x="190" y="187"/>
                  </a:lnTo>
                  <a:lnTo>
                    <a:pt x="192" y="191"/>
                  </a:lnTo>
                  <a:lnTo>
                    <a:pt x="196" y="195"/>
                  </a:lnTo>
                  <a:lnTo>
                    <a:pt x="200" y="189"/>
                  </a:lnTo>
                  <a:lnTo>
                    <a:pt x="204" y="187"/>
                  </a:lnTo>
                  <a:lnTo>
                    <a:pt x="206" y="191"/>
                  </a:lnTo>
                  <a:lnTo>
                    <a:pt x="218" y="193"/>
                  </a:lnTo>
                  <a:lnTo>
                    <a:pt x="230" y="191"/>
                  </a:lnTo>
                  <a:lnTo>
                    <a:pt x="242" y="193"/>
                  </a:lnTo>
                  <a:lnTo>
                    <a:pt x="240" y="185"/>
                  </a:lnTo>
                  <a:lnTo>
                    <a:pt x="232" y="179"/>
                  </a:lnTo>
                  <a:lnTo>
                    <a:pt x="220" y="177"/>
                  </a:lnTo>
                  <a:lnTo>
                    <a:pt x="212" y="173"/>
                  </a:lnTo>
                  <a:lnTo>
                    <a:pt x="204" y="169"/>
                  </a:lnTo>
                  <a:lnTo>
                    <a:pt x="204" y="165"/>
                  </a:lnTo>
                  <a:lnTo>
                    <a:pt x="206" y="165"/>
                  </a:lnTo>
                  <a:lnTo>
                    <a:pt x="212" y="169"/>
                  </a:lnTo>
                  <a:lnTo>
                    <a:pt x="218" y="167"/>
                  </a:lnTo>
                  <a:lnTo>
                    <a:pt x="224" y="171"/>
                  </a:lnTo>
                  <a:lnTo>
                    <a:pt x="236" y="171"/>
                  </a:lnTo>
                  <a:lnTo>
                    <a:pt x="242" y="171"/>
                  </a:lnTo>
                  <a:lnTo>
                    <a:pt x="242" y="165"/>
                  </a:lnTo>
                  <a:lnTo>
                    <a:pt x="236" y="159"/>
                  </a:lnTo>
                  <a:lnTo>
                    <a:pt x="234" y="151"/>
                  </a:lnTo>
                  <a:lnTo>
                    <a:pt x="234" y="147"/>
                  </a:lnTo>
                  <a:lnTo>
                    <a:pt x="228" y="145"/>
                  </a:lnTo>
                  <a:lnTo>
                    <a:pt x="224" y="141"/>
                  </a:lnTo>
                  <a:lnTo>
                    <a:pt x="220" y="139"/>
                  </a:lnTo>
                  <a:lnTo>
                    <a:pt x="218" y="135"/>
                  </a:lnTo>
                  <a:lnTo>
                    <a:pt x="210" y="135"/>
                  </a:lnTo>
                  <a:lnTo>
                    <a:pt x="204" y="133"/>
                  </a:lnTo>
                  <a:lnTo>
                    <a:pt x="200" y="127"/>
                  </a:lnTo>
                  <a:lnTo>
                    <a:pt x="194" y="127"/>
                  </a:lnTo>
                  <a:lnTo>
                    <a:pt x="190" y="121"/>
                  </a:lnTo>
                  <a:lnTo>
                    <a:pt x="194" y="119"/>
                  </a:lnTo>
                  <a:lnTo>
                    <a:pt x="192" y="115"/>
                  </a:lnTo>
                  <a:lnTo>
                    <a:pt x="192" y="111"/>
                  </a:lnTo>
                  <a:lnTo>
                    <a:pt x="190" y="107"/>
                  </a:lnTo>
                  <a:lnTo>
                    <a:pt x="196" y="105"/>
                  </a:lnTo>
                  <a:lnTo>
                    <a:pt x="198" y="111"/>
                  </a:lnTo>
                  <a:lnTo>
                    <a:pt x="204" y="111"/>
                  </a:lnTo>
                  <a:lnTo>
                    <a:pt x="210" y="111"/>
                  </a:lnTo>
                  <a:lnTo>
                    <a:pt x="212" y="117"/>
                  </a:lnTo>
                  <a:lnTo>
                    <a:pt x="220" y="121"/>
                  </a:lnTo>
                  <a:lnTo>
                    <a:pt x="222" y="123"/>
                  </a:lnTo>
                  <a:lnTo>
                    <a:pt x="232" y="125"/>
                  </a:lnTo>
                  <a:lnTo>
                    <a:pt x="232" y="119"/>
                  </a:lnTo>
                  <a:lnTo>
                    <a:pt x="228" y="111"/>
                  </a:lnTo>
                  <a:lnTo>
                    <a:pt x="230" y="107"/>
                  </a:lnTo>
                  <a:lnTo>
                    <a:pt x="232" y="101"/>
                  </a:lnTo>
                  <a:lnTo>
                    <a:pt x="232" y="99"/>
                  </a:lnTo>
                  <a:lnTo>
                    <a:pt x="230" y="97"/>
                  </a:lnTo>
                  <a:lnTo>
                    <a:pt x="228" y="93"/>
                  </a:lnTo>
                  <a:lnTo>
                    <a:pt x="232" y="89"/>
                  </a:lnTo>
                  <a:lnTo>
                    <a:pt x="234" y="85"/>
                  </a:lnTo>
                  <a:lnTo>
                    <a:pt x="228" y="79"/>
                  </a:lnTo>
                  <a:lnTo>
                    <a:pt x="222" y="81"/>
                  </a:lnTo>
                  <a:lnTo>
                    <a:pt x="220" y="85"/>
                  </a:lnTo>
                  <a:lnTo>
                    <a:pt x="216" y="85"/>
                  </a:lnTo>
                  <a:lnTo>
                    <a:pt x="214" y="81"/>
                  </a:lnTo>
                  <a:lnTo>
                    <a:pt x="214" y="77"/>
                  </a:lnTo>
                  <a:lnTo>
                    <a:pt x="208" y="85"/>
                  </a:lnTo>
                  <a:lnTo>
                    <a:pt x="206" y="79"/>
                  </a:lnTo>
                  <a:lnTo>
                    <a:pt x="204" y="77"/>
                  </a:lnTo>
                  <a:lnTo>
                    <a:pt x="196" y="77"/>
                  </a:lnTo>
                  <a:lnTo>
                    <a:pt x="194" y="71"/>
                  </a:lnTo>
                  <a:lnTo>
                    <a:pt x="190" y="73"/>
                  </a:lnTo>
                  <a:lnTo>
                    <a:pt x="188" y="77"/>
                  </a:lnTo>
                  <a:lnTo>
                    <a:pt x="182" y="77"/>
                  </a:lnTo>
                  <a:lnTo>
                    <a:pt x="178" y="75"/>
                  </a:lnTo>
                  <a:lnTo>
                    <a:pt x="176" y="71"/>
                  </a:lnTo>
                  <a:lnTo>
                    <a:pt x="170" y="71"/>
                  </a:lnTo>
                  <a:lnTo>
                    <a:pt x="160" y="73"/>
                  </a:lnTo>
                  <a:lnTo>
                    <a:pt x="164" y="67"/>
                  </a:lnTo>
                  <a:lnTo>
                    <a:pt x="162" y="63"/>
                  </a:lnTo>
                  <a:lnTo>
                    <a:pt x="162" y="61"/>
                  </a:lnTo>
                  <a:lnTo>
                    <a:pt x="164" y="59"/>
                  </a:lnTo>
                  <a:lnTo>
                    <a:pt x="170" y="53"/>
                  </a:lnTo>
                  <a:lnTo>
                    <a:pt x="164" y="53"/>
                  </a:lnTo>
                  <a:lnTo>
                    <a:pt x="158" y="55"/>
                  </a:lnTo>
                  <a:lnTo>
                    <a:pt x="156" y="53"/>
                  </a:lnTo>
                  <a:lnTo>
                    <a:pt x="156" y="49"/>
                  </a:lnTo>
                  <a:lnTo>
                    <a:pt x="158" y="47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56" y="41"/>
                  </a:lnTo>
                  <a:lnTo>
                    <a:pt x="152" y="39"/>
                  </a:lnTo>
                  <a:lnTo>
                    <a:pt x="150" y="43"/>
                  </a:lnTo>
                  <a:lnTo>
                    <a:pt x="148" y="47"/>
                  </a:lnTo>
                  <a:lnTo>
                    <a:pt x="144" y="45"/>
                  </a:lnTo>
                  <a:lnTo>
                    <a:pt x="144" y="41"/>
                  </a:lnTo>
                  <a:lnTo>
                    <a:pt x="148" y="37"/>
                  </a:lnTo>
                  <a:lnTo>
                    <a:pt x="144" y="34"/>
                  </a:lnTo>
                  <a:lnTo>
                    <a:pt x="138" y="34"/>
                  </a:lnTo>
                  <a:lnTo>
                    <a:pt x="134" y="39"/>
                  </a:lnTo>
                  <a:lnTo>
                    <a:pt x="130" y="39"/>
                  </a:lnTo>
                  <a:lnTo>
                    <a:pt x="130" y="34"/>
                  </a:lnTo>
                  <a:lnTo>
                    <a:pt x="126" y="34"/>
                  </a:lnTo>
                  <a:lnTo>
                    <a:pt x="124" y="37"/>
                  </a:lnTo>
                  <a:lnTo>
                    <a:pt x="120" y="37"/>
                  </a:lnTo>
                  <a:lnTo>
                    <a:pt x="122" y="28"/>
                  </a:lnTo>
                  <a:lnTo>
                    <a:pt x="118" y="26"/>
                  </a:lnTo>
                  <a:lnTo>
                    <a:pt x="114" y="26"/>
                  </a:lnTo>
                  <a:lnTo>
                    <a:pt x="112" y="30"/>
                  </a:lnTo>
                  <a:lnTo>
                    <a:pt x="110" y="34"/>
                  </a:lnTo>
                  <a:lnTo>
                    <a:pt x="106" y="30"/>
                  </a:lnTo>
                  <a:lnTo>
                    <a:pt x="104" y="24"/>
                  </a:lnTo>
                  <a:lnTo>
                    <a:pt x="102" y="28"/>
                  </a:lnTo>
                  <a:lnTo>
                    <a:pt x="98" y="32"/>
                  </a:lnTo>
                  <a:lnTo>
                    <a:pt x="96" y="28"/>
                  </a:lnTo>
                  <a:lnTo>
                    <a:pt x="100" y="22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2" y="14"/>
                  </a:lnTo>
                  <a:lnTo>
                    <a:pt x="88" y="14"/>
                  </a:lnTo>
                  <a:lnTo>
                    <a:pt x="84" y="14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70" y="24"/>
                  </a:lnTo>
                  <a:lnTo>
                    <a:pt x="68" y="28"/>
                  </a:lnTo>
                  <a:lnTo>
                    <a:pt x="66" y="24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60" y="32"/>
                  </a:lnTo>
                  <a:lnTo>
                    <a:pt x="56" y="32"/>
                  </a:lnTo>
                  <a:lnTo>
                    <a:pt x="56" y="20"/>
                  </a:lnTo>
                  <a:lnTo>
                    <a:pt x="56" y="14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26" y="26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8" y="41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36" y="53"/>
                  </a:lnTo>
                  <a:lnTo>
                    <a:pt x="34" y="55"/>
                  </a:lnTo>
                  <a:lnTo>
                    <a:pt x="34" y="53"/>
                  </a:lnTo>
                  <a:lnTo>
                    <a:pt x="32" y="49"/>
                  </a:lnTo>
                  <a:lnTo>
                    <a:pt x="26" y="45"/>
                  </a:lnTo>
                  <a:lnTo>
                    <a:pt x="22" y="37"/>
                  </a:lnTo>
                  <a:lnTo>
                    <a:pt x="22" y="28"/>
                  </a:lnTo>
                  <a:lnTo>
                    <a:pt x="18" y="18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10" y="55"/>
                  </a:lnTo>
                  <a:lnTo>
                    <a:pt x="16" y="57"/>
                  </a:lnTo>
                  <a:lnTo>
                    <a:pt x="18" y="61"/>
                  </a:lnTo>
                  <a:lnTo>
                    <a:pt x="14" y="61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8" y="77"/>
                  </a:lnTo>
                  <a:lnTo>
                    <a:pt x="20" y="77"/>
                  </a:lnTo>
                  <a:lnTo>
                    <a:pt x="22" y="75"/>
                  </a:lnTo>
                  <a:lnTo>
                    <a:pt x="24" y="71"/>
                  </a:lnTo>
                  <a:lnTo>
                    <a:pt x="30" y="77"/>
                  </a:lnTo>
                  <a:lnTo>
                    <a:pt x="34" y="81"/>
                  </a:lnTo>
                  <a:lnTo>
                    <a:pt x="40" y="77"/>
                  </a:lnTo>
                  <a:lnTo>
                    <a:pt x="52" y="77"/>
                  </a:lnTo>
                  <a:lnTo>
                    <a:pt x="60" y="77"/>
                  </a:lnTo>
                  <a:lnTo>
                    <a:pt x="66" y="77"/>
                  </a:lnTo>
                  <a:lnTo>
                    <a:pt x="68" y="71"/>
                  </a:lnTo>
                  <a:lnTo>
                    <a:pt x="76" y="71"/>
                  </a:lnTo>
                  <a:lnTo>
                    <a:pt x="80" y="71"/>
                  </a:lnTo>
                  <a:lnTo>
                    <a:pt x="80" y="69"/>
                  </a:lnTo>
                  <a:lnTo>
                    <a:pt x="74" y="65"/>
                  </a:lnTo>
                  <a:lnTo>
                    <a:pt x="78" y="61"/>
                  </a:lnTo>
                  <a:lnTo>
                    <a:pt x="86" y="65"/>
                  </a:lnTo>
                  <a:lnTo>
                    <a:pt x="88" y="69"/>
                  </a:lnTo>
                  <a:lnTo>
                    <a:pt x="98" y="71"/>
                  </a:lnTo>
                  <a:lnTo>
                    <a:pt x="106" y="77"/>
                  </a:lnTo>
                  <a:lnTo>
                    <a:pt x="108" y="83"/>
                  </a:lnTo>
                  <a:lnTo>
                    <a:pt x="106" y="87"/>
                  </a:lnTo>
                  <a:lnTo>
                    <a:pt x="110" y="87"/>
                  </a:lnTo>
                  <a:lnTo>
                    <a:pt x="116" y="83"/>
                  </a:lnTo>
                  <a:lnTo>
                    <a:pt x="122" y="87"/>
                  </a:lnTo>
                  <a:lnTo>
                    <a:pt x="124" y="87"/>
                  </a:lnTo>
                  <a:lnTo>
                    <a:pt x="126" y="89"/>
                  </a:lnTo>
                  <a:lnTo>
                    <a:pt x="130" y="95"/>
                  </a:lnTo>
                  <a:lnTo>
                    <a:pt x="136" y="97"/>
                  </a:lnTo>
                  <a:lnTo>
                    <a:pt x="142" y="105"/>
                  </a:lnTo>
                  <a:lnTo>
                    <a:pt x="144" y="111"/>
                  </a:lnTo>
                  <a:lnTo>
                    <a:pt x="146" y="125"/>
                  </a:lnTo>
                  <a:lnTo>
                    <a:pt x="142" y="131"/>
                  </a:lnTo>
                  <a:lnTo>
                    <a:pt x="138" y="137"/>
                  </a:lnTo>
                  <a:lnTo>
                    <a:pt x="142" y="141"/>
                  </a:lnTo>
                  <a:lnTo>
                    <a:pt x="146" y="147"/>
                  </a:lnTo>
                  <a:lnTo>
                    <a:pt x="144" y="151"/>
                  </a:lnTo>
                  <a:lnTo>
                    <a:pt x="136" y="159"/>
                  </a:lnTo>
                  <a:lnTo>
                    <a:pt x="126" y="159"/>
                  </a:lnTo>
                  <a:lnTo>
                    <a:pt x="120" y="159"/>
                  </a:lnTo>
                  <a:lnTo>
                    <a:pt x="116" y="163"/>
                  </a:lnTo>
                  <a:lnTo>
                    <a:pt x="118" y="167"/>
                  </a:lnTo>
                  <a:lnTo>
                    <a:pt x="116" y="167"/>
                  </a:lnTo>
                  <a:lnTo>
                    <a:pt x="114" y="167"/>
                  </a:lnTo>
                  <a:lnTo>
                    <a:pt x="116" y="177"/>
                  </a:lnTo>
                  <a:lnTo>
                    <a:pt x="122" y="183"/>
                  </a:lnTo>
                  <a:lnTo>
                    <a:pt x="130" y="181"/>
                  </a:lnTo>
                  <a:lnTo>
                    <a:pt x="136" y="175"/>
                  </a:lnTo>
                  <a:lnTo>
                    <a:pt x="136" y="171"/>
                  </a:lnTo>
                  <a:lnTo>
                    <a:pt x="142" y="171"/>
                  </a:lnTo>
                  <a:lnTo>
                    <a:pt x="142" y="173"/>
                  </a:lnTo>
                  <a:lnTo>
                    <a:pt x="146" y="173"/>
                  </a:lnTo>
                  <a:lnTo>
                    <a:pt x="146" y="167"/>
                  </a:lnTo>
                  <a:lnTo>
                    <a:pt x="148" y="165"/>
                  </a:lnTo>
                  <a:lnTo>
                    <a:pt x="152" y="16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60"/>
            <p:cNvSpPr/>
            <p:nvPr/>
          </p:nvSpPr>
          <p:spPr>
            <a:xfrm>
              <a:off x="7192800" y="520812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" y="0"/>
                  </a:moveTo>
                  <a:lnTo>
                    <a:pt x="10" y="4"/>
                  </a:lnTo>
                  <a:lnTo>
                    <a:pt x="16" y="10"/>
                  </a:lnTo>
                  <a:lnTo>
                    <a:pt x="18" y="4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2" y="22"/>
                  </a:lnTo>
                  <a:lnTo>
                    <a:pt x="48" y="24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0" y="32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4" y="38"/>
                  </a:lnTo>
                  <a:lnTo>
                    <a:pt x="40" y="34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0" y="38"/>
                  </a:lnTo>
                  <a:lnTo>
                    <a:pt x="28" y="42"/>
                  </a:lnTo>
                  <a:lnTo>
                    <a:pt x="24" y="44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6" y="34"/>
                  </a:lnTo>
                  <a:lnTo>
                    <a:pt x="6" y="24"/>
                  </a:lnTo>
                  <a:lnTo>
                    <a:pt x="6" y="14"/>
                  </a:lnTo>
                  <a:lnTo>
                    <a:pt x="4" y="8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1"/>
            <p:cNvSpPr/>
            <p:nvPr/>
          </p:nvSpPr>
          <p:spPr>
            <a:xfrm>
              <a:off x="7297560" y="5097240"/>
              <a:ext cx="2556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2" y="0"/>
                  </a:moveTo>
                  <a:lnTo>
                    <a:pt x="14" y="8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6" y="22"/>
                  </a:lnTo>
                  <a:lnTo>
                    <a:pt x="0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7068960" y="49399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8" y="2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34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4" y="28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6" y="43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3"/>
            <p:cNvSpPr/>
            <p:nvPr/>
          </p:nvSpPr>
          <p:spPr>
            <a:xfrm>
              <a:off x="7002360" y="4946400"/>
              <a:ext cx="60480" cy="8676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14" y="0"/>
                  </a:moveTo>
                  <a:lnTo>
                    <a:pt x="22" y="0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6" y="4"/>
                  </a:lnTo>
                  <a:lnTo>
                    <a:pt x="34" y="10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34" y="20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38" y="39"/>
                  </a:lnTo>
                  <a:lnTo>
                    <a:pt x="38" y="41"/>
                  </a:lnTo>
                  <a:lnTo>
                    <a:pt x="36" y="43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18" y="53"/>
                  </a:lnTo>
                  <a:lnTo>
                    <a:pt x="14" y="41"/>
                  </a:lnTo>
                  <a:lnTo>
                    <a:pt x="10" y="35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2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64"/>
            <p:cNvSpPr/>
            <p:nvPr/>
          </p:nvSpPr>
          <p:spPr>
            <a:xfrm>
              <a:off x="7018200" y="4854240"/>
              <a:ext cx="38160" cy="568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4" y="6"/>
                  </a:moveTo>
                  <a:lnTo>
                    <a:pt x="10" y="14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2" y="32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6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65"/>
            <p:cNvSpPr/>
            <p:nvPr/>
          </p:nvSpPr>
          <p:spPr>
            <a:xfrm>
              <a:off x="7062840" y="4844880"/>
              <a:ext cx="146160" cy="78840"/>
            </a:xfrm>
            <a:custGeom>
              <a:avLst/>
              <a:gdLst/>
              <a:ahLst/>
              <a:rect l="l" t="t" r="r" b="b"/>
              <a:pathLst>
                <a:path w="92" h="50">
                  <a:moveTo>
                    <a:pt x="4" y="0"/>
                  </a:moveTo>
                  <a:lnTo>
                    <a:pt x="12" y="2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50" y="30"/>
                  </a:lnTo>
                  <a:lnTo>
                    <a:pt x="62" y="24"/>
                  </a:lnTo>
                  <a:lnTo>
                    <a:pt x="70" y="20"/>
                  </a:lnTo>
                  <a:lnTo>
                    <a:pt x="76" y="18"/>
                  </a:lnTo>
                  <a:lnTo>
                    <a:pt x="86" y="20"/>
                  </a:lnTo>
                  <a:lnTo>
                    <a:pt x="92" y="24"/>
                  </a:lnTo>
                  <a:lnTo>
                    <a:pt x="92" y="28"/>
                  </a:lnTo>
                  <a:lnTo>
                    <a:pt x="92" y="34"/>
                  </a:lnTo>
                  <a:lnTo>
                    <a:pt x="92" y="38"/>
                  </a:lnTo>
                  <a:lnTo>
                    <a:pt x="88" y="44"/>
                  </a:lnTo>
                  <a:lnTo>
                    <a:pt x="80" y="46"/>
                  </a:lnTo>
                  <a:lnTo>
                    <a:pt x="76" y="42"/>
                  </a:lnTo>
                  <a:lnTo>
                    <a:pt x="72" y="46"/>
                  </a:lnTo>
                  <a:lnTo>
                    <a:pt x="70" y="48"/>
                  </a:lnTo>
                  <a:lnTo>
                    <a:pt x="64" y="48"/>
                  </a:lnTo>
                  <a:lnTo>
                    <a:pt x="54" y="48"/>
                  </a:lnTo>
                  <a:lnTo>
                    <a:pt x="48" y="50"/>
                  </a:lnTo>
                  <a:lnTo>
                    <a:pt x="46" y="46"/>
                  </a:lnTo>
                  <a:lnTo>
                    <a:pt x="42" y="46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6" y="48"/>
                  </a:lnTo>
                  <a:lnTo>
                    <a:pt x="22" y="38"/>
                  </a:lnTo>
                  <a:lnTo>
                    <a:pt x="22" y="30"/>
                  </a:lnTo>
                  <a:lnTo>
                    <a:pt x="24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66"/>
            <p:cNvSpPr/>
            <p:nvPr/>
          </p:nvSpPr>
          <p:spPr>
            <a:xfrm>
              <a:off x="7062840" y="4892400"/>
              <a:ext cx="28440" cy="28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0"/>
                  </a:moveTo>
                  <a:lnTo>
                    <a:pt x="16" y="4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67"/>
            <p:cNvSpPr/>
            <p:nvPr/>
          </p:nvSpPr>
          <p:spPr>
            <a:xfrm>
              <a:off x="7068960" y="4695480"/>
              <a:ext cx="73080" cy="10764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14" y="0"/>
                  </a:moveTo>
                  <a:lnTo>
                    <a:pt x="18" y="10"/>
                  </a:lnTo>
                  <a:lnTo>
                    <a:pt x="20" y="14"/>
                  </a:lnTo>
                  <a:lnTo>
                    <a:pt x="24" y="22"/>
                  </a:lnTo>
                  <a:lnTo>
                    <a:pt x="32" y="26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46" y="44"/>
                  </a:lnTo>
                  <a:lnTo>
                    <a:pt x="40" y="48"/>
                  </a:lnTo>
                  <a:lnTo>
                    <a:pt x="36" y="52"/>
                  </a:lnTo>
                  <a:lnTo>
                    <a:pt x="34" y="58"/>
                  </a:lnTo>
                  <a:lnTo>
                    <a:pt x="28" y="64"/>
                  </a:lnTo>
                  <a:lnTo>
                    <a:pt x="22" y="68"/>
                  </a:lnTo>
                  <a:lnTo>
                    <a:pt x="16" y="62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4" y="46"/>
                  </a:lnTo>
                  <a:lnTo>
                    <a:pt x="16" y="42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68"/>
            <p:cNvSpPr/>
            <p:nvPr/>
          </p:nvSpPr>
          <p:spPr>
            <a:xfrm>
              <a:off x="7008840" y="4759200"/>
              <a:ext cx="38160" cy="56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4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24" y="28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18" y="32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69"/>
            <p:cNvSpPr/>
            <p:nvPr/>
          </p:nvSpPr>
          <p:spPr>
            <a:xfrm>
              <a:off x="7097760" y="4610160"/>
              <a:ext cx="133200" cy="25380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18" y="26"/>
                  </a:moveTo>
                  <a:lnTo>
                    <a:pt x="22" y="30"/>
                  </a:lnTo>
                  <a:lnTo>
                    <a:pt x="24" y="2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34" y="12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2" y="8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4" y="30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8"/>
                  </a:lnTo>
                  <a:lnTo>
                    <a:pt x="76" y="34"/>
                  </a:lnTo>
                  <a:lnTo>
                    <a:pt x="78" y="28"/>
                  </a:lnTo>
                  <a:lnTo>
                    <a:pt x="84" y="26"/>
                  </a:lnTo>
                  <a:lnTo>
                    <a:pt x="84" y="32"/>
                  </a:lnTo>
                  <a:lnTo>
                    <a:pt x="82" y="42"/>
                  </a:lnTo>
                  <a:lnTo>
                    <a:pt x="82" y="48"/>
                  </a:lnTo>
                  <a:lnTo>
                    <a:pt x="76" y="58"/>
                  </a:lnTo>
                  <a:lnTo>
                    <a:pt x="74" y="60"/>
                  </a:lnTo>
                  <a:lnTo>
                    <a:pt x="76" y="66"/>
                  </a:lnTo>
                  <a:lnTo>
                    <a:pt x="76" y="72"/>
                  </a:lnTo>
                  <a:lnTo>
                    <a:pt x="74" y="74"/>
                  </a:lnTo>
                  <a:lnTo>
                    <a:pt x="68" y="76"/>
                  </a:lnTo>
                  <a:lnTo>
                    <a:pt x="70" y="80"/>
                  </a:lnTo>
                  <a:lnTo>
                    <a:pt x="66" y="82"/>
                  </a:lnTo>
                  <a:lnTo>
                    <a:pt x="62" y="82"/>
                  </a:lnTo>
                  <a:lnTo>
                    <a:pt x="58" y="86"/>
                  </a:lnTo>
                  <a:lnTo>
                    <a:pt x="60" y="90"/>
                  </a:lnTo>
                  <a:lnTo>
                    <a:pt x="62" y="92"/>
                  </a:lnTo>
                  <a:lnTo>
                    <a:pt x="68" y="94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0" y="104"/>
                  </a:lnTo>
                  <a:lnTo>
                    <a:pt x="72" y="110"/>
                  </a:lnTo>
                  <a:lnTo>
                    <a:pt x="68" y="112"/>
                  </a:lnTo>
                  <a:lnTo>
                    <a:pt x="68" y="118"/>
                  </a:lnTo>
                  <a:lnTo>
                    <a:pt x="62" y="118"/>
                  </a:lnTo>
                  <a:lnTo>
                    <a:pt x="62" y="122"/>
                  </a:lnTo>
                  <a:lnTo>
                    <a:pt x="64" y="124"/>
                  </a:lnTo>
                  <a:lnTo>
                    <a:pt x="66" y="128"/>
                  </a:lnTo>
                  <a:lnTo>
                    <a:pt x="62" y="130"/>
                  </a:lnTo>
                  <a:lnTo>
                    <a:pt x="56" y="130"/>
                  </a:lnTo>
                  <a:lnTo>
                    <a:pt x="54" y="130"/>
                  </a:lnTo>
                  <a:lnTo>
                    <a:pt x="50" y="128"/>
                  </a:lnTo>
                  <a:lnTo>
                    <a:pt x="48" y="132"/>
                  </a:lnTo>
                  <a:lnTo>
                    <a:pt x="50" y="136"/>
                  </a:lnTo>
                  <a:lnTo>
                    <a:pt x="58" y="136"/>
                  </a:lnTo>
                  <a:lnTo>
                    <a:pt x="62" y="138"/>
                  </a:lnTo>
                  <a:lnTo>
                    <a:pt x="66" y="140"/>
                  </a:lnTo>
                  <a:lnTo>
                    <a:pt x="70" y="138"/>
                  </a:lnTo>
                  <a:lnTo>
                    <a:pt x="70" y="144"/>
                  </a:lnTo>
                  <a:lnTo>
                    <a:pt x="66" y="150"/>
                  </a:lnTo>
                  <a:lnTo>
                    <a:pt x="62" y="154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4" y="150"/>
                  </a:lnTo>
                  <a:lnTo>
                    <a:pt x="48" y="154"/>
                  </a:lnTo>
                  <a:lnTo>
                    <a:pt x="44" y="152"/>
                  </a:lnTo>
                  <a:lnTo>
                    <a:pt x="40" y="154"/>
                  </a:lnTo>
                  <a:lnTo>
                    <a:pt x="40" y="156"/>
                  </a:lnTo>
                  <a:lnTo>
                    <a:pt x="38" y="160"/>
                  </a:lnTo>
                  <a:lnTo>
                    <a:pt x="32" y="158"/>
                  </a:lnTo>
                  <a:lnTo>
                    <a:pt x="28" y="158"/>
                  </a:lnTo>
                  <a:lnTo>
                    <a:pt x="24" y="160"/>
                  </a:lnTo>
                  <a:lnTo>
                    <a:pt x="18" y="158"/>
                  </a:lnTo>
                  <a:lnTo>
                    <a:pt x="14" y="154"/>
                  </a:lnTo>
                  <a:lnTo>
                    <a:pt x="16" y="146"/>
                  </a:lnTo>
                  <a:lnTo>
                    <a:pt x="18" y="144"/>
                  </a:lnTo>
                  <a:lnTo>
                    <a:pt x="22" y="142"/>
                  </a:lnTo>
                  <a:lnTo>
                    <a:pt x="24" y="138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6"/>
                  </a:lnTo>
                  <a:lnTo>
                    <a:pt x="28" y="130"/>
                  </a:lnTo>
                  <a:lnTo>
                    <a:pt x="32" y="134"/>
                  </a:lnTo>
                  <a:lnTo>
                    <a:pt x="38" y="136"/>
                  </a:lnTo>
                  <a:lnTo>
                    <a:pt x="42" y="132"/>
                  </a:lnTo>
                  <a:lnTo>
                    <a:pt x="38" y="128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0" y="128"/>
                  </a:lnTo>
                  <a:lnTo>
                    <a:pt x="32" y="122"/>
                  </a:lnTo>
                  <a:lnTo>
                    <a:pt x="28" y="120"/>
                  </a:lnTo>
                  <a:lnTo>
                    <a:pt x="24" y="120"/>
                  </a:lnTo>
                  <a:lnTo>
                    <a:pt x="20" y="114"/>
                  </a:lnTo>
                  <a:lnTo>
                    <a:pt x="22" y="108"/>
                  </a:lnTo>
                  <a:lnTo>
                    <a:pt x="26" y="104"/>
                  </a:lnTo>
                  <a:lnTo>
                    <a:pt x="32" y="104"/>
                  </a:lnTo>
                  <a:lnTo>
                    <a:pt x="38" y="106"/>
                  </a:lnTo>
                  <a:lnTo>
                    <a:pt x="42" y="102"/>
                  </a:lnTo>
                  <a:lnTo>
                    <a:pt x="42" y="100"/>
                  </a:lnTo>
                  <a:lnTo>
                    <a:pt x="38" y="100"/>
                  </a:lnTo>
                  <a:lnTo>
                    <a:pt x="34" y="98"/>
                  </a:lnTo>
                  <a:lnTo>
                    <a:pt x="30" y="94"/>
                  </a:lnTo>
                  <a:lnTo>
                    <a:pt x="28" y="90"/>
                  </a:lnTo>
                  <a:lnTo>
                    <a:pt x="26" y="86"/>
                  </a:lnTo>
                  <a:lnTo>
                    <a:pt x="20" y="84"/>
                  </a:lnTo>
                  <a:lnTo>
                    <a:pt x="20" y="78"/>
                  </a:lnTo>
                  <a:lnTo>
                    <a:pt x="20" y="76"/>
                  </a:lnTo>
                  <a:lnTo>
                    <a:pt x="20" y="74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6" y="82"/>
                  </a:lnTo>
                  <a:lnTo>
                    <a:pt x="40" y="84"/>
                  </a:lnTo>
                  <a:lnTo>
                    <a:pt x="40" y="80"/>
                  </a:lnTo>
                  <a:lnTo>
                    <a:pt x="36" y="76"/>
                  </a:lnTo>
                  <a:lnTo>
                    <a:pt x="34" y="72"/>
                  </a:lnTo>
                  <a:lnTo>
                    <a:pt x="34" y="68"/>
                  </a:lnTo>
                  <a:lnTo>
                    <a:pt x="38" y="66"/>
                  </a:lnTo>
                  <a:lnTo>
                    <a:pt x="42" y="64"/>
                  </a:lnTo>
                  <a:lnTo>
                    <a:pt x="44" y="60"/>
                  </a:lnTo>
                  <a:lnTo>
                    <a:pt x="46" y="56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28" y="64"/>
                  </a:lnTo>
                  <a:lnTo>
                    <a:pt x="26" y="68"/>
                  </a:lnTo>
                  <a:lnTo>
                    <a:pt x="20" y="68"/>
                  </a:lnTo>
                  <a:lnTo>
                    <a:pt x="18" y="62"/>
                  </a:lnTo>
                  <a:lnTo>
                    <a:pt x="16" y="60"/>
                  </a:lnTo>
                  <a:lnTo>
                    <a:pt x="18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0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70"/>
            <p:cNvSpPr/>
            <p:nvPr/>
          </p:nvSpPr>
          <p:spPr>
            <a:xfrm>
              <a:off x="7053120" y="4784400"/>
              <a:ext cx="25560" cy="280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12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4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71"/>
            <p:cNvSpPr/>
            <p:nvPr/>
          </p:nvSpPr>
          <p:spPr>
            <a:xfrm>
              <a:off x="7024680" y="5081400"/>
              <a:ext cx="44280" cy="43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"/>
                  </a:moveTo>
                  <a:lnTo>
                    <a:pt x="18" y="10"/>
                  </a:lnTo>
                  <a:lnTo>
                    <a:pt x="26" y="16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72"/>
            <p:cNvSpPr/>
            <p:nvPr/>
          </p:nvSpPr>
          <p:spPr>
            <a:xfrm>
              <a:off x="7300800" y="5300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6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7211880" y="4936680"/>
              <a:ext cx="47880" cy="3456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" y="0"/>
                  </a:moveTo>
                  <a:lnTo>
                    <a:pt x="10" y="2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4"/>
            <p:cNvSpPr/>
            <p:nvPr/>
          </p:nvSpPr>
          <p:spPr>
            <a:xfrm>
              <a:off x="6407280" y="5163840"/>
              <a:ext cx="269640" cy="547200"/>
            </a:xfrm>
            <a:custGeom>
              <a:avLst/>
              <a:gdLst/>
              <a:ahLst/>
              <a:rect l="l" t="t" r="r" b="b"/>
              <a:pathLst>
                <a:path w="170" h="345">
                  <a:moveTo>
                    <a:pt x="0" y="0"/>
                  </a:moveTo>
                  <a:lnTo>
                    <a:pt x="12" y="12"/>
                  </a:lnTo>
                  <a:lnTo>
                    <a:pt x="48" y="36"/>
                  </a:lnTo>
                  <a:lnTo>
                    <a:pt x="80" y="58"/>
                  </a:lnTo>
                  <a:lnTo>
                    <a:pt x="108" y="74"/>
                  </a:lnTo>
                  <a:lnTo>
                    <a:pt x="130" y="86"/>
                  </a:lnTo>
                  <a:lnTo>
                    <a:pt x="152" y="98"/>
                  </a:lnTo>
                  <a:lnTo>
                    <a:pt x="170" y="104"/>
                  </a:lnTo>
                  <a:lnTo>
                    <a:pt x="120" y="223"/>
                  </a:lnTo>
                  <a:lnTo>
                    <a:pt x="128" y="241"/>
                  </a:lnTo>
                  <a:lnTo>
                    <a:pt x="134" y="257"/>
                  </a:lnTo>
                  <a:lnTo>
                    <a:pt x="140" y="269"/>
                  </a:lnTo>
                  <a:lnTo>
                    <a:pt x="148" y="287"/>
                  </a:lnTo>
                  <a:lnTo>
                    <a:pt x="152" y="299"/>
                  </a:lnTo>
                  <a:lnTo>
                    <a:pt x="158" y="313"/>
                  </a:lnTo>
                  <a:lnTo>
                    <a:pt x="158" y="321"/>
                  </a:lnTo>
                  <a:lnTo>
                    <a:pt x="154" y="331"/>
                  </a:lnTo>
                  <a:lnTo>
                    <a:pt x="156" y="335"/>
                  </a:lnTo>
                  <a:lnTo>
                    <a:pt x="160" y="345"/>
                  </a:lnTo>
                  <a:lnTo>
                    <a:pt x="134" y="337"/>
                  </a:lnTo>
                  <a:lnTo>
                    <a:pt x="104" y="325"/>
                  </a:lnTo>
                  <a:lnTo>
                    <a:pt x="74" y="315"/>
                  </a:lnTo>
                  <a:lnTo>
                    <a:pt x="58" y="307"/>
                  </a:lnTo>
                  <a:lnTo>
                    <a:pt x="42" y="299"/>
                  </a:lnTo>
                  <a:lnTo>
                    <a:pt x="44" y="291"/>
                  </a:lnTo>
                  <a:lnTo>
                    <a:pt x="38" y="289"/>
                  </a:lnTo>
                  <a:lnTo>
                    <a:pt x="32" y="281"/>
                  </a:lnTo>
                  <a:lnTo>
                    <a:pt x="28" y="271"/>
                  </a:lnTo>
                  <a:lnTo>
                    <a:pt x="32" y="265"/>
                  </a:lnTo>
                  <a:lnTo>
                    <a:pt x="28" y="261"/>
                  </a:lnTo>
                  <a:lnTo>
                    <a:pt x="22" y="259"/>
                  </a:lnTo>
                  <a:lnTo>
                    <a:pt x="18" y="251"/>
                  </a:lnTo>
                  <a:lnTo>
                    <a:pt x="18" y="245"/>
                  </a:lnTo>
                  <a:lnTo>
                    <a:pt x="14" y="239"/>
                  </a:lnTo>
                  <a:lnTo>
                    <a:pt x="8" y="237"/>
                  </a:lnTo>
                  <a:lnTo>
                    <a:pt x="6" y="231"/>
                  </a:lnTo>
                  <a:lnTo>
                    <a:pt x="6" y="227"/>
                  </a:lnTo>
                  <a:lnTo>
                    <a:pt x="10" y="223"/>
                  </a:lnTo>
                  <a:lnTo>
                    <a:pt x="10" y="219"/>
                  </a:lnTo>
                  <a:lnTo>
                    <a:pt x="12" y="215"/>
                  </a:lnTo>
                  <a:lnTo>
                    <a:pt x="18" y="215"/>
                  </a:lnTo>
                  <a:lnTo>
                    <a:pt x="24" y="213"/>
                  </a:lnTo>
                  <a:lnTo>
                    <a:pt x="24" y="209"/>
                  </a:lnTo>
                  <a:lnTo>
                    <a:pt x="20" y="207"/>
                  </a:lnTo>
                  <a:lnTo>
                    <a:pt x="14" y="206"/>
                  </a:lnTo>
                  <a:lnTo>
                    <a:pt x="14" y="202"/>
                  </a:lnTo>
                  <a:lnTo>
                    <a:pt x="18" y="200"/>
                  </a:lnTo>
                  <a:lnTo>
                    <a:pt x="14" y="196"/>
                  </a:lnTo>
                  <a:lnTo>
                    <a:pt x="12" y="194"/>
                  </a:lnTo>
                  <a:lnTo>
                    <a:pt x="10" y="198"/>
                  </a:lnTo>
                  <a:lnTo>
                    <a:pt x="6" y="192"/>
                  </a:lnTo>
                  <a:lnTo>
                    <a:pt x="8" y="186"/>
                  </a:lnTo>
                  <a:lnTo>
                    <a:pt x="14" y="182"/>
                  </a:lnTo>
                  <a:lnTo>
                    <a:pt x="18" y="178"/>
                  </a:lnTo>
                  <a:lnTo>
                    <a:pt x="22" y="174"/>
                  </a:lnTo>
                  <a:lnTo>
                    <a:pt x="14" y="176"/>
                  </a:lnTo>
                  <a:lnTo>
                    <a:pt x="8" y="176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8" y="164"/>
                  </a:lnTo>
                  <a:lnTo>
                    <a:pt x="10" y="156"/>
                  </a:lnTo>
                  <a:lnTo>
                    <a:pt x="12" y="150"/>
                  </a:lnTo>
                  <a:lnTo>
                    <a:pt x="16" y="146"/>
                  </a:lnTo>
                  <a:lnTo>
                    <a:pt x="22" y="140"/>
                  </a:lnTo>
                  <a:lnTo>
                    <a:pt x="26" y="136"/>
                  </a:lnTo>
                  <a:lnTo>
                    <a:pt x="28" y="130"/>
                  </a:lnTo>
                  <a:lnTo>
                    <a:pt x="32" y="126"/>
                  </a:lnTo>
                  <a:lnTo>
                    <a:pt x="28" y="114"/>
                  </a:lnTo>
                  <a:lnTo>
                    <a:pt x="22" y="104"/>
                  </a:lnTo>
                  <a:lnTo>
                    <a:pt x="24" y="90"/>
                  </a:lnTo>
                  <a:lnTo>
                    <a:pt x="26" y="74"/>
                  </a:lnTo>
                  <a:lnTo>
                    <a:pt x="26" y="60"/>
                  </a:lnTo>
                  <a:lnTo>
                    <a:pt x="26" y="46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4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5"/>
            <p:cNvSpPr/>
            <p:nvPr/>
          </p:nvSpPr>
          <p:spPr>
            <a:xfrm>
              <a:off x="6394320" y="5533560"/>
              <a:ext cx="63720" cy="11736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6" y="8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4" y="14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0" y="30"/>
                  </a:lnTo>
                  <a:lnTo>
                    <a:pt x="28" y="34"/>
                  </a:lnTo>
                  <a:lnTo>
                    <a:pt x="30" y="44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40" y="60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30" y="68"/>
                  </a:lnTo>
                  <a:lnTo>
                    <a:pt x="28" y="66"/>
                  </a:lnTo>
                  <a:lnTo>
                    <a:pt x="24" y="64"/>
                  </a:lnTo>
                  <a:lnTo>
                    <a:pt x="22" y="58"/>
                  </a:lnTo>
                  <a:lnTo>
                    <a:pt x="22" y="54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6"/>
            <p:cNvSpPr/>
            <p:nvPr/>
          </p:nvSpPr>
          <p:spPr>
            <a:xfrm>
              <a:off x="6362640" y="5389200"/>
              <a:ext cx="31680" cy="694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8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70"/>
          <p:cNvGrpSpPr/>
          <p:nvPr/>
        </p:nvGrpSpPr>
        <p:grpSpPr>
          <a:xfrm>
            <a:off x="6276960" y="6121440"/>
            <a:ext cx="1573200" cy="374400"/>
            <a:chOff x="6276960" y="6121440"/>
            <a:chExt cx="1573200" cy="374400"/>
          </a:xfrm>
        </p:grpSpPr>
        <p:sp>
          <p:nvSpPr>
            <p:cNvPr id="88" name="Rectangle 156"/>
            <p:cNvSpPr/>
            <p:nvPr/>
          </p:nvSpPr>
          <p:spPr>
            <a:xfrm>
              <a:off x="6676200" y="6121440"/>
              <a:ext cx="62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le/Eche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57"/>
            <p:cNvSpPr/>
            <p:nvPr/>
          </p:nvSpPr>
          <p:spPr>
            <a:xfrm>
              <a:off x="6276960" y="6281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58"/>
            <p:cNvSpPr/>
            <p:nvPr/>
          </p:nvSpPr>
          <p:spPr>
            <a:xfrm>
              <a:off x="6680520" y="6281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59"/>
            <p:cNvSpPr/>
            <p:nvPr/>
          </p:nvSpPr>
          <p:spPr>
            <a:xfrm>
              <a:off x="7121880" y="6281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60"/>
            <p:cNvSpPr/>
            <p:nvPr/>
          </p:nvSpPr>
          <p:spPr>
            <a:xfrm>
              <a:off x="7514280" y="6281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61"/>
            <p:cNvSpPr/>
            <p:nvPr/>
          </p:nvSpPr>
          <p:spPr>
            <a:xfrm>
              <a:off x="7712280" y="6373800"/>
              <a:ext cx="13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62"/>
            <p:cNvSpPr/>
            <p:nvPr/>
          </p:nvSpPr>
          <p:spPr>
            <a:xfrm>
              <a:off x="6311880" y="6408720"/>
              <a:ext cx="1292400" cy="54000"/>
            </a:xfrm>
            <a:custGeom>
              <a:avLst/>
              <a:gdLst/>
              <a:ahLst/>
              <a:rect l="l" t="t" r="r" b="b"/>
              <a:pathLst>
                <a:path w="814" h="34">
                  <a:moveTo>
                    <a:pt x="0" y="2"/>
                  </a:moveTo>
                  <a:lnTo>
                    <a:pt x="0" y="34"/>
                  </a:lnTo>
                  <a:lnTo>
                    <a:pt x="814" y="34"/>
                  </a:lnTo>
                  <a:lnTo>
                    <a:pt x="81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63"/>
            <p:cNvSpPr/>
            <p:nvPr/>
          </p:nvSpPr>
          <p:spPr>
            <a:xfrm>
              <a:off x="6745320" y="64152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64"/>
            <p:cNvSpPr/>
            <p:nvPr/>
          </p:nvSpPr>
          <p:spPr>
            <a:xfrm>
              <a:off x="7176960" y="6411960"/>
              <a:ext cx="180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66"/>
          <p:cNvGrpSpPr/>
          <p:nvPr/>
        </p:nvGrpSpPr>
        <p:grpSpPr>
          <a:xfrm>
            <a:off x="94320" y="6578640"/>
            <a:ext cx="3305160" cy="227520"/>
            <a:chOff x="94320" y="6578640"/>
            <a:chExt cx="3305160" cy="227520"/>
          </a:xfrm>
        </p:grpSpPr>
        <p:sp>
          <p:nvSpPr>
            <p:cNvPr id="98" name="Rectangle 167"/>
            <p:cNvSpPr/>
            <p:nvPr/>
          </p:nvSpPr>
          <p:spPr>
            <a:xfrm>
              <a:off x="99360" y="6578640"/>
              <a:ext cx="330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© 2000-2006 Her Majesty the Queen in Right of Canada, Natural Resources Can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8"/>
            <p:cNvSpPr/>
            <p:nvPr/>
          </p:nvSpPr>
          <p:spPr>
            <a:xfrm>
              <a:off x="94320" y="6699240"/>
              <a:ext cx="2806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a Majesté la Reine du chef du Canada, Ressources naturelles Can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Freeform 171"/>
          <p:cNvSpPr/>
          <p:nvPr/>
        </p:nvSpPr>
        <p:spPr>
          <a:xfrm>
            <a:off x="1152360" y="1189080"/>
            <a:ext cx="5286600" cy="4405320"/>
          </a:xfrm>
          <a:custGeom>
            <a:avLst/>
            <a:gdLst/>
            <a:ahLst/>
            <a:rect l="l" t="t" r="r" b="b"/>
            <a:pathLst>
              <a:path w="3330" h="2775">
                <a:moveTo>
                  <a:pt x="439" y="84"/>
                </a:moveTo>
                <a:lnTo>
                  <a:pt x="589" y="88"/>
                </a:lnTo>
                <a:lnTo>
                  <a:pt x="615" y="20"/>
                </a:lnTo>
                <a:lnTo>
                  <a:pt x="924" y="36"/>
                </a:lnTo>
                <a:lnTo>
                  <a:pt x="918" y="78"/>
                </a:lnTo>
                <a:lnTo>
                  <a:pt x="972" y="110"/>
                </a:lnTo>
                <a:lnTo>
                  <a:pt x="1020" y="148"/>
                </a:lnTo>
                <a:lnTo>
                  <a:pt x="1068" y="158"/>
                </a:lnTo>
                <a:lnTo>
                  <a:pt x="1218" y="126"/>
                </a:lnTo>
                <a:lnTo>
                  <a:pt x="1260" y="110"/>
                </a:lnTo>
                <a:lnTo>
                  <a:pt x="1286" y="136"/>
                </a:lnTo>
                <a:lnTo>
                  <a:pt x="1318" y="136"/>
                </a:lnTo>
                <a:lnTo>
                  <a:pt x="1330" y="62"/>
                </a:lnTo>
                <a:lnTo>
                  <a:pt x="1357" y="40"/>
                </a:lnTo>
                <a:lnTo>
                  <a:pt x="1405" y="60"/>
                </a:lnTo>
                <a:lnTo>
                  <a:pt x="1477" y="60"/>
                </a:lnTo>
                <a:lnTo>
                  <a:pt x="1549" y="44"/>
                </a:lnTo>
                <a:lnTo>
                  <a:pt x="1609" y="20"/>
                </a:lnTo>
                <a:lnTo>
                  <a:pt x="1649" y="0"/>
                </a:lnTo>
                <a:lnTo>
                  <a:pt x="1677" y="0"/>
                </a:lnTo>
                <a:lnTo>
                  <a:pt x="1693" y="24"/>
                </a:lnTo>
                <a:lnTo>
                  <a:pt x="1693" y="48"/>
                </a:lnTo>
                <a:lnTo>
                  <a:pt x="1721" y="56"/>
                </a:lnTo>
                <a:lnTo>
                  <a:pt x="1761" y="80"/>
                </a:lnTo>
                <a:lnTo>
                  <a:pt x="1817" y="88"/>
                </a:lnTo>
                <a:lnTo>
                  <a:pt x="1853" y="124"/>
                </a:lnTo>
                <a:lnTo>
                  <a:pt x="1904" y="136"/>
                </a:lnTo>
                <a:lnTo>
                  <a:pt x="1940" y="140"/>
                </a:lnTo>
                <a:lnTo>
                  <a:pt x="2008" y="160"/>
                </a:lnTo>
                <a:lnTo>
                  <a:pt x="2064" y="204"/>
                </a:lnTo>
                <a:lnTo>
                  <a:pt x="2080" y="231"/>
                </a:lnTo>
                <a:lnTo>
                  <a:pt x="2084" y="295"/>
                </a:lnTo>
                <a:lnTo>
                  <a:pt x="2104" y="335"/>
                </a:lnTo>
                <a:lnTo>
                  <a:pt x="2124" y="347"/>
                </a:lnTo>
                <a:lnTo>
                  <a:pt x="2108" y="399"/>
                </a:lnTo>
                <a:lnTo>
                  <a:pt x="2140" y="399"/>
                </a:lnTo>
                <a:lnTo>
                  <a:pt x="2152" y="363"/>
                </a:lnTo>
                <a:lnTo>
                  <a:pt x="2196" y="355"/>
                </a:lnTo>
                <a:lnTo>
                  <a:pt x="2260" y="331"/>
                </a:lnTo>
                <a:lnTo>
                  <a:pt x="2308" y="287"/>
                </a:lnTo>
                <a:lnTo>
                  <a:pt x="2376" y="247"/>
                </a:lnTo>
                <a:lnTo>
                  <a:pt x="2439" y="224"/>
                </a:lnTo>
                <a:lnTo>
                  <a:pt x="2483" y="220"/>
                </a:lnTo>
                <a:lnTo>
                  <a:pt x="2511" y="216"/>
                </a:lnTo>
                <a:lnTo>
                  <a:pt x="2543" y="220"/>
                </a:lnTo>
                <a:lnTo>
                  <a:pt x="2543" y="239"/>
                </a:lnTo>
                <a:lnTo>
                  <a:pt x="2519" y="243"/>
                </a:lnTo>
                <a:lnTo>
                  <a:pt x="2491" y="251"/>
                </a:lnTo>
                <a:lnTo>
                  <a:pt x="2499" y="271"/>
                </a:lnTo>
                <a:lnTo>
                  <a:pt x="2535" y="263"/>
                </a:lnTo>
                <a:lnTo>
                  <a:pt x="2575" y="247"/>
                </a:lnTo>
                <a:lnTo>
                  <a:pt x="2603" y="243"/>
                </a:lnTo>
                <a:lnTo>
                  <a:pt x="2639" y="247"/>
                </a:lnTo>
                <a:lnTo>
                  <a:pt x="2651" y="263"/>
                </a:lnTo>
                <a:lnTo>
                  <a:pt x="2627" y="275"/>
                </a:lnTo>
                <a:lnTo>
                  <a:pt x="2627" y="299"/>
                </a:lnTo>
                <a:lnTo>
                  <a:pt x="2651" y="299"/>
                </a:lnTo>
                <a:lnTo>
                  <a:pt x="2663" y="315"/>
                </a:lnTo>
                <a:lnTo>
                  <a:pt x="2695" y="303"/>
                </a:lnTo>
                <a:lnTo>
                  <a:pt x="2719" y="287"/>
                </a:lnTo>
                <a:lnTo>
                  <a:pt x="2723" y="307"/>
                </a:lnTo>
                <a:lnTo>
                  <a:pt x="2695" y="331"/>
                </a:lnTo>
                <a:lnTo>
                  <a:pt x="2675" y="347"/>
                </a:lnTo>
                <a:lnTo>
                  <a:pt x="2643" y="339"/>
                </a:lnTo>
                <a:lnTo>
                  <a:pt x="2619" y="339"/>
                </a:lnTo>
                <a:lnTo>
                  <a:pt x="2595" y="347"/>
                </a:lnTo>
                <a:lnTo>
                  <a:pt x="2615" y="363"/>
                </a:lnTo>
                <a:lnTo>
                  <a:pt x="2643" y="371"/>
                </a:lnTo>
                <a:lnTo>
                  <a:pt x="2655" y="383"/>
                </a:lnTo>
                <a:lnTo>
                  <a:pt x="2643" y="411"/>
                </a:lnTo>
                <a:lnTo>
                  <a:pt x="2631" y="443"/>
                </a:lnTo>
                <a:lnTo>
                  <a:pt x="2603" y="455"/>
                </a:lnTo>
                <a:lnTo>
                  <a:pt x="2591" y="479"/>
                </a:lnTo>
                <a:lnTo>
                  <a:pt x="2579" y="531"/>
                </a:lnTo>
                <a:lnTo>
                  <a:pt x="2603" y="546"/>
                </a:lnTo>
                <a:lnTo>
                  <a:pt x="2599" y="574"/>
                </a:lnTo>
                <a:lnTo>
                  <a:pt x="2591" y="626"/>
                </a:lnTo>
                <a:lnTo>
                  <a:pt x="2583" y="650"/>
                </a:lnTo>
                <a:lnTo>
                  <a:pt x="2551" y="654"/>
                </a:lnTo>
                <a:lnTo>
                  <a:pt x="2551" y="678"/>
                </a:lnTo>
                <a:lnTo>
                  <a:pt x="2535" y="710"/>
                </a:lnTo>
                <a:lnTo>
                  <a:pt x="2495" y="742"/>
                </a:lnTo>
                <a:lnTo>
                  <a:pt x="2459" y="778"/>
                </a:lnTo>
                <a:lnTo>
                  <a:pt x="2420" y="806"/>
                </a:lnTo>
                <a:lnTo>
                  <a:pt x="2388" y="842"/>
                </a:lnTo>
                <a:lnTo>
                  <a:pt x="2344" y="873"/>
                </a:lnTo>
                <a:lnTo>
                  <a:pt x="2332" y="893"/>
                </a:lnTo>
                <a:lnTo>
                  <a:pt x="2292" y="905"/>
                </a:lnTo>
                <a:lnTo>
                  <a:pt x="2300" y="929"/>
                </a:lnTo>
                <a:lnTo>
                  <a:pt x="2336" y="929"/>
                </a:lnTo>
                <a:lnTo>
                  <a:pt x="2376" y="913"/>
                </a:lnTo>
                <a:lnTo>
                  <a:pt x="2404" y="917"/>
                </a:lnTo>
                <a:lnTo>
                  <a:pt x="2408" y="925"/>
                </a:lnTo>
                <a:lnTo>
                  <a:pt x="2416" y="931"/>
                </a:lnTo>
                <a:lnTo>
                  <a:pt x="2420" y="933"/>
                </a:lnTo>
                <a:lnTo>
                  <a:pt x="2424" y="933"/>
                </a:lnTo>
                <a:lnTo>
                  <a:pt x="2445" y="931"/>
                </a:lnTo>
                <a:lnTo>
                  <a:pt x="2459" y="929"/>
                </a:lnTo>
                <a:lnTo>
                  <a:pt x="2469" y="923"/>
                </a:lnTo>
                <a:lnTo>
                  <a:pt x="2491" y="913"/>
                </a:lnTo>
                <a:lnTo>
                  <a:pt x="2511" y="909"/>
                </a:lnTo>
                <a:lnTo>
                  <a:pt x="2523" y="905"/>
                </a:lnTo>
                <a:lnTo>
                  <a:pt x="2555" y="917"/>
                </a:lnTo>
                <a:lnTo>
                  <a:pt x="2579" y="917"/>
                </a:lnTo>
                <a:lnTo>
                  <a:pt x="2599" y="901"/>
                </a:lnTo>
                <a:lnTo>
                  <a:pt x="2627" y="909"/>
                </a:lnTo>
                <a:lnTo>
                  <a:pt x="2651" y="913"/>
                </a:lnTo>
                <a:lnTo>
                  <a:pt x="2643" y="937"/>
                </a:lnTo>
                <a:lnTo>
                  <a:pt x="2659" y="973"/>
                </a:lnTo>
                <a:lnTo>
                  <a:pt x="2647" y="997"/>
                </a:lnTo>
                <a:lnTo>
                  <a:pt x="2619" y="1037"/>
                </a:lnTo>
                <a:lnTo>
                  <a:pt x="2603" y="1053"/>
                </a:lnTo>
                <a:lnTo>
                  <a:pt x="2599" y="1101"/>
                </a:lnTo>
                <a:lnTo>
                  <a:pt x="2571" y="1113"/>
                </a:lnTo>
                <a:lnTo>
                  <a:pt x="2571" y="1129"/>
                </a:lnTo>
                <a:lnTo>
                  <a:pt x="2599" y="1137"/>
                </a:lnTo>
                <a:lnTo>
                  <a:pt x="2603" y="1180"/>
                </a:lnTo>
                <a:lnTo>
                  <a:pt x="2611" y="1212"/>
                </a:lnTo>
                <a:lnTo>
                  <a:pt x="2627" y="1220"/>
                </a:lnTo>
                <a:lnTo>
                  <a:pt x="2643" y="1224"/>
                </a:lnTo>
                <a:lnTo>
                  <a:pt x="2639" y="1252"/>
                </a:lnTo>
                <a:lnTo>
                  <a:pt x="2631" y="1272"/>
                </a:lnTo>
                <a:lnTo>
                  <a:pt x="2655" y="1260"/>
                </a:lnTo>
                <a:lnTo>
                  <a:pt x="2687" y="1260"/>
                </a:lnTo>
                <a:lnTo>
                  <a:pt x="2703" y="1244"/>
                </a:lnTo>
                <a:lnTo>
                  <a:pt x="2715" y="1256"/>
                </a:lnTo>
                <a:lnTo>
                  <a:pt x="2719" y="1284"/>
                </a:lnTo>
                <a:lnTo>
                  <a:pt x="2727" y="1336"/>
                </a:lnTo>
                <a:lnTo>
                  <a:pt x="2719" y="1380"/>
                </a:lnTo>
                <a:lnTo>
                  <a:pt x="2739" y="1404"/>
                </a:lnTo>
                <a:lnTo>
                  <a:pt x="2779" y="1444"/>
                </a:lnTo>
                <a:lnTo>
                  <a:pt x="2755" y="1448"/>
                </a:lnTo>
                <a:lnTo>
                  <a:pt x="2727" y="1456"/>
                </a:lnTo>
                <a:lnTo>
                  <a:pt x="2731" y="1475"/>
                </a:lnTo>
                <a:lnTo>
                  <a:pt x="2755" y="1479"/>
                </a:lnTo>
                <a:lnTo>
                  <a:pt x="2779" y="1491"/>
                </a:lnTo>
                <a:lnTo>
                  <a:pt x="2783" y="1523"/>
                </a:lnTo>
                <a:lnTo>
                  <a:pt x="2783" y="1559"/>
                </a:lnTo>
                <a:lnTo>
                  <a:pt x="2767" y="1575"/>
                </a:lnTo>
                <a:lnTo>
                  <a:pt x="2735" y="1583"/>
                </a:lnTo>
                <a:lnTo>
                  <a:pt x="2755" y="1599"/>
                </a:lnTo>
                <a:lnTo>
                  <a:pt x="2799" y="1587"/>
                </a:lnTo>
                <a:lnTo>
                  <a:pt x="2815" y="1563"/>
                </a:lnTo>
                <a:lnTo>
                  <a:pt x="2835" y="1575"/>
                </a:lnTo>
                <a:lnTo>
                  <a:pt x="2847" y="1599"/>
                </a:lnTo>
                <a:lnTo>
                  <a:pt x="2819" y="1623"/>
                </a:lnTo>
                <a:lnTo>
                  <a:pt x="2831" y="1667"/>
                </a:lnTo>
                <a:lnTo>
                  <a:pt x="2911" y="1671"/>
                </a:lnTo>
                <a:lnTo>
                  <a:pt x="2982" y="1679"/>
                </a:lnTo>
                <a:lnTo>
                  <a:pt x="3030" y="1671"/>
                </a:lnTo>
                <a:lnTo>
                  <a:pt x="3074" y="1703"/>
                </a:lnTo>
                <a:lnTo>
                  <a:pt x="3066" y="1731"/>
                </a:lnTo>
                <a:lnTo>
                  <a:pt x="3090" y="1739"/>
                </a:lnTo>
                <a:lnTo>
                  <a:pt x="3110" y="1723"/>
                </a:lnTo>
                <a:lnTo>
                  <a:pt x="3122" y="1739"/>
                </a:lnTo>
                <a:lnTo>
                  <a:pt x="3158" y="1731"/>
                </a:lnTo>
                <a:lnTo>
                  <a:pt x="3186" y="1727"/>
                </a:lnTo>
                <a:lnTo>
                  <a:pt x="3234" y="1743"/>
                </a:lnTo>
                <a:lnTo>
                  <a:pt x="3278" y="1747"/>
                </a:lnTo>
                <a:lnTo>
                  <a:pt x="3302" y="1755"/>
                </a:lnTo>
                <a:lnTo>
                  <a:pt x="3330" y="1771"/>
                </a:lnTo>
                <a:lnTo>
                  <a:pt x="3322" y="1786"/>
                </a:lnTo>
                <a:lnTo>
                  <a:pt x="3286" y="1802"/>
                </a:lnTo>
                <a:lnTo>
                  <a:pt x="3250" y="1822"/>
                </a:lnTo>
                <a:lnTo>
                  <a:pt x="3226" y="1830"/>
                </a:lnTo>
                <a:lnTo>
                  <a:pt x="3182" y="1830"/>
                </a:lnTo>
                <a:lnTo>
                  <a:pt x="3150" y="1838"/>
                </a:lnTo>
                <a:lnTo>
                  <a:pt x="3142" y="1858"/>
                </a:lnTo>
                <a:lnTo>
                  <a:pt x="3146" y="1882"/>
                </a:lnTo>
                <a:lnTo>
                  <a:pt x="3170" y="1884"/>
                </a:lnTo>
                <a:lnTo>
                  <a:pt x="3198" y="1886"/>
                </a:lnTo>
                <a:lnTo>
                  <a:pt x="3130" y="1906"/>
                </a:lnTo>
                <a:lnTo>
                  <a:pt x="3098" y="1914"/>
                </a:lnTo>
                <a:lnTo>
                  <a:pt x="3078" y="1926"/>
                </a:lnTo>
                <a:lnTo>
                  <a:pt x="3046" y="1990"/>
                </a:lnTo>
                <a:lnTo>
                  <a:pt x="3014" y="2038"/>
                </a:lnTo>
                <a:lnTo>
                  <a:pt x="2990" y="2018"/>
                </a:lnTo>
                <a:lnTo>
                  <a:pt x="2963" y="2002"/>
                </a:lnTo>
                <a:lnTo>
                  <a:pt x="2947" y="2038"/>
                </a:lnTo>
                <a:lnTo>
                  <a:pt x="2915" y="2078"/>
                </a:lnTo>
                <a:lnTo>
                  <a:pt x="2883" y="2113"/>
                </a:lnTo>
                <a:lnTo>
                  <a:pt x="2863" y="2141"/>
                </a:lnTo>
                <a:lnTo>
                  <a:pt x="2859" y="2141"/>
                </a:lnTo>
                <a:lnTo>
                  <a:pt x="2849" y="2141"/>
                </a:lnTo>
                <a:lnTo>
                  <a:pt x="2845" y="2139"/>
                </a:lnTo>
                <a:lnTo>
                  <a:pt x="2843" y="2137"/>
                </a:lnTo>
                <a:lnTo>
                  <a:pt x="2841" y="2133"/>
                </a:lnTo>
                <a:lnTo>
                  <a:pt x="2843" y="2129"/>
                </a:lnTo>
                <a:lnTo>
                  <a:pt x="2855" y="2105"/>
                </a:lnTo>
                <a:lnTo>
                  <a:pt x="2863" y="2090"/>
                </a:lnTo>
                <a:lnTo>
                  <a:pt x="2851" y="2042"/>
                </a:lnTo>
                <a:lnTo>
                  <a:pt x="2815" y="1994"/>
                </a:lnTo>
                <a:lnTo>
                  <a:pt x="2787" y="1946"/>
                </a:lnTo>
                <a:lnTo>
                  <a:pt x="2763" y="1934"/>
                </a:lnTo>
                <a:lnTo>
                  <a:pt x="2771" y="1974"/>
                </a:lnTo>
                <a:lnTo>
                  <a:pt x="2795" y="2030"/>
                </a:lnTo>
                <a:lnTo>
                  <a:pt x="2803" y="2058"/>
                </a:lnTo>
                <a:lnTo>
                  <a:pt x="2799" y="2090"/>
                </a:lnTo>
                <a:lnTo>
                  <a:pt x="2751" y="2137"/>
                </a:lnTo>
                <a:lnTo>
                  <a:pt x="2783" y="2149"/>
                </a:lnTo>
                <a:lnTo>
                  <a:pt x="2759" y="2165"/>
                </a:lnTo>
                <a:lnTo>
                  <a:pt x="2735" y="2205"/>
                </a:lnTo>
                <a:lnTo>
                  <a:pt x="2715" y="2241"/>
                </a:lnTo>
                <a:lnTo>
                  <a:pt x="2683" y="2257"/>
                </a:lnTo>
                <a:lnTo>
                  <a:pt x="2659" y="2253"/>
                </a:lnTo>
                <a:lnTo>
                  <a:pt x="2631" y="2253"/>
                </a:lnTo>
                <a:lnTo>
                  <a:pt x="2579" y="2273"/>
                </a:lnTo>
                <a:lnTo>
                  <a:pt x="2535" y="2321"/>
                </a:lnTo>
                <a:lnTo>
                  <a:pt x="2487" y="2325"/>
                </a:lnTo>
                <a:lnTo>
                  <a:pt x="2431" y="2357"/>
                </a:lnTo>
                <a:lnTo>
                  <a:pt x="2392" y="2389"/>
                </a:lnTo>
                <a:lnTo>
                  <a:pt x="2364" y="2389"/>
                </a:lnTo>
                <a:lnTo>
                  <a:pt x="2324" y="2416"/>
                </a:lnTo>
                <a:lnTo>
                  <a:pt x="2284" y="2440"/>
                </a:lnTo>
                <a:lnTo>
                  <a:pt x="2236" y="2468"/>
                </a:lnTo>
                <a:lnTo>
                  <a:pt x="2208" y="2492"/>
                </a:lnTo>
                <a:lnTo>
                  <a:pt x="2192" y="2528"/>
                </a:lnTo>
                <a:lnTo>
                  <a:pt x="2148" y="2544"/>
                </a:lnTo>
                <a:lnTo>
                  <a:pt x="2096" y="2576"/>
                </a:lnTo>
                <a:lnTo>
                  <a:pt x="2064" y="2584"/>
                </a:lnTo>
                <a:lnTo>
                  <a:pt x="2016" y="2592"/>
                </a:lnTo>
                <a:lnTo>
                  <a:pt x="1964" y="2636"/>
                </a:lnTo>
                <a:lnTo>
                  <a:pt x="1932" y="2620"/>
                </a:lnTo>
                <a:lnTo>
                  <a:pt x="1896" y="2616"/>
                </a:lnTo>
                <a:lnTo>
                  <a:pt x="1896" y="2584"/>
                </a:lnTo>
                <a:lnTo>
                  <a:pt x="1869" y="2572"/>
                </a:lnTo>
                <a:lnTo>
                  <a:pt x="1845" y="2572"/>
                </a:lnTo>
                <a:lnTo>
                  <a:pt x="1825" y="2616"/>
                </a:lnTo>
                <a:lnTo>
                  <a:pt x="1785" y="2656"/>
                </a:lnTo>
                <a:lnTo>
                  <a:pt x="1757" y="2672"/>
                </a:lnTo>
                <a:lnTo>
                  <a:pt x="1725" y="2664"/>
                </a:lnTo>
                <a:lnTo>
                  <a:pt x="1689" y="2688"/>
                </a:lnTo>
                <a:lnTo>
                  <a:pt x="1653" y="2723"/>
                </a:lnTo>
                <a:lnTo>
                  <a:pt x="1605" y="2739"/>
                </a:lnTo>
                <a:lnTo>
                  <a:pt x="1581" y="2735"/>
                </a:lnTo>
                <a:lnTo>
                  <a:pt x="1585" y="2696"/>
                </a:lnTo>
                <a:lnTo>
                  <a:pt x="1549" y="2696"/>
                </a:lnTo>
                <a:lnTo>
                  <a:pt x="1493" y="2723"/>
                </a:lnTo>
                <a:lnTo>
                  <a:pt x="1445" y="2751"/>
                </a:lnTo>
                <a:lnTo>
                  <a:pt x="1373" y="2775"/>
                </a:lnTo>
                <a:lnTo>
                  <a:pt x="1365" y="2751"/>
                </a:lnTo>
                <a:lnTo>
                  <a:pt x="1342" y="2747"/>
                </a:lnTo>
                <a:lnTo>
                  <a:pt x="1322" y="2755"/>
                </a:lnTo>
                <a:lnTo>
                  <a:pt x="1294" y="2739"/>
                </a:lnTo>
                <a:lnTo>
                  <a:pt x="1294" y="2715"/>
                </a:lnTo>
                <a:lnTo>
                  <a:pt x="1314" y="2708"/>
                </a:lnTo>
                <a:lnTo>
                  <a:pt x="1282" y="2688"/>
                </a:lnTo>
                <a:lnTo>
                  <a:pt x="1258" y="2668"/>
                </a:lnTo>
                <a:lnTo>
                  <a:pt x="1230" y="2672"/>
                </a:lnTo>
                <a:lnTo>
                  <a:pt x="1230" y="2704"/>
                </a:lnTo>
                <a:lnTo>
                  <a:pt x="1182" y="2719"/>
                </a:lnTo>
                <a:lnTo>
                  <a:pt x="1162" y="2664"/>
                </a:lnTo>
                <a:lnTo>
                  <a:pt x="1146" y="2620"/>
                </a:lnTo>
                <a:lnTo>
                  <a:pt x="1118" y="2600"/>
                </a:lnTo>
                <a:lnTo>
                  <a:pt x="1126" y="2632"/>
                </a:lnTo>
                <a:lnTo>
                  <a:pt x="1122" y="2660"/>
                </a:lnTo>
                <a:lnTo>
                  <a:pt x="1094" y="2636"/>
                </a:lnTo>
                <a:lnTo>
                  <a:pt x="1062" y="2624"/>
                </a:lnTo>
                <a:lnTo>
                  <a:pt x="1058" y="2656"/>
                </a:lnTo>
                <a:lnTo>
                  <a:pt x="1042" y="2676"/>
                </a:lnTo>
                <a:lnTo>
                  <a:pt x="990" y="2648"/>
                </a:lnTo>
                <a:lnTo>
                  <a:pt x="958" y="2592"/>
                </a:lnTo>
                <a:lnTo>
                  <a:pt x="934" y="2536"/>
                </a:lnTo>
                <a:lnTo>
                  <a:pt x="958" y="2496"/>
                </a:lnTo>
                <a:lnTo>
                  <a:pt x="974" y="2444"/>
                </a:lnTo>
                <a:lnTo>
                  <a:pt x="946" y="2404"/>
                </a:lnTo>
                <a:lnTo>
                  <a:pt x="934" y="2357"/>
                </a:lnTo>
                <a:lnTo>
                  <a:pt x="962" y="2305"/>
                </a:lnTo>
                <a:lnTo>
                  <a:pt x="982" y="2273"/>
                </a:lnTo>
                <a:lnTo>
                  <a:pt x="958" y="2229"/>
                </a:lnTo>
                <a:lnTo>
                  <a:pt x="954" y="2181"/>
                </a:lnTo>
                <a:lnTo>
                  <a:pt x="922" y="2165"/>
                </a:lnTo>
                <a:lnTo>
                  <a:pt x="918" y="2213"/>
                </a:lnTo>
                <a:lnTo>
                  <a:pt x="858" y="2209"/>
                </a:lnTo>
                <a:lnTo>
                  <a:pt x="830" y="2181"/>
                </a:lnTo>
                <a:lnTo>
                  <a:pt x="818" y="2141"/>
                </a:lnTo>
                <a:lnTo>
                  <a:pt x="791" y="2125"/>
                </a:lnTo>
                <a:lnTo>
                  <a:pt x="775" y="2157"/>
                </a:lnTo>
                <a:lnTo>
                  <a:pt x="751" y="2141"/>
                </a:lnTo>
                <a:lnTo>
                  <a:pt x="763" y="2113"/>
                </a:lnTo>
                <a:lnTo>
                  <a:pt x="747" y="2074"/>
                </a:lnTo>
                <a:lnTo>
                  <a:pt x="763" y="2018"/>
                </a:lnTo>
                <a:lnTo>
                  <a:pt x="739" y="1978"/>
                </a:lnTo>
                <a:lnTo>
                  <a:pt x="771" y="1946"/>
                </a:lnTo>
                <a:lnTo>
                  <a:pt x="751" y="1918"/>
                </a:lnTo>
                <a:lnTo>
                  <a:pt x="767" y="1555"/>
                </a:lnTo>
                <a:lnTo>
                  <a:pt x="795" y="901"/>
                </a:lnTo>
                <a:lnTo>
                  <a:pt x="711" y="822"/>
                </a:lnTo>
                <a:lnTo>
                  <a:pt x="675" y="766"/>
                </a:lnTo>
                <a:lnTo>
                  <a:pt x="643" y="690"/>
                </a:lnTo>
                <a:lnTo>
                  <a:pt x="579" y="626"/>
                </a:lnTo>
                <a:lnTo>
                  <a:pt x="507" y="598"/>
                </a:lnTo>
                <a:lnTo>
                  <a:pt x="463" y="594"/>
                </a:lnTo>
                <a:lnTo>
                  <a:pt x="439" y="618"/>
                </a:lnTo>
                <a:lnTo>
                  <a:pt x="411" y="646"/>
                </a:lnTo>
                <a:lnTo>
                  <a:pt x="327" y="646"/>
                </a:lnTo>
                <a:lnTo>
                  <a:pt x="271" y="670"/>
                </a:lnTo>
                <a:lnTo>
                  <a:pt x="168" y="698"/>
                </a:lnTo>
                <a:lnTo>
                  <a:pt x="76" y="730"/>
                </a:lnTo>
                <a:lnTo>
                  <a:pt x="32" y="682"/>
                </a:lnTo>
                <a:lnTo>
                  <a:pt x="8" y="650"/>
                </a:lnTo>
                <a:lnTo>
                  <a:pt x="0" y="606"/>
                </a:lnTo>
                <a:lnTo>
                  <a:pt x="60" y="598"/>
                </a:lnTo>
                <a:lnTo>
                  <a:pt x="152" y="586"/>
                </a:lnTo>
                <a:lnTo>
                  <a:pt x="252" y="546"/>
                </a:lnTo>
                <a:lnTo>
                  <a:pt x="311" y="511"/>
                </a:lnTo>
                <a:lnTo>
                  <a:pt x="383" y="447"/>
                </a:lnTo>
                <a:lnTo>
                  <a:pt x="431" y="375"/>
                </a:lnTo>
                <a:lnTo>
                  <a:pt x="439" y="8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72"/>
          <p:cNvSpPr/>
          <p:nvPr/>
        </p:nvSpPr>
        <p:spPr>
          <a:xfrm>
            <a:off x="5456160" y="1436760"/>
            <a:ext cx="190440" cy="20772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8" y="24"/>
                </a:moveTo>
                <a:lnTo>
                  <a:pt x="56" y="4"/>
                </a:lnTo>
                <a:lnTo>
                  <a:pt x="84" y="20"/>
                </a:lnTo>
                <a:lnTo>
                  <a:pt x="96" y="4"/>
                </a:lnTo>
                <a:lnTo>
                  <a:pt x="120" y="0"/>
                </a:lnTo>
                <a:lnTo>
                  <a:pt x="108" y="32"/>
                </a:lnTo>
                <a:lnTo>
                  <a:pt x="92" y="64"/>
                </a:lnTo>
                <a:lnTo>
                  <a:pt x="76" y="91"/>
                </a:lnTo>
                <a:lnTo>
                  <a:pt x="52" y="123"/>
                </a:lnTo>
                <a:lnTo>
                  <a:pt x="24" y="131"/>
                </a:lnTo>
                <a:lnTo>
                  <a:pt x="20" y="107"/>
                </a:lnTo>
                <a:lnTo>
                  <a:pt x="28" y="91"/>
                </a:lnTo>
                <a:lnTo>
                  <a:pt x="20" y="75"/>
                </a:lnTo>
                <a:lnTo>
                  <a:pt x="0" y="64"/>
                </a:lnTo>
                <a:lnTo>
                  <a:pt x="0" y="40"/>
                </a:lnTo>
                <a:lnTo>
                  <a:pt x="28" y="2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73"/>
          <p:cNvSpPr/>
          <p:nvPr/>
        </p:nvSpPr>
        <p:spPr>
          <a:xfrm>
            <a:off x="5583240" y="1258920"/>
            <a:ext cx="88920" cy="139680"/>
          </a:xfrm>
          <a:custGeom>
            <a:avLst/>
            <a:gdLst/>
            <a:ahLst/>
            <a:rect l="l" t="t" r="r" b="b"/>
            <a:pathLst>
              <a:path w="56" h="88">
                <a:moveTo>
                  <a:pt x="0" y="88"/>
                </a:moveTo>
                <a:lnTo>
                  <a:pt x="0" y="52"/>
                </a:lnTo>
                <a:lnTo>
                  <a:pt x="12" y="24"/>
                </a:lnTo>
                <a:lnTo>
                  <a:pt x="20" y="0"/>
                </a:lnTo>
                <a:lnTo>
                  <a:pt x="48" y="4"/>
                </a:lnTo>
                <a:lnTo>
                  <a:pt x="56" y="20"/>
                </a:lnTo>
                <a:lnTo>
                  <a:pt x="52" y="48"/>
                </a:lnTo>
                <a:lnTo>
                  <a:pt x="40" y="76"/>
                </a:lnTo>
                <a:lnTo>
                  <a:pt x="24" y="76"/>
                </a:lnTo>
                <a:lnTo>
                  <a:pt x="0" y="8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74"/>
          <p:cNvSpPr/>
          <p:nvPr/>
        </p:nvSpPr>
        <p:spPr>
          <a:xfrm>
            <a:off x="3200400" y="5962680"/>
            <a:ext cx="182520" cy="277920"/>
          </a:xfrm>
          <a:custGeom>
            <a:avLst/>
            <a:gdLst/>
            <a:ahLst/>
            <a:rect l="l" t="t" r="r" b="b"/>
            <a:pathLst>
              <a:path w="115" h="175">
                <a:moveTo>
                  <a:pt x="103" y="0"/>
                </a:moveTo>
                <a:lnTo>
                  <a:pt x="111" y="35"/>
                </a:lnTo>
                <a:lnTo>
                  <a:pt x="99" y="59"/>
                </a:lnTo>
                <a:lnTo>
                  <a:pt x="115" y="79"/>
                </a:lnTo>
                <a:lnTo>
                  <a:pt x="99" y="95"/>
                </a:lnTo>
                <a:lnTo>
                  <a:pt x="91" y="123"/>
                </a:lnTo>
                <a:lnTo>
                  <a:pt x="55" y="139"/>
                </a:lnTo>
                <a:lnTo>
                  <a:pt x="8" y="175"/>
                </a:lnTo>
                <a:lnTo>
                  <a:pt x="0" y="147"/>
                </a:lnTo>
                <a:lnTo>
                  <a:pt x="32" y="83"/>
                </a:lnTo>
                <a:lnTo>
                  <a:pt x="63" y="23"/>
                </a:lnTo>
                <a:lnTo>
                  <a:pt x="7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75"/>
          <p:cNvSpPr/>
          <p:nvPr/>
        </p:nvSpPr>
        <p:spPr>
          <a:xfrm>
            <a:off x="3105000" y="5632560"/>
            <a:ext cx="82800" cy="114120"/>
          </a:xfrm>
          <a:custGeom>
            <a:avLst/>
            <a:gdLst/>
            <a:ahLst/>
            <a:rect l="l" t="t" r="r" b="b"/>
            <a:pathLst>
              <a:path w="52" h="72">
                <a:moveTo>
                  <a:pt x="52" y="20"/>
                </a:moveTo>
                <a:lnTo>
                  <a:pt x="40" y="44"/>
                </a:lnTo>
                <a:lnTo>
                  <a:pt x="8" y="72"/>
                </a:lnTo>
                <a:lnTo>
                  <a:pt x="0" y="32"/>
                </a:lnTo>
                <a:lnTo>
                  <a:pt x="20" y="12"/>
                </a:lnTo>
                <a:lnTo>
                  <a:pt x="40" y="0"/>
                </a:lnTo>
                <a:lnTo>
                  <a:pt x="52" y="2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76"/>
          <p:cNvSpPr/>
          <p:nvPr/>
        </p:nvSpPr>
        <p:spPr>
          <a:xfrm>
            <a:off x="3162240" y="5740560"/>
            <a:ext cx="50760" cy="145800"/>
          </a:xfrm>
          <a:custGeom>
            <a:avLst/>
            <a:gdLst/>
            <a:ahLst/>
            <a:rect l="l" t="t" r="r" b="b"/>
            <a:pathLst>
              <a:path w="32" h="92">
                <a:moveTo>
                  <a:pt x="32" y="8"/>
                </a:moveTo>
                <a:lnTo>
                  <a:pt x="28" y="36"/>
                </a:lnTo>
                <a:lnTo>
                  <a:pt x="20" y="64"/>
                </a:lnTo>
                <a:lnTo>
                  <a:pt x="4" y="92"/>
                </a:lnTo>
                <a:lnTo>
                  <a:pt x="0" y="60"/>
                </a:lnTo>
                <a:lnTo>
                  <a:pt x="8" y="28"/>
                </a:lnTo>
                <a:lnTo>
                  <a:pt x="12" y="0"/>
                </a:lnTo>
                <a:lnTo>
                  <a:pt x="32" y="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77"/>
          <p:cNvSpPr/>
          <p:nvPr/>
        </p:nvSpPr>
        <p:spPr>
          <a:xfrm>
            <a:off x="5240160" y="4424400"/>
            <a:ext cx="696960" cy="758880"/>
          </a:xfrm>
          <a:custGeom>
            <a:avLst/>
            <a:gdLst/>
            <a:ahLst/>
            <a:rect l="l" t="t" r="r" b="b"/>
            <a:pathLst>
              <a:path w="439" h="478">
                <a:moveTo>
                  <a:pt x="439" y="0"/>
                </a:moveTo>
                <a:lnTo>
                  <a:pt x="435" y="24"/>
                </a:lnTo>
                <a:lnTo>
                  <a:pt x="419" y="48"/>
                </a:lnTo>
                <a:lnTo>
                  <a:pt x="431" y="63"/>
                </a:lnTo>
                <a:lnTo>
                  <a:pt x="407" y="75"/>
                </a:lnTo>
                <a:lnTo>
                  <a:pt x="384" y="67"/>
                </a:lnTo>
                <a:lnTo>
                  <a:pt x="399" y="52"/>
                </a:lnTo>
                <a:lnTo>
                  <a:pt x="391" y="36"/>
                </a:lnTo>
                <a:lnTo>
                  <a:pt x="368" y="44"/>
                </a:lnTo>
                <a:lnTo>
                  <a:pt x="356" y="71"/>
                </a:lnTo>
                <a:lnTo>
                  <a:pt x="332" y="119"/>
                </a:lnTo>
                <a:lnTo>
                  <a:pt x="288" y="171"/>
                </a:lnTo>
                <a:lnTo>
                  <a:pt x="236" y="223"/>
                </a:lnTo>
                <a:lnTo>
                  <a:pt x="164" y="279"/>
                </a:lnTo>
                <a:lnTo>
                  <a:pt x="120" y="315"/>
                </a:lnTo>
                <a:lnTo>
                  <a:pt x="72" y="339"/>
                </a:lnTo>
                <a:lnTo>
                  <a:pt x="40" y="382"/>
                </a:lnTo>
                <a:lnTo>
                  <a:pt x="12" y="406"/>
                </a:lnTo>
                <a:lnTo>
                  <a:pt x="0" y="462"/>
                </a:lnTo>
                <a:lnTo>
                  <a:pt x="28" y="462"/>
                </a:lnTo>
                <a:lnTo>
                  <a:pt x="76" y="442"/>
                </a:lnTo>
                <a:lnTo>
                  <a:pt x="96" y="478"/>
                </a:lnTo>
                <a:lnTo>
                  <a:pt x="140" y="478"/>
                </a:lnTo>
                <a:lnTo>
                  <a:pt x="144" y="478"/>
                </a:lnTo>
                <a:lnTo>
                  <a:pt x="148" y="474"/>
                </a:lnTo>
                <a:lnTo>
                  <a:pt x="156" y="462"/>
                </a:lnTo>
                <a:lnTo>
                  <a:pt x="164" y="446"/>
                </a:lnTo>
                <a:lnTo>
                  <a:pt x="196" y="414"/>
                </a:lnTo>
                <a:lnTo>
                  <a:pt x="252" y="402"/>
                </a:lnTo>
                <a:lnTo>
                  <a:pt x="284" y="418"/>
                </a:lnTo>
                <a:lnTo>
                  <a:pt x="292" y="426"/>
                </a:lnTo>
                <a:lnTo>
                  <a:pt x="302" y="432"/>
                </a:lnTo>
                <a:lnTo>
                  <a:pt x="312" y="434"/>
                </a:lnTo>
                <a:lnTo>
                  <a:pt x="354" y="430"/>
                </a:lnTo>
                <a:lnTo>
                  <a:pt x="388" y="4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78"/>
          <p:cNvSpPr/>
          <p:nvPr/>
        </p:nvSpPr>
        <p:spPr>
          <a:xfrm>
            <a:off x="3941640" y="5157720"/>
            <a:ext cx="1914480" cy="1636920"/>
          </a:xfrm>
          <a:custGeom>
            <a:avLst/>
            <a:gdLst/>
            <a:ahLst/>
            <a:rect l="l" t="t" r="r" b="b"/>
            <a:pathLst>
              <a:path w="1206" h="1105">
                <a:moveTo>
                  <a:pt x="1206" y="32"/>
                </a:moveTo>
                <a:lnTo>
                  <a:pt x="1174" y="12"/>
                </a:lnTo>
                <a:lnTo>
                  <a:pt x="1142" y="0"/>
                </a:lnTo>
                <a:lnTo>
                  <a:pt x="1118" y="0"/>
                </a:lnTo>
                <a:lnTo>
                  <a:pt x="1134" y="24"/>
                </a:lnTo>
                <a:lnTo>
                  <a:pt x="1162" y="36"/>
                </a:lnTo>
                <a:lnTo>
                  <a:pt x="1166" y="56"/>
                </a:lnTo>
                <a:lnTo>
                  <a:pt x="1130" y="92"/>
                </a:lnTo>
                <a:lnTo>
                  <a:pt x="1062" y="120"/>
                </a:lnTo>
                <a:lnTo>
                  <a:pt x="1002" y="140"/>
                </a:lnTo>
                <a:lnTo>
                  <a:pt x="942" y="168"/>
                </a:lnTo>
                <a:lnTo>
                  <a:pt x="846" y="192"/>
                </a:lnTo>
                <a:lnTo>
                  <a:pt x="762" y="255"/>
                </a:lnTo>
                <a:lnTo>
                  <a:pt x="686" y="311"/>
                </a:lnTo>
                <a:lnTo>
                  <a:pt x="615" y="371"/>
                </a:lnTo>
                <a:lnTo>
                  <a:pt x="535" y="423"/>
                </a:lnTo>
                <a:lnTo>
                  <a:pt x="467" y="475"/>
                </a:lnTo>
                <a:lnTo>
                  <a:pt x="411" y="511"/>
                </a:lnTo>
                <a:lnTo>
                  <a:pt x="379" y="546"/>
                </a:lnTo>
                <a:lnTo>
                  <a:pt x="339" y="566"/>
                </a:lnTo>
                <a:lnTo>
                  <a:pt x="311" y="590"/>
                </a:lnTo>
                <a:lnTo>
                  <a:pt x="295" y="614"/>
                </a:lnTo>
                <a:lnTo>
                  <a:pt x="335" y="626"/>
                </a:lnTo>
                <a:lnTo>
                  <a:pt x="355" y="612"/>
                </a:lnTo>
                <a:lnTo>
                  <a:pt x="373" y="602"/>
                </a:lnTo>
                <a:lnTo>
                  <a:pt x="387" y="594"/>
                </a:lnTo>
                <a:lnTo>
                  <a:pt x="399" y="590"/>
                </a:lnTo>
                <a:lnTo>
                  <a:pt x="413" y="582"/>
                </a:lnTo>
                <a:lnTo>
                  <a:pt x="431" y="570"/>
                </a:lnTo>
                <a:lnTo>
                  <a:pt x="467" y="550"/>
                </a:lnTo>
                <a:lnTo>
                  <a:pt x="495" y="530"/>
                </a:lnTo>
                <a:lnTo>
                  <a:pt x="511" y="546"/>
                </a:lnTo>
                <a:lnTo>
                  <a:pt x="495" y="562"/>
                </a:lnTo>
                <a:lnTo>
                  <a:pt x="451" y="590"/>
                </a:lnTo>
                <a:lnTo>
                  <a:pt x="411" y="622"/>
                </a:lnTo>
                <a:lnTo>
                  <a:pt x="391" y="654"/>
                </a:lnTo>
                <a:lnTo>
                  <a:pt x="371" y="682"/>
                </a:lnTo>
                <a:lnTo>
                  <a:pt x="339" y="690"/>
                </a:lnTo>
                <a:lnTo>
                  <a:pt x="303" y="682"/>
                </a:lnTo>
                <a:lnTo>
                  <a:pt x="295" y="650"/>
                </a:lnTo>
                <a:lnTo>
                  <a:pt x="291" y="634"/>
                </a:lnTo>
                <a:lnTo>
                  <a:pt x="255" y="626"/>
                </a:lnTo>
                <a:lnTo>
                  <a:pt x="231" y="650"/>
                </a:lnTo>
                <a:lnTo>
                  <a:pt x="183" y="678"/>
                </a:lnTo>
                <a:lnTo>
                  <a:pt x="147" y="698"/>
                </a:lnTo>
                <a:lnTo>
                  <a:pt x="108" y="730"/>
                </a:lnTo>
                <a:lnTo>
                  <a:pt x="88" y="758"/>
                </a:lnTo>
                <a:lnTo>
                  <a:pt x="60" y="786"/>
                </a:lnTo>
                <a:lnTo>
                  <a:pt x="40" y="814"/>
                </a:lnTo>
                <a:lnTo>
                  <a:pt x="16" y="833"/>
                </a:lnTo>
                <a:lnTo>
                  <a:pt x="0" y="853"/>
                </a:lnTo>
                <a:lnTo>
                  <a:pt x="4" y="873"/>
                </a:lnTo>
                <a:lnTo>
                  <a:pt x="32" y="869"/>
                </a:lnTo>
                <a:lnTo>
                  <a:pt x="56" y="830"/>
                </a:lnTo>
                <a:lnTo>
                  <a:pt x="92" y="798"/>
                </a:lnTo>
                <a:lnTo>
                  <a:pt x="116" y="766"/>
                </a:lnTo>
                <a:lnTo>
                  <a:pt x="139" y="734"/>
                </a:lnTo>
                <a:lnTo>
                  <a:pt x="163" y="714"/>
                </a:lnTo>
                <a:lnTo>
                  <a:pt x="191" y="726"/>
                </a:lnTo>
                <a:lnTo>
                  <a:pt x="219" y="718"/>
                </a:lnTo>
                <a:lnTo>
                  <a:pt x="219" y="742"/>
                </a:lnTo>
                <a:lnTo>
                  <a:pt x="191" y="786"/>
                </a:lnTo>
                <a:lnTo>
                  <a:pt x="151" y="818"/>
                </a:lnTo>
                <a:lnTo>
                  <a:pt x="120" y="853"/>
                </a:lnTo>
                <a:lnTo>
                  <a:pt x="68" y="901"/>
                </a:lnTo>
                <a:lnTo>
                  <a:pt x="56" y="953"/>
                </a:lnTo>
                <a:lnTo>
                  <a:pt x="48" y="989"/>
                </a:lnTo>
                <a:lnTo>
                  <a:pt x="36" y="1025"/>
                </a:lnTo>
                <a:lnTo>
                  <a:pt x="4" y="110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79"/>
          <p:cNvSpPr/>
          <p:nvPr/>
        </p:nvSpPr>
        <p:spPr>
          <a:xfrm>
            <a:off x="5748480" y="2651040"/>
            <a:ext cx="2198520" cy="1532160"/>
          </a:xfrm>
          <a:custGeom>
            <a:avLst/>
            <a:gdLst/>
            <a:ahLst/>
            <a:rect l="l" t="t" r="r" b="b"/>
            <a:pathLst>
              <a:path w="1385" h="965">
                <a:moveTo>
                  <a:pt x="1369" y="495"/>
                </a:moveTo>
                <a:lnTo>
                  <a:pt x="1333" y="499"/>
                </a:lnTo>
                <a:lnTo>
                  <a:pt x="1245" y="499"/>
                </a:lnTo>
                <a:lnTo>
                  <a:pt x="1173" y="499"/>
                </a:lnTo>
                <a:lnTo>
                  <a:pt x="1102" y="495"/>
                </a:lnTo>
                <a:lnTo>
                  <a:pt x="1094" y="515"/>
                </a:lnTo>
                <a:lnTo>
                  <a:pt x="1126" y="523"/>
                </a:lnTo>
                <a:lnTo>
                  <a:pt x="1161" y="523"/>
                </a:lnTo>
                <a:lnTo>
                  <a:pt x="1169" y="539"/>
                </a:lnTo>
                <a:lnTo>
                  <a:pt x="1142" y="554"/>
                </a:lnTo>
                <a:lnTo>
                  <a:pt x="1110" y="550"/>
                </a:lnTo>
                <a:lnTo>
                  <a:pt x="1082" y="535"/>
                </a:lnTo>
                <a:lnTo>
                  <a:pt x="1042" y="531"/>
                </a:lnTo>
                <a:lnTo>
                  <a:pt x="1010" y="550"/>
                </a:lnTo>
                <a:lnTo>
                  <a:pt x="990" y="531"/>
                </a:lnTo>
                <a:lnTo>
                  <a:pt x="918" y="547"/>
                </a:lnTo>
                <a:lnTo>
                  <a:pt x="922" y="570"/>
                </a:lnTo>
                <a:lnTo>
                  <a:pt x="902" y="594"/>
                </a:lnTo>
                <a:lnTo>
                  <a:pt x="878" y="594"/>
                </a:lnTo>
                <a:lnTo>
                  <a:pt x="866" y="570"/>
                </a:lnTo>
                <a:lnTo>
                  <a:pt x="822" y="550"/>
                </a:lnTo>
                <a:lnTo>
                  <a:pt x="786" y="554"/>
                </a:lnTo>
                <a:lnTo>
                  <a:pt x="766" y="570"/>
                </a:lnTo>
                <a:lnTo>
                  <a:pt x="742" y="570"/>
                </a:lnTo>
                <a:lnTo>
                  <a:pt x="746" y="547"/>
                </a:lnTo>
                <a:lnTo>
                  <a:pt x="726" y="543"/>
                </a:lnTo>
                <a:lnTo>
                  <a:pt x="698" y="554"/>
                </a:lnTo>
                <a:lnTo>
                  <a:pt x="698" y="535"/>
                </a:lnTo>
                <a:lnTo>
                  <a:pt x="710" y="515"/>
                </a:lnTo>
                <a:lnTo>
                  <a:pt x="686" y="495"/>
                </a:lnTo>
                <a:lnTo>
                  <a:pt x="666" y="487"/>
                </a:lnTo>
                <a:lnTo>
                  <a:pt x="630" y="475"/>
                </a:lnTo>
                <a:lnTo>
                  <a:pt x="630" y="507"/>
                </a:lnTo>
                <a:lnTo>
                  <a:pt x="614" y="527"/>
                </a:lnTo>
                <a:lnTo>
                  <a:pt x="591" y="511"/>
                </a:lnTo>
                <a:lnTo>
                  <a:pt x="575" y="523"/>
                </a:lnTo>
                <a:lnTo>
                  <a:pt x="551" y="515"/>
                </a:lnTo>
                <a:lnTo>
                  <a:pt x="571" y="499"/>
                </a:lnTo>
                <a:lnTo>
                  <a:pt x="571" y="475"/>
                </a:lnTo>
                <a:lnTo>
                  <a:pt x="539" y="455"/>
                </a:lnTo>
                <a:lnTo>
                  <a:pt x="503" y="439"/>
                </a:lnTo>
                <a:lnTo>
                  <a:pt x="459" y="439"/>
                </a:lnTo>
                <a:lnTo>
                  <a:pt x="439" y="455"/>
                </a:lnTo>
                <a:lnTo>
                  <a:pt x="443" y="487"/>
                </a:lnTo>
                <a:lnTo>
                  <a:pt x="455" y="519"/>
                </a:lnTo>
                <a:lnTo>
                  <a:pt x="439" y="543"/>
                </a:lnTo>
                <a:lnTo>
                  <a:pt x="411" y="535"/>
                </a:lnTo>
                <a:lnTo>
                  <a:pt x="379" y="535"/>
                </a:lnTo>
                <a:lnTo>
                  <a:pt x="379" y="511"/>
                </a:lnTo>
                <a:lnTo>
                  <a:pt x="375" y="483"/>
                </a:lnTo>
                <a:lnTo>
                  <a:pt x="347" y="487"/>
                </a:lnTo>
                <a:lnTo>
                  <a:pt x="315" y="515"/>
                </a:lnTo>
                <a:lnTo>
                  <a:pt x="283" y="535"/>
                </a:lnTo>
                <a:lnTo>
                  <a:pt x="295" y="503"/>
                </a:lnTo>
                <a:lnTo>
                  <a:pt x="319" y="483"/>
                </a:lnTo>
                <a:lnTo>
                  <a:pt x="347" y="471"/>
                </a:lnTo>
                <a:lnTo>
                  <a:pt x="355" y="451"/>
                </a:lnTo>
                <a:lnTo>
                  <a:pt x="347" y="411"/>
                </a:lnTo>
                <a:lnTo>
                  <a:pt x="319" y="423"/>
                </a:lnTo>
                <a:lnTo>
                  <a:pt x="303" y="403"/>
                </a:lnTo>
                <a:lnTo>
                  <a:pt x="327" y="395"/>
                </a:lnTo>
                <a:lnTo>
                  <a:pt x="343" y="375"/>
                </a:lnTo>
                <a:lnTo>
                  <a:pt x="311" y="351"/>
                </a:lnTo>
                <a:lnTo>
                  <a:pt x="295" y="323"/>
                </a:lnTo>
                <a:lnTo>
                  <a:pt x="267" y="299"/>
                </a:lnTo>
                <a:lnTo>
                  <a:pt x="231" y="283"/>
                </a:lnTo>
                <a:lnTo>
                  <a:pt x="235" y="319"/>
                </a:lnTo>
                <a:lnTo>
                  <a:pt x="207" y="311"/>
                </a:lnTo>
                <a:lnTo>
                  <a:pt x="203" y="279"/>
                </a:lnTo>
                <a:lnTo>
                  <a:pt x="179" y="267"/>
                </a:lnTo>
                <a:lnTo>
                  <a:pt x="199" y="247"/>
                </a:lnTo>
                <a:lnTo>
                  <a:pt x="219" y="232"/>
                </a:lnTo>
                <a:lnTo>
                  <a:pt x="239" y="200"/>
                </a:lnTo>
                <a:lnTo>
                  <a:pt x="263" y="164"/>
                </a:lnTo>
                <a:lnTo>
                  <a:pt x="275" y="136"/>
                </a:lnTo>
                <a:lnTo>
                  <a:pt x="271" y="108"/>
                </a:lnTo>
                <a:lnTo>
                  <a:pt x="259" y="76"/>
                </a:lnTo>
                <a:lnTo>
                  <a:pt x="271" y="32"/>
                </a:lnTo>
                <a:lnTo>
                  <a:pt x="271" y="4"/>
                </a:lnTo>
                <a:lnTo>
                  <a:pt x="247" y="0"/>
                </a:lnTo>
                <a:lnTo>
                  <a:pt x="223" y="32"/>
                </a:lnTo>
                <a:lnTo>
                  <a:pt x="211" y="60"/>
                </a:lnTo>
                <a:lnTo>
                  <a:pt x="171" y="76"/>
                </a:lnTo>
                <a:lnTo>
                  <a:pt x="135" y="120"/>
                </a:lnTo>
                <a:lnTo>
                  <a:pt x="107" y="156"/>
                </a:lnTo>
                <a:lnTo>
                  <a:pt x="83" y="200"/>
                </a:lnTo>
                <a:lnTo>
                  <a:pt x="60" y="239"/>
                </a:lnTo>
                <a:lnTo>
                  <a:pt x="32" y="271"/>
                </a:lnTo>
                <a:lnTo>
                  <a:pt x="12" y="303"/>
                </a:lnTo>
                <a:lnTo>
                  <a:pt x="0" y="343"/>
                </a:lnTo>
                <a:lnTo>
                  <a:pt x="8" y="383"/>
                </a:lnTo>
                <a:lnTo>
                  <a:pt x="40" y="391"/>
                </a:lnTo>
                <a:lnTo>
                  <a:pt x="87" y="387"/>
                </a:lnTo>
                <a:lnTo>
                  <a:pt x="127" y="403"/>
                </a:lnTo>
                <a:lnTo>
                  <a:pt x="155" y="419"/>
                </a:lnTo>
                <a:lnTo>
                  <a:pt x="191" y="427"/>
                </a:lnTo>
                <a:lnTo>
                  <a:pt x="195" y="395"/>
                </a:lnTo>
                <a:lnTo>
                  <a:pt x="215" y="391"/>
                </a:lnTo>
                <a:lnTo>
                  <a:pt x="227" y="423"/>
                </a:lnTo>
                <a:lnTo>
                  <a:pt x="219" y="451"/>
                </a:lnTo>
                <a:lnTo>
                  <a:pt x="195" y="467"/>
                </a:lnTo>
                <a:lnTo>
                  <a:pt x="199" y="499"/>
                </a:lnTo>
                <a:lnTo>
                  <a:pt x="207" y="531"/>
                </a:lnTo>
                <a:lnTo>
                  <a:pt x="187" y="550"/>
                </a:lnTo>
                <a:lnTo>
                  <a:pt x="187" y="582"/>
                </a:lnTo>
                <a:lnTo>
                  <a:pt x="223" y="586"/>
                </a:lnTo>
                <a:lnTo>
                  <a:pt x="267" y="606"/>
                </a:lnTo>
                <a:lnTo>
                  <a:pt x="299" y="594"/>
                </a:lnTo>
                <a:lnTo>
                  <a:pt x="331" y="590"/>
                </a:lnTo>
                <a:lnTo>
                  <a:pt x="347" y="598"/>
                </a:lnTo>
                <a:lnTo>
                  <a:pt x="395" y="598"/>
                </a:lnTo>
                <a:lnTo>
                  <a:pt x="423" y="594"/>
                </a:lnTo>
                <a:lnTo>
                  <a:pt x="431" y="614"/>
                </a:lnTo>
                <a:lnTo>
                  <a:pt x="459" y="630"/>
                </a:lnTo>
                <a:lnTo>
                  <a:pt x="459" y="650"/>
                </a:lnTo>
                <a:lnTo>
                  <a:pt x="435" y="650"/>
                </a:lnTo>
                <a:lnTo>
                  <a:pt x="407" y="630"/>
                </a:lnTo>
                <a:lnTo>
                  <a:pt x="379" y="646"/>
                </a:lnTo>
                <a:lnTo>
                  <a:pt x="415" y="666"/>
                </a:lnTo>
                <a:lnTo>
                  <a:pt x="443" y="710"/>
                </a:lnTo>
                <a:lnTo>
                  <a:pt x="491" y="738"/>
                </a:lnTo>
                <a:lnTo>
                  <a:pt x="531" y="766"/>
                </a:lnTo>
                <a:lnTo>
                  <a:pt x="583" y="770"/>
                </a:lnTo>
                <a:lnTo>
                  <a:pt x="638" y="790"/>
                </a:lnTo>
                <a:lnTo>
                  <a:pt x="690" y="802"/>
                </a:lnTo>
                <a:lnTo>
                  <a:pt x="750" y="814"/>
                </a:lnTo>
                <a:lnTo>
                  <a:pt x="790" y="806"/>
                </a:lnTo>
                <a:lnTo>
                  <a:pt x="826" y="778"/>
                </a:lnTo>
                <a:lnTo>
                  <a:pt x="822" y="754"/>
                </a:lnTo>
                <a:lnTo>
                  <a:pt x="794" y="770"/>
                </a:lnTo>
                <a:lnTo>
                  <a:pt x="762" y="778"/>
                </a:lnTo>
                <a:lnTo>
                  <a:pt x="742" y="770"/>
                </a:lnTo>
                <a:lnTo>
                  <a:pt x="762" y="754"/>
                </a:lnTo>
                <a:lnTo>
                  <a:pt x="786" y="750"/>
                </a:lnTo>
                <a:lnTo>
                  <a:pt x="806" y="722"/>
                </a:lnTo>
                <a:lnTo>
                  <a:pt x="802" y="702"/>
                </a:lnTo>
                <a:lnTo>
                  <a:pt x="822" y="702"/>
                </a:lnTo>
                <a:lnTo>
                  <a:pt x="834" y="718"/>
                </a:lnTo>
                <a:lnTo>
                  <a:pt x="858" y="690"/>
                </a:lnTo>
                <a:lnTo>
                  <a:pt x="878" y="670"/>
                </a:lnTo>
                <a:lnTo>
                  <a:pt x="914" y="658"/>
                </a:lnTo>
                <a:lnTo>
                  <a:pt x="910" y="678"/>
                </a:lnTo>
                <a:lnTo>
                  <a:pt x="894" y="694"/>
                </a:lnTo>
                <a:lnTo>
                  <a:pt x="862" y="734"/>
                </a:lnTo>
                <a:lnTo>
                  <a:pt x="858" y="758"/>
                </a:lnTo>
                <a:lnTo>
                  <a:pt x="910" y="766"/>
                </a:lnTo>
                <a:lnTo>
                  <a:pt x="938" y="766"/>
                </a:lnTo>
                <a:lnTo>
                  <a:pt x="938" y="790"/>
                </a:lnTo>
                <a:lnTo>
                  <a:pt x="966" y="802"/>
                </a:lnTo>
                <a:lnTo>
                  <a:pt x="986" y="790"/>
                </a:lnTo>
                <a:lnTo>
                  <a:pt x="994" y="806"/>
                </a:lnTo>
                <a:lnTo>
                  <a:pt x="982" y="830"/>
                </a:lnTo>
                <a:lnTo>
                  <a:pt x="950" y="850"/>
                </a:lnTo>
                <a:lnTo>
                  <a:pt x="910" y="861"/>
                </a:lnTo>
                <a:lnTo>
                  <a:pt x="910" y="865"/>
                </a:lnTo>
                <a:lnTo>
                  <a:pt x="914" y="871"/>
                </a:lnTo>
                <a:lnTo>
                  <a:pt x="920" y="879"/>
                </a:lnTo>
                <a:lnTo>
                  <a:pt x="924" y="881"/>
                </a:lnTo>
                <a:lnTo>
                  <a:pt x="930" y="881"/>
                </a:lnTo>
                <a:lnTo>
                  <a:pt x="954" y="879"/>
                </a:lnTo>
                <a:lnTo>
                  <a:pt x="966" y="877"/>
                </a:lnTo>
                <a:lnTo>
                  <a:pt x="978" y="889"/>
                </a:lnTo>
                <a:lnTo>
                  <a:pt x="978" y="917"/>
                </a:lnTo>
                <a:lnTo>
                  <a:pt x="1002" y="941"/>
                </a:lnTo>
                <a:lnTo>
                  <a:pt x="1016" y="949"/>
                </a:lnTo>
                <a:lnTo>
                  <a:pt x="1028" y="953"/>
                </a:lnTo>
                <a:lnTo>
                  <a:pt x="1042" y="957"/>
                </a:lnTo>
                <a:lnTo>
                  <a:pt x="1076" y="963"/>
                </a:lnTo>
                <a:lnTo>
                  <a:pt x="1098" y="965"/>
                </a:lnTo>
                <a:lnTo>
                  <a:pt x="1130" y="953"/>
                </a:lnTo>
                <a:lnTo>
                  <a:pt x="1189" y="949"/>
                </a:lnTo>
                <a:lnTo>
                  <a:pt x="1241" y="945"/>
                </a:lnTo>
                <a:lnTo>
                  <a:pt x="1257" y="913"/>
                </a:lnTo>
                <a:lnTo>
                  <a:pt x="1233" y="913"/>
                </a:lnTo>
                <a:lnTo>
                  <a:pt x="1209" y="913"/>
                </a:lnTo>
                <a:lnTo>
                  <a:pt x="1225" y="885"/>
                </a:lnTo>
                <a:lnTo>
                  <a:pt x="1253" y="881"/>
                </a:lnTo>
                <a:lnTo>
                  <a:pt x="1265" y="842"/>
                </a:lnTo>
                <a:lnTo>
                  <a:pt x="1273" y="814"/>
                </a:lnTo>
                <a:lnTo>
                  <a:pt x="1261" y="786"/>
                </a:lnTo>
                <a:lnTo>
                  <a:pt x="1245" y="802"/>
                </a:lnTo>
                <a:lnTo>
                  <a:pt x="1229" y="814"/>
                </a:lnTo>
                <a:lnTo>
                  <a:pt x="1209" y="794"/>
                </a:lnTo>
                <a:lnTo>
                  <a:pt x="1197" y="766"/>
                </a:lnTo>
                <a:lnTo>
                  <a:pt x="1221" y="762"/>
                </a:lnTo>
                <a:lnTo>
                  <a:pt x="1205" y="742"/>
                </a:lnTo>
                <a:lnTo>
                  <a:pt x="1209" y="718"/>
                </a:lnTo>
                <a:lnTo>
                  <a:pt x="1241" y="726"/>
                </a:lnTo>
                <a:lnTo>
                  <a:pt x="1281" y="726"/>
                </a:lnTo>
                <a:lnTo>
                  <a:pt x="1289" y="706"/>
                </a:lnTo>
                <a:lnTo>
                  <a:pt x="1265" y="694"/>
                </a:lnTo>
                <a:lnTo>
                  <a:pt x="1269" y="674"/>
                </a:lnTo>
                <a:lnTo>
                  <a:pt x="1313" y="678"/>
                </a:lnTo>
                <a:lnTo>
                  <a:pt x="1317" y="646"/>
                </a:lnTo>
                <a:lnTo>
                  <a:pt x="1329" y="622"/>
                </a:lnTo>
                <a:lnTo>
                  <a:pt x="1317" y="602"/>
                </a:lnTo>
                <a:lnTo>
                  <a:pt x="1329" y="590"/>
                </a:lnTo>
                <a:lnTo>
                  <a:pt x="1353" y="598"/>
                </a:lnTo>
                <a:lnTo>
                  <a:pt x="1385" y="58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80"/>
          <p:cNvSpPr/>
          <p:nvPr/>
        </p:nvSpPr>
        <p:spPr>
          <a:xfrm>
            <a:off x="3306600" y="816120"/>
            <a:ext cx="2162160" cy="468000"/>
          </a:xfrm>
          <a:custGeom>
            <a:avLst/>
            <a:gdLst/>
            <a:ahLst/>
            <a:rect l="l" t="t" r="r" b="b"/>
            <a:pathLst>
              <a:path w="1362" h="295">
                <a:moveTo>
                  <a:pt x="0" y="275"/>
                </a:moveTo>
                <a:lnTo>
                  <a:pt x="40" y="271"/>
                </a:lnTo>
                <a:lnTo>
                  <a:pt x="76" y="275"/>
                </a:lnTo>
                <a:lnTo>
                  <a:pt x="108" y="259"/>
                </a:lnTo>
                <a:lnTo>
                  <a:pt x="136" y="247"/>
                </a:lnTo>
                <a:lnTo>
                  <a:pt x="188" y="247"/>
                </a:lnTo>
                <a:lnTo>
                  <a:pt x="212" y="219"/>
                </a:lnTo>
                <a:lnTo>
                  <a:pt x="240" y="187"/>
                </a:lnTo>
                <a:lnTo>
                  <a:pt x="292" y="183"/>
                </a:lnTo>
                <a:lnTo>
                  <a:pt x="332" y="187"/>
                </a:lnTo>
                <a:lnTo>
                  <a:pt x="356" y="219"/>
                </a:lnTo>
                <a:lnTo>
                  <a:pt x="384" y="207"/>
                </a:lnTo>
                <a:lnTo>
                  <a:pt x="392" y="183"/>
                </a:lnTo>
                <a:lnTo>
                  <a:pt x="406" y="189"/>
                </a:lnTo>
                <a:lnTo>
                  <a:pt x="420" y="193"/>
                </a:lnTo>
                <a:lnTo>
                  <a:pt x="432" y="195"/>
                </a:lnTo>
                <a:lnTo>
                  <a:pt x="488" y="195"/>
                </a:lnTo>
                <a:lnTo>
                  <a:pt x="531" y="183"/>
                </a:lnTo>
                <a:lnTo>
                  <a:pt x="551" y="152"/>
                </a:lnTo>
                <a:lnTo>
                  <a:pt x="583" y="128"/>
                </a:lnTo>
                <a:lnTo>
                  <a:pt x="615" y="136"/>
                </a:lnTo>
                <a:lnTo>
                  <a:pt x="643" y="159"/>
                </a:lnTo>
                <a:lnTo>
                  <a:pt x="683" y="183"/>
                </a:lnTo>
                <a:lnTo>
                  <a:pt x="747" y="203"/>
                </a:lnTo>
                <a:lnTo>
                  <a:pt x="803" y="227"/>
                </a:lnTo>
                <a:lnTo>
                  <a:pt x="851" y="239"/>
                </a:lnTo>
                <a:lnTo>
                  <a:pt x="887" y="275"/>
                </a:lnTo>
                <a:lnTo>
                  <a:pt x="927" y="295"/>
                </a:lnTo>
                <a:lnTo>
                  <a:pt x="971" y="283"/>
                </a:lnTo>
                <a:lnTo>
                  <a:pt x="1007" y="267"/>
                </a:lnTo>
                <a:lnTo>
                  <a:pt x="1035" y="251"/>
                </a:lnTo>
                <a:lnTo>
                  <a:pt x="1090" y="219"/>
                </a:lnTo>
                <a:lnTo>
                  <a:pt x="1154" y="191"/>
                </a:lnTo>
                <a:lnTo>
                  <a:pt x="1178" y="159"/>
                </a:lnTo>
                <a:lnTo>
                  <a:pt x="1186" y="148"/>
                </a:lnTo>
                <a:lnTo>
                  <a:pt x="1196" y="138"/>
                </a:lnTo>
                <a:lnTo>
                  <a:pt x="1206" y="132"/>
                </a:lnTo>
                <a:lnTo>
                  <a:pt x="1262" y="116"/>
                </a:lnTo>
                <a:lnTo>
                  <a:pt x="1306" y="96"/>
                </a:lnTo>
                <a:lnTo>
                  <a:pt x="1330" y="44"/>
                </a:lnTo>
                <a:lnTo>
                  <a:pt x="1362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81"/>
          <p:cNvSpPr/>
          <p:nvPr/>
        </p:nvSpPr>
        <p:spPr>
          <a:xfrm>
            <a:off x="6210360" y="4183200"/>
            <a:ext cx="1255680" cy="372960"/>
          </a:xfrm>
          <a:custGeom>
            <a:avLst/>
            <a:gdLst/>
            <a:ahLst/>
            <a:rect l="l" t="t" r="r" b="b"/>
            <a:pathLst>
              <a:path w="791" h="235">
                <a:moveTo>
                  <a:pt x="0" y="0"/>
                </a:moveTo>
                <a:lnTo>
                  <a:pt x="36" y="4"/>
                </a:lnTo>
                <a:lnTo>
                  <a:pt x="72" y="20"/>
                </a:lnTo>
                <a:lnTo>
                  <a:pt x="96" y="48"/>
                </a:lnTo>
                <a:lnTo>
                  <a:pt x="124" y="76"/>
                </a:lnTo>
                <a:lnTo>
                  <a:pt x="184" y="108"/>
                </a:lnTo>
                <a:lnTo>
                  <a:pt x="220" y="108"/>
                </a:lnTo>
                <a:lnTo>
                  <a:pt x="268" y="96"/>
                </a:lnTo>
                <a:lnTo>
                  <a:pt x="316" y="96"/>
                </a:lnTo>
                <a:lnTo>
                  <a:pt x="347" y="96"/>
                </a:lnTo>
                <a:lnTo>
                  <a:pt x="371" y="112"/>
                </a:lnTo>
                <a:lnTo>
                  <a:pt x="347" y="132"/>
                </a:lnTo>
                <a:lnTo>
                  <a:pt x="308" y="148"/>
                </a:lnTo>
                <a:lnTo>
                  <a:pt x="323" y="164"/>
                </a:lnTo>
                <a:lnTo>
                  <a:pt x="375" y="148"/>
                </a:lnTo>
                <a:lnTo>
                  <a:pt x="399" y="148"/>
                </a:lnTo>
                <a:lnTo>
                  <a:pt x="427" y="164"/>
                </a:lnTo>
                <a:lnTo>
                  <a:pt x="459" y="152"/>
                </a:lnTo>
                <a:lnTo>
                  <a:pt x="483" y="160"/>
                </a:lnTo>
                <a:lnTo>
                  <a:pt x="479" y="184"/>
                </a:lnTo>
                <a:lnTo>
                  <a:pt x="443" y="196"/>
                </a:lnTo>
                <a:lnTo>
                  <a:pt x="415" y="204"/>
                </a:lnTo>
                <a:lnTo>
                  <a:pt x="431" y="223"/>
                </a:lnTo>
                <a:lnTo>
                  <a:pt x="463" y="235"/>
                </a:lnTo>
                <a:lnTo>
                  <a:pt x="479" y="211"/>
                </a:lnTo>
                <a:lnTo>
                  <a:pt x="503" y="200"/>
                </a:lnTo>
                <a:lnTo>
                  <a:pt x="523" y="184"/>
                </a:lnTo>
                <a:lnTo>
                  <a:pt x="523" y="211"/>
                </a:lnTo>
                <a:lnTo>
                  <a:pt x="543" y="204"/>
                </a:lnTo>
                <a:lnTo>
                  <a:pt x="567" y="192"/>
                </a:lnTo>
                <a:lnTo>
                  <a:pt x="599" y="192"/>
                </a:lnTo>
                <a:lnTo>
                  <a:pt x="591" y="172"/>
                </a:lnTo>
                <a:lnTo>
                  <a:pt x="579" y="152"/>
                </a:lnTo>
                <a:lnTo>
                  <a:pt x="615" y="144"/>
                </a:lnTo>
                <a:lnTo>
                  <a:pt x="651" y="156"/>
                </a:lnTo>
                <a:lnTo>
                  <a:pt x="723" y="172"/>
                </a:lnTo>
                <a:lnTo>
                  <a:pt x="791" y="19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82"/>
          <p:cNvSpPr/>
          <p:nvPr/>
        </p:nvSpPr>
        <p:spPr>
          <a:xfrm>
            <a:off x="3992400" y="4037040"/>
            <a:ext cx="265320" cy="355680"/>
          </a:xfrm>
          <a:custGeom>
            <a:avLst/>
            <a:gdLst/>
            <a:ahLst/>
            <a:rect l="l" t="t" r="r" b="b"/>
            <a:pathLst>
              <a:path w="167" h="224">
                <a:moveTo>
                  <a:pt x="123" y="148"/>
                </a:moveTo>
                <a:lnTo>
                  <a:pt x="103" y="168"/>
                </a:lnTo>
                <a:lnTo>
                  <a:pt x="95" y="192"/>
                </a:lnTo>
                <a:lnTo>
                  <a:pt x="76" y="208"/>
                </a:lnTo>
                <a:lnTo>
                  <a:pt x="56" y="220"/>
                </a:lnTo>
                <a:lnTo>
                  <a:pt x="28" y="220"/>
                </a:lnTo>
                <a:lnTo>
                  <a:pt x="4" y="224"/>
                </a:lnTo>
                <a:lnTo>
                  <a:pt x="0" y="192"/>
                </a:lnTo>
                <a:lnTo>
                  <a:pt x="20" y="168"/>
                </a:lnTo>
                <a:lnTo>
                  <a:pt x="52" y="144"/>
                </a:lnTo>
                <a:lnTo>
                  <a:pt x="64" y="112"/>
                </a:lnTo>
                <a:lnTo>
                  <a:pt x="88" y="88"/>
                </a:lnTo>
                <a:lnTo>
                  <a:pt x="95" y="56"/>
                </a:lnTo>
                <a:lnTo>
                  <a:pt x="115" y="36"/>
                </a:lnTo>
                <a:lnTo>
                  <a:pt x="131" y="28"/>
                </a:lnTo>
                <a:lnTo>
                  <a:pt x="131" y="8"/>
                </a:lnTo>
                <a:lnTo>
                  <a:pt x="151" y="0"/>
                </a:lnTo>
                <a:lnTo>
                  <a:pt x="167" y="24"/>
                </a:lnTo>
                <a:lnTo>
                  <a:pt x="159" y="40"/>
                </a:lnTo>
                <a:lnTo>
                  <a:pt x="135" y="56"/>
                </a:lnTo>
                <a:lnTo>
                  <a:pt x="135" y="76"/>
                </a:lnTo>
                <a:lnTo>
                  <a:pt x="163" y="72"/>
                </a:lnTo>
                <a:lnTo>
                  <a:pt x="155" y="88"/>
                </a:lnTo>
                <a:lnTo>
                  <a:pt x="135" y="100"/>
                </a:lnTo>
                <a:lnTo>
                  <a:pt x="115" y="104"/>
                </a:lnTo>
                <a:lnTo>
                  <a:pt x="107" y="124"/>
                </a:lnTo>
                <a:lnTo>
                  <a:pt x="123" y="148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83"/>
          <p:cNvSpPr/>
          <p:nvPr/>
        </p:nvSpPr>
        <p:spPr>
          <a:xfrm>
            <a:off x="3630600" y="434808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136" y="32"/>
                </a:moveTo>
                <a:lnTo>
                  <a:pt x="112" y="32"/>
                </a:lnTo>
                <a:lnTo>
                  <a:pt x="76" y="32"/>
                </a:lnTo>
                <a:lnTo>
                  <a:pt x="48" y="36"/>
                </a:lnTo>
                <a:lnTo>
                  <a:pt x="16" y="40"/>
                </a:lnTo>
                <a:lnTo>
                  <a:pt x="0" y="24"/>
                </a:lnTo>
                <a:lnTo>
                  <a:pt x="4" y="4"/>
                </a:lnTo>
                <a:lnTo>
                  <a:pt x="52" y="4"/>
                </a:lnTo>
                <a:lnTo>
                  <a:pt x="80" y="0"/>
                </a:lnTo>
                <a:lnTo>
                  <a:pt x="132" y="0"/>
                </a:lnTo>
                <a:lnTo>
                  <a:pt x="168" y="12"/>
                </a:lnTo>
                <a:lnTo>
                  <a:pt x="196" y="32"/>
                </a:lnTo>
                <a:lnTo>
                  <a:pt x="224" y="56"/>
                </a:lnTo>
                <a:lnTo>
                  <a:pt x="252" y="80"/>
                </a:lnTo>
                <a:lnTo>
                  <a:pt x="260" y="107"/>
                </a:lnTo>
                <a:lnTo>
                  <a:pt x="260" y="139"/>
                </a:lnTo>
                <a:lnTo>
                  <a:pt x="276" y="155"/>
                </a:lnTo>
                <a:lnTo>
                  <a:pt x="292" y="151"/>
                </a:lnTo>
                <a:lnTo>
                  <a:pt x="304" y="135"/>
                </a:lnTo>
                <a:lnTo>
                  <a:pt x="323" y="119"/>
                </a:lnTo>
                <a:lnTo>
                  <a:pt x="339" y="103"/>
                </a:lnTo>
                <a:lnTo>
                  <a:pt x="343" y="135"/>
                </a:lnTo>
                <a:lnTo>
                  <a:pt x="331" y="155"/>
                </a:lnTo>
                <a:lnTo>
                  <a:pt x="312" y="175"/>
                </a:lnTo>
                <a:lnTo>
                  <a:pt x="300" y="199"/>
                </a:lnTo>
                <a:lnTo>
                  <a:pt x="296" y="227"/>
                </a:lnTo>
                <a:lnTo>
                  <a:pt x="300" y="251"/>
                </a:lnTo>
                <a:lnTo>
                  <a:pt x="312" y="271"/>
                </a:lnTo>
                <a:lnTo>
                  <a:pt x="335" y="279"/>
                </a:lnTo>
                <a:lnTo>
                  <a:pt x="363" y="267"/>
                </a:lnTo>
                <a:lnTo>
                  <a:pt x="383" y="247"/>
                </a:lnTo>
                <a:lnTo>
                  <a:pt x="395" y="235"/>
                </a:lnTo>
                <a:lnTo>
                  <a:pt x="415" y="235"/>
                </a:lnTo>
                <a:lnTo>
                  <a:pt x="403" y="259"/>
                </a:lnTo>
                <a:lnTo>
                  <a:pt x="395" y="283"/>
                </a:lnTo>
                <a:lnTo>
                  <a:pt x="355" y="307"/>
                </a:lnTo>
                <a:lnTo>
                  <a:pt x="331" y="335"/>
                </a:lnTo>
                <a:lnTo>
                  <a:pt x="300" y="359"/>
                </a:lnTo>
                <a:lnTo>
                  <a:pt x="288" y="387"/>
                </a:lnTo>
                <a:lnTo>
                  <a:pt x="260" y="410"/>
                </a:lnTo>
                <a:lnTo>
                  <a:pt x="248" y="426"/>
                </a:lnTo>
                <a:lnTo>
                  <a:pt x="228" y="446"/>
                </a:lnTo>
                <a:lnTo>
                  <a:pt x="216" y="466"/>
                </a:lnTo>
                <a:lnTo>
                  <a:pt x="212" y="486"/>
                </a:lnTo>
                <a:lnTo>
                  <a:pt x="220" y="510"/>
                </a:lnTo>
                <a:lnTo>
                  <a:pt x="252" y="506"/>
                </a:lnTo>
                <a:lnTo>
                  <a:pt x="272" y="478"/>
                </a:lnTo>
                <a:lnTo>
                  <a:pt x="284" y="450"/>
                </a:lnTo>
                <a:lnTo>
                  <a:pt x="304" y="430"/>
                </a:lnTo>
                <a:lnTo>
                  <a:pt x="339" y="418"/>
                </a:lnTo>
                <a:lnTo>
                  <a:pt x="355" y="399"/>
                </a:lnTo>
                <a:lnTo>
                  <a:pt x="375" y="383"/>
                </a:lnTo>
                <a:lnTo>
                  <a:pt x="403" y="355"/>
                </a:lnTo>
                <a:lnTo>
                  <a:pt x="423" y="355"/>
                </a:lnTo>
                <a:lnTo>
                  <a:pt x="403" y="383"/>
                </a:lnTo>
                <a:lnTo>
                  <a:pt x="379" y="399"/>
                </a:lnTo>
                <a:lnTo>
                  <a:pt x="367" y="414"/>
                </a:lnTo>
                <a:lnTo>
                  <a:pt x="343" y="434"/>
                </a:lnTo>
                <a:lnTo>
                  <a:pt x="335" y="454"/>
                </a:lnTo>
                <a:lnTo>
                  <a:pt x="323" y="482"/>
                </a:lnTo>
                <a:lnTo>
                  <a:pt x="308" y="510"/>
                </a:lnTo>
                <a:lnTo>
                  <a:pt x="292" y="530"/>
                </a:lnTo>
                <a:lnTo>
                  <a:pt x="268" y="550"/>
                </a:lnTo>
                <a:lnTo>
                  <a:pt x="272" y="570"/>
                </a:lnTo>
                <a:lnTo>
                  <a:pt x="284" y="582"/>
                </a:lnTo>
                <a:lnTo>
                  <a:pt x="252" y="578"/>
                </a:lnTo>
                <a:lnTo>
                  <a:pt x="232" y="562"/>
                </a:lnTo>
                <a:lnTo>
                  <a:pt x="216" y="546"/>
                </a:lnTo>
                <a:lnTo>
                  <a:pt x="188" y="522"/>
                </a:lnTo>
                <a:lnTo>
                  <a:pt x="184" y="494"/>
                </a:lnTo>
                <a:lnTo>
                  <a:pt x="184" y="466"/>
                </a:lnTo>
                <a:lnTo>
                  <a:pt x="204" y="434"/>
                </a:lnTo>
                <a:lnTo>
                  <a:pt x="228" y="407"/>
                </a:lnTo>
                <a:lnTo>
                  <a:pt x="252" y="387"/>
                </a:lnTo>
                <a:lnTo>
                  <a:pt x="256" y="363"/>
                </a:lnTo>
                <a:lnTo>
                  <a:pt x="280" y="351"/>
                </a:lnTo>
                <a:lnTo>
                  <a:pt x="288" y="327"/>
                </a:lnTo>
                <a:lnTo>
                  <a:pt x="296" y="295"/>
                </a:lnTo>
                <a:lnTo>
                  <a:pt x="284" y="267"/>
                </a:lnTo>
                <a:lnTo>
                  <a:pt x="268" y="235"/>
                </a:lnTo>
                <a:lnTo>
                  <a:pt x="260" y="195"/>
                </a:lnTo>
                <a:lnTo>
                  <a:pt x="248" y="155"/>
                </a:lnTo>
                <a:lnTo>
                  <a:pt x="236" y="119"/>
                </a:lnTo>
                <a:lnTo>
                  <a:pt x="232" y="92"/>
                </a:lnTo>
                <a:lnTo>
                  <a:pt x="208" y="72"/>
                </a:lnTo>
                <a:lnTo>
                  <a:pt x="188" y="56"/>
                </a:lnTo>
                <a:lnTo>
                  <a:pt x="168" y="40"/>
                </a:lnTo>
                <a:lnTo>
                  <a:pt x="136" y="32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84"/>
          <p:cNvSpPr/>
          <p:nvPr/>
        </p:nvSpPr>
        <p:spPr>
          <a:xfrm>
            <a:off x="2825640" y="2625840"/>
            <a:ext cx="1965600" cy="974520"/>
          </a:xfrm>
          <a:custGeom>
            <a:avLst/>
            <a:gdLst/>
            <a:ahLst/>
            <a:rect l="l" t="t" r="r" b="b"/>
            <a:pathLst>
              <a:path w="1238" h="614">
                <a:moveTo>
                  <a:pt x="1238" y="0"/>
                </a:moveTo>
                <a:lnTo>
                  <a:pt x="1206" y="12"/>
                </a:lnTo>
                <a:lnTo>
                  <a:pt x="1154" y="40"/>
                </a:lnTo>
                <a:lnTo>
                  <a:pt x="1126" y="76"/>
                </a:lnTo>
                <a:lnTo>
                  <a:pt x="1106" y="116"/>
                </a:lnTo>
                <a:lnTo>
                  <a:pt x="1082" y="144"/>
                </a:lnTo>
                <a:lnTo>
                  <a:pt x="1054" y="168"/>
                </a:lnTo>
                <a:lnTo>
                  <a:pt x="1034" y="184"/>
                </a:lnTo>
                <a:lnTo>
                  <a:pt x="1002" y="208"/>
                </a:lnTo>
                <a:lnTo>
                  <a:pt x="986" y="232"/>
                </a:lnTo>
                <a:lnTo>
                  <a:pt x="990" y="252"/>
                </a:lnTo>
                <a:lnTo>
                  <a:pt x="1006" y="267"/>
                </a:lnTo>
                <a:lnTo>
                  <a:pt x="986" y="287"/>
                </a:lnTo>
                <a:lnTo>
                  <a:pt x="978" y="303"/>
                </a:lnTo>
                <a:lnTo>
                  <a:pt x="990" y="323"/>
                </a:lnTo>
                <a:lnTo>
                  <a:pt x="1002" y="347"/>
                </a:lnTo>
                <a:lnTo>
                  <a:pt x="982" y="375"/>
                </a:lnTo>
                <a:lnTo>
                  <a:pt x="954" y="387"/>
                </a:lnTo>
                <a:lnTo>
                  <a:pt x="922" y="403"/>
                </a:lnTo>
                <a:lnTo>
                  <a:pt x="886" y="431"/>
                </a:lnTo>
                <a:lnTo>
                  <a:pt x="850" y="435"/>
                </a:lnTo>
                <a:lnTo>
                  <a:pt x="803" y="439"/>
                </a:lnTo>
                <a:lnTo>
                  <a:pt x="771" y="451"/>
                </a:lnTo>
                <a:lnTo>
                  <a:pt x="711" y="467"/>
                </a:lnTo>
                <a:lnTo>
                  <a:pt x="675" y="491"/>
                </a:lnTo>
                <a:lnTo>
                  <a:pt x="643" y="519"/>
                </a:lnTo>
                <a:lnTo>
                  <a:pt x="599" y="535"/>
                </a:lnTo>
                <a:lnTo>
                  <a:pt x="559" y="543"/>
                </a:lnTo>
                <a:lnTo>
                  <a:pt x="535" y="519"/>
                </a:lnTo>
                <a:lnTo>
                  <a:pt x="527" y="495"/>
                </a:lnTo>
                <a:lnTo>
                  <a:pt x="503" y="475"/>
                </a:lnTo>
                <a:lnTo>
                  <a:pt x="491" y="447"/>
                </a:lnTo>
                <a:lnTo>
                  <a:pt x="459" y="435"/>
                </a:lnTo>
                <a:lnTo>
                  <a:pt x="419" y="435"/>
                </a:lnTo>
                <a:lnTo>
                  <a:pt x="347" y="435"/>
                </a:lnTo>
                <a:lnTo>
                  <a:pt x="303" y="459"/>
                </a:lnTo>
                <a:lnTo>
                  <a:pt x="288" y="483"/>
                </a:lnTo>
                <a:lnTo>
                  <a:pt x="248" y="495"/>
                </a:lnTo>
                <a:lnTo>
                  <a:pt x="200" y="503"/>
                </a:lnTo>
                <a:lnTo>
                  <a:pt x="172" y="499"/>
                </a:lnTo>
                <a:lnTo>
                  <a:pt x="136" y="491"/>
                </a:lnTo>
                <a:lnTo>
                  <a:pt x="112" y="475"/>
                </a:lnTo>
                <a:lnTo>
                  <a:pt x="98" y="473"/>
                </a:lnTo>
                <a:lnTo>
                  <a:pt x="86" y="467"/>
                </a:lnTo>
                <a:lnTo>
                  <a:pt x="76" y="459"/>
                </a:lnTo>
                <a:lnTo>
                  <a:pt x="64" y="447"/>
                </a:lnTo>
                <a:lnTo>
                  <a:pt x="32" y="439"/>
                </a:lnTo>
                <a:lnTo>
                  <a:pt x="20" y="447"/>
                </a:lnTo>
                <a:lnTo>
                  <a:pt x="0" y="467"/>
                </a:lnTo>
                <a:lnTo>
                  <a:pt x="0" y="511"/>
                </a:lnTo>
                <a:lnTo>
                  <a:pt x="20" y="531"/>
                </a:lnTo>
                <a:lnTo>
                  <a:pt x="36" y="555"/>
                </a:lnTo>
                <a:lnTo>
                  <a:pt x="40" y="590"/>
                </a:lnTo>
                <a:lnTo>
                  <a:pt x="28" y="61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85"/>
          <p:cNvSpPr/>
          <p:nvPr/>
        </p:nvSpPr>
        <p:spPr>
          <a:xfrm>
            <a:off x="1735200" y="1936800"/>
            <a:ext cx="1901880" cy="2417760"/>
          </a:xfrm>
          <a:custGeom>
            <a:avLst/>
            <a:gdLst/>
            <a:ahLst/>
            <a:rect l="l" t="t" r="r" b="b"/>
            <a:pathLst>
              <a:path w="1198" h="1523">
                <a:moveTo>
                  <a:pt x="1198" y="1523"/>
                </a:moveTo>
                <a:lnTo>
                  <a:pt x="1158" y="1519"/>
                </a:lnTo>
                <a:lnTo>
                  <a:pt x="1130" y="1491"/>
                </a:lnTo>
                <a:lnTo>
                  <a:pt x="1126" y="1467"/>
                </a:lnTo>
                <a:lnTo>
                  <a:pt x="1118" y="1443"/>
                </a:lnTo>
                <a:lnTo>
                  <a:pt x="1102" y="1435"/>
                </a:lnTo>
                <a:lnTo>
                  <a:pt x="1074" y="1427"/>
                </a:lnTo>
                <a:lnTo>
                  <a:pt x="1038" y="1427"/>
                </a:lnTo>
                <a:lnTo>
                  <a:pt x="998" y="1435"/>
                </a:lnTo>
                <a:lnTo>
                  <a:pt x="975" y="1459"/>
                </a:lnTo>
                <a:lnTo>
                  <a:pt x="955" y="1495"/>
                </a:lnTo>
                <a:lnTo>
                  <a:pt x="935" y="1519"/>
                </a:lnTo>
                <a:lnTo>
                  <a:pt x="895" y="1499"/>
                </a:lnTo>
                <a:lnTo>
                  <a:pt x="859" y="1483"/>
                </a:lnTo>
                <a:lnTo>
                  <a:pt x="815" y="1459"/>
                </a:lnTo>
                <a:lnTo>
                  <a:pt x="787" y="1435"/>
                </a:lnTo>
                <a:lnTo>
                  <a:pt x="755" y="1431"/>
                </a:lnTo>
                <a:lnTo>
                  <a:pt x="703" y="1431"/>
                </a:lnTo>
                <a:lnTo>
                  <a:pt x="667" y="1423"/>
                </a:lnTo>
                <a:lnTo>
                  <a:pt x="631" y="1415"/>
                </a:lnTo>
                <a:lnTo>
                  <a:pt x="599" y="1407"/>
                </a:lnTo>
                <a:lnTo>
                  <a:pt x="559" y="1403"/>
                </a:lnTo>
                <a:lnTo>
                  <a:pt x="535" y="1379"/>
                </a:lnTo>
                <a:lnTo>
                  <a:pt x="527" y="1347"/>
                </a:lnTo>
                <a:lnTo>
                  <a:pt x="531" y="1315"/>
                </a:lnTo>
                <a:lnTo>
                  <a:pt x="523" y="1268"/>
                </a:lnTo>
                <a:lnTo>
                  <a:pt x="523" y="1236"/>
                </a:lnTo>
                <a:lnTo>
                  <a:pt x="543" y="1216"/>
                </a:lnTo>
                <a:lnTo>
                  <a:pt x="559" y="1192"/>
                </a:lnTo>
                <a:lnTo>
                  <a:pt x="575" y="1164"/>
                </a:lnTo>
                <a:lnTo>
                  <a:pt x="551" y="1100"/>
                </a:lnTo>
                <a:lnTo>
                  <a:pt x="535" y="1068"/>
                </a:lnTo>
                <a:lnTo>
                  <a:pt x="523" y="1036"/>
                </a:lnTo>
                <a:lnTo>
                  <a:pt x="519" y="1000"/>
                </a:lnTo>
                <a:lnTo>
                  <a:pt x="511" y="949"/>
                </a:lnTo>
                <a:lnTo>
                  <a:pt x="483" y="917"/>
                </a:lnTo>
                <a:lnTo>
                  <a:pt x="467" y="881"/>
                </a:lnTo>
                <a:lnTo>
                  <a:pt x="459" y="837"/>
                </a:lnTo>
                <a:lnTo>
                  <a:pt x="459" y="805"/>
                </a:lnTo>
                <a:lnTo>
                  <a:pt x="463" y="765"/>
                </a:lnTo>
                <a:lnTo>
                  <a:pt x="467" y="729"/>
                </a:lnTo>
                <a:lnTo>
                  <a:pt x="463" y="686"/>
                </a:lnTo>
                <a:lnTo>
                  <a:pt x="463" y="650"/>
                </a:lnTo>
                <a:lnTo>
                  <a:pt x="471" y="602"/>
                </a:lnTo>
                <a:lnTo>
                  <a:pt x="487" y="538"/>
                </a:lnTo>
                <a:lnTo>
                  <a:pt x="467" y="498"/>
                </a:lnTo>
                <a:lnTo>
                  <a:pt x="463" y="454"/>
                </a:lnTo>
                <a:lnTo>
                  <a:pt x="463" y="426"/>
                </a:lnTo>
                <a:lnTo>
                  <a:pt x="443" y="398"/>
                </a:lnTo>
                <a:lnTo>
                  <a:pt x="424" y="367"/>
                </a:lnTo>
                <a:lnTo>
                  <a:pt x="392" y="327"/>
                </a:lnTo>
                <a:lnTo>
                  <a:pt x="364" y="279"/>
                </a:lnTo>
                <a:lnTo>
                  <a:pt x="328" y="223"/>
                </a:lnTo>
                <a:lnTo>
                  <a:pt x="304" y="183"/>
                </a:lnTo>
                <a:lnTo>
                  <a:pt x="272" y="159"/>
                </a:lnTo>
                <a:lnTo>
                  <a:pt x="244" y="135"/>
                </a:lnTo>
                <a:lnTo>
                  <a:pt x="216" y="111"/>
                </a:lnTo>
                <a:lnTo>
                  <a:pt x="180" y="95"/>
                </a:lnTo>
                <a:lnTo>
                  <a:pt x="152" y="91"/>
                </a:lnTo>
                <a:lnTo>
                  <a:pt x="108" y="99"/>
                </a:lnTo>
                <a:lnTo>
                  <a:pt x="92" y="103"/>
                </a:lnTo>
                <a:lnTo>
                  <a:pt x="76" y="87"/>
                </a:lnTo>
                <a:lnTo>
                  <a:pt x="60" y="52"/>
                </a:lnTo>
                <a:lnTo>
                  <a:pt x="48" y="28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86"/>
          <p:cNvSpPr/>
          <p:nvPr/>
        </p:nvSpPr>
        <p:spPr>
          <a:xfrm>
            <a:off x="3433680" y="1866960"/>
            <a:ext cx="1077840" cy="347760"/>
          </a:xfrm>
          <a:custGeom>
            <a:avLst/>
            <a:gdLst/>
            <a:ahLst/>
            <a:rect l="l" t="t" r="r" b="b"/>
            <a:pathLst>
              <a:path w="679" h="219">
                <a:moveTo>
                  <a:pt x="679" y="0"/>
                </a:moveTo>
                <a:lnTo>
                  <a:pt x="679" y="40"/>
                </a:lnTo>
                <a:lnTo>
                  <a:pt x="671" y="84"/>
                </a:lnTo>
                <a:lnTo>
                  <a:pt x="663" y="108"/>
                </a:lnTo>
                <a:lnTo>
                  <a:pt x="651" y="139"/>
                </a:lnTo>
                <a:lnTo>
                  <a:pt x="615" y="171"/>
                </a:lnTo>
                <a:lnTo>
                  <a:pt x="547" y="183"/>
                </a:lnTo>
                <a:lnTo>
                  <a:pt x="463" y="199"/>
                </a:lnTo>
                <a:lnTo>
                  <a:pt x="424" y="199"/>
                </a:lnTo>
                <a:lnTo>
                  <a:pt x="380" y="191"/>
                </a:lnTo>
                <a:lnTo>
                  <a:pt x="344" y="179"/>
                </a:lnTo>
                <a:lnTo>
                  <a:pt x="324" y="191"/>
                </a:lnTo>
                <a:lnTo>
                  <a:pt x="296" y="191"/>
                </a:lnTo>
                <a:lnTo>
                  <a:pt x="248" y="183"/>
                </a:lnTo>
                <a:lnTo>
                  <a:pt x="160" y="183"/>
                </a:lnTo>
                <a:lnTo>
                  <a:pt x="112" y="183"/>
                </a:lnTo>
                <a:lnTo>
                  <a:pt x="88" y="199"/>
                </a:lnTo>
                <a:lnTo>
                  <a:pt x="56" y="219"/>
                </a:lnTo>
                <a:lnTo>
                  <a:pt x="28" y="215"/>
                </a:lnTo>
                <a:lnTo>
                  <a:pt x="16" y="199"/>
                </a:lnTo>
                <a:lnTo>
                  <a:pt x="0" y="187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87"/>
          <p:cNvSpPr/>
          <p:nvPr/>
        </p:nvSpPr>
        <p:spPr>
          <a:xfrm>
            <a:off x="4898880" y="4094280"/>
            <a:ext cx="640080" cy="304560"/>
          </a:xfrm>
          <a:custGeom>
            <a:avLst/>
            <a:gdLst/>
            <a:ahLst/>
            <a:rect l="l" t="t" r="r" b="b"/>
            <a:pathLst>
              <a:path w="403" h="192">
                <a:moveTo>
                  <a:pt x="0" y="164"/>
                </a:moveTo>
                <a:lnTo>
                  <a:pt x="2" y="170"/>
                </a:lnTo>
                <a:lnTo>
                  <a:pt x="8" y="180"/>
                </a:lnTo>
                <a:lnTo>
                  <a:pt x="12" y="186"/>
                </a:lnTo>
                <a:lnTo>
                  <a:pt x="16" y="190"/>
                </a:lnTo>
                <a:lnTo>
                  <a:pt x="22" y="192"/>
                </a:lnTo>
                <a:lnTo>
                  <a:pt x="28" y="192"/>
                </a:lnTo>
                <a:lnTo>
                  <a:pt x="40" y="188"/>
                </a:lnTo>
                <a:lnTo>
                  <a:pt x="52" y="180"/>
                </a:lnTo>
                <a:lnTo>
                  <a:pt x="64" y="168"/>
                </a:lnTo>
                <a:lnTo>
                  <a:pt x="83" y="124"/>
                </a:lnTo>
                <a:lnTo>
                  <a:pt x="115" y="88"/>
                </a:lnTo>
                <a:lnTo>
                  <a:pt x="135" y="52"/>
                </a:lnTo>
                <a:lnTo>
                  <a:pt x="171" y="40"/>
                </a:lnTo>
                <a:lnTo>
                  <a:pt x="195" y="24"/>
                </a:lnTo>
                <a:lnTo>
                  <a:pt x="251" y="16"/>
                </a:lnTo>
                <a:lnTo>
                  <a:pt x="291" y="8"/>
                </a:lnTo>
                <a:lnTo>
                  <a:pt x="335" y="0"/>
                </a:lnTo>
                <a:lnTo>
                  <a:pt x="367" y="0"/>
                </a:lnTo>
                <a:lnTo>
                  <a:pt x="383" y="12"/>
                </a:lnTo>
                <a:lnTo>
                  <a:pt x="387" y="40"/>
                </a:lnTo>
                <a:lnTo>
                  <a:pt x="395" y="64"/>
                </a:lnTo>
                <a:lnTo>
                  <a:pt x="403" y="10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88"/>
          <p:cNvSpPr/>
          <p:nvPr/>
        </p:nvSpPr>
        <p:spPr>
          <a:xfrm>
            <a:off x="1690560" y="1955880"/>
            <a:ext cx="4729320" cy="2625480"/>
          </a:xfrm>
          <a:custGeom>
            <a:avLst/>
            <a:gdLst/>
            <a:ahLst/>
            <a:rect l="l" t="t" r="r" b="b"/>
            <a:pathLst>
              <a:path w="2979" h="1654">
                <a:moveTo>
                  <a:pt x="2979" y="1280"/>
                </a:moveTo>
                <a:lnTo>
                  <a:pt x="2959" y="1299"/>
                </a:lnTo>
                <a:lnTo>
                  <a:pt x="2931" y="1311"/>
                </a:lnTo>
                <a:lnTo>
                  <a:pt x="2891" y="1311"/>
                </a:lnTo>
                <a:lnTo>
                  <a:pt x="2851" y="1315"/>
                </a:lnTo>
                <a:lnTo>
                  <a:pt x="2803" y="1335"/>
                </a:lnTo>
                <a:lnTo>
                  <a:pt x="2767" y="1363"/>
                </a:lnTo>
                <a:lnTo>
                  <a:pt x="2743" y="1395"/>
                </a:lnTo>
                <a:lnTo>
                  <a:pt x="2727" y="1419"/>
                </a:lnTo>
                <a:lnTo>
                  <a:pt x="2711" y="1443"/>
                </a:lnTo>
                <a:lnTo>
                  <a:pt x="2691" y="1475"/>
                </a:lnTo>
                <a:lnTo>
                  <a:pt x="2663" y="1499"/>
                </a:lnTo>
                <a:lnTo>
                  <a:pt x="2643" y="1495"/>
                </a:lnTo>
                <a:lnTo>
                  <a:pt x="2620" y="1479"/>
                </a:lnTo>
                <a:lnTo>
                  <a:pt x="2600" y="1479"/>
                </a:lnTo>
                <a:lnTo>
                  <a:pt x="2590" y="1479"/>
                </a:lnTo>
                <a:lnTo>
                  <a:pt x="2580" y="1477"/>
                </a:lnTo>
                <a:lnTo>
                  <a:pt x="2572" y="1471"/>
                </a:lnTo>
                <a:lnTo>
                  <a:pt x="2516" y="1431"/>
                </a:lnTo>
                <a:lnTo>
                  <a:pt x="2464" y="1391"/>
                </a:lnTo>
                <a:lnTo>
                  <a:pt x="2420" y="1351"/>
                </a:lnTo>
                <a:lnTo>
                  <a:pt x="2380" y="1315"/>
                </a:lnTo>
                <a:lnTo>
                  <a:pt x="2336" y="1288"/>
                </a:lnTo>
                <a:lnTo>
                  <a:pt x="2296" y="1284"/>
                </a:lnTo>
                <a:lnTo>
                  <a:pt x="2240" y="1288"/>
                </a:lnTo>
                <a:lnTo>
                  <a:pt x="2204" y="1315"/>
                </a:lnTo>
                <a:lnTo>
                  <a:pt x="2148" y="1359"/>
                </a:lnTo>
                <a:lnTo>
                  <a:pt x="2108" y="1403"/>
                </a:lnTo>
                <a:lnTo>
                  <a:pt x="2077" y="1435"/>
                </a:lnTo>
                <a:lnTo>
                  <a:pt x="2069" y="1463"/>
                </a:lnTo>
                <a:lnTo>
                  <a:pt x="2061" y="1499"/>
                </a:lnTo>
                <a:lnTo>
                  <a:pt x="2037" y="1551"/>
                </a:lnTo>
                <a:lnTo>
                  <a:pt x="2029" y="1563"/>
                </a:lnTo>
                <a:lnTo>
                  <a:pt x="2021" y="1583"/>
                </a:lnTo>
                <a:lnTo>
                  <a:pt x="2015" y="1593"/>
                </a:lnTo>
                <a:lnTo>
                  <a:pt x="2007" y="1603"/>
                </a:lnTo>
                <a:lnTo>
                  <a:pt x="1997" y="1610"/>
                </a:lnTo>
                <a:lnTo>
                  <a:pt x="1957" y="1630"/>
                </a:lnTo>
                <a:lnTo>
                  <a:pt x="1925" y="1650"/>
                </a:lnTo>
                <a:lnTo>
                  <a:pt x="1889" y="1654"/>
                </a:lnTo>
                <a:lnTo>
                  <a:pt x="1849" y="1654"/>
                </a:lnTo>
                <a:lnTo>
                  <a:pt x="1797" y="1646"/>
                </a:lnTo>
                <a:lnTo>
                  <a:pt x="1745" y="1607"/>
                </a:lnTo>
                <a:lnTo>
                  <a:pt x="1709" y="1563"/>
                </a:lnTo>
                <a:lnTo>
                  <a:pt x="1673" y="1531"/>
                </a:lnTo>
                <a:lnTo>
                  <a:pt x="1641" y="1507"/>
                </a:lnTo>
                <a:lnTo>
                  <a:pt x="1613" y="1495"/>
                </a:lnTo>
                <a:lnTo>
                  <a:pt x="1581" y="1499"/>
                </a:lnTo>
                <a:lnTo>
                  <a:pt x="1553" y="1527"/>
                </a:lnTo>
                <a:lnTo>
                  <a:pt x="1534" y="1551"/>
                </a:lnTo>
                <a:lnTo>
                  <a:pt x="1494" y="1567"/>
                </a:lnTo>
                <a:lnTo>
                  <a:pt x="1454" y="1547"/>
                </a:lnTo>
                <a:lnTo>
                  <a:pt x="1418" y="1519"/>
                </a:lnTo>
                <a:lnTo>
                  <a:pt x="1370" y="1495"/>
                </a:lnTo>
                <a:lnTo>
                  <a:pt x="1322" y="1491"/>
                </a:lnTo>
                <a:lnTo>
                  <a:pt x="1274" y="1491"/>
                </a:lnTo>
                <a:lnTo>
                  <a:pt x="1226" y="1491"/>
                </a:lnTo>
                <a:lnTo>
                  <a:pt x="1158" y="1495"/>
                </a:lnTo>
                <a:lnTo>
                  <a:pt x="1110" y="1487"/>
                </a:lnTo>
                <a:lnTo>
                  <a:pt x="1074" y="1471"/>
                </a:lnTo>
                <a:lnTo>
                  <a:pt x="1038" y="1467"/>
                </a:lnTo>
                <a:lnTo>
                  <a:pt x="1014" y="1499"/>
                </a:lnTo>
                <a:lnTo>
                  <a:pt x="991" y="1523"/>
                </a:lnTo>
                <a:lnTo>
                  <a:pt x="955" y="1523"/>
                </a:lnTo>
                <a:lnTo>
                  <a:pt x="851" y="1499"/>
                </a:lnTo>
                <a:lnTo>
                  <a:pt x="787" y="1471"/>
                </a:lnTo>
                <a:lnTo>
                  <a:pt x="759" y="1459"/>
                </a:lnTo>
                <a:lnTo>
                  <a:pt x="715" y="1455"/>
                </a:lnTo>
                <a:lnTo>
                  <a:pt x="671" y="1447"/>
                </a:lnTo>
                <a:lnTo>
                  <a:pt x="635" y="1427"/>
                </a:lnTo>
                <a:lnTo>
                  <a:pt x="595" y="1419"/>
                </a:lnTo>
                <a:lnTo>
                  <a:pt x="543" y="1399"/>
                </a:lnTo>
                <a:lnTo>
                  <a:pt x="543" y="1355"/>
                </a:lnTo>
                <a:lnTo>
                  <a:pt x="531" y="1307"/>
                </a:lnTo>
                <a:lnTo>
                  <a:pt x="527" y="1260"/>
                </a:lnTo>
                <a:lnTo>
                  <a:pt x="535" y="1208"/>
                </a:lnTo>
                <a:lnTo>
                  <a:pt x="551" y="1172"/>
                </a:lnTo>
                <a:lnTo>
                  <a:pt x="571" y="1140"/>
                </a:lnTo>
                <a:lnTo>
                  <a:pt x="579" y="1104"/>
                </a:lnTo>
                <a:lnTo>
                  <a:pt x="579" y="1056"/>
                </a:lnTo>
                <a:lnTo>
                  <a:pt x="563" y="1012"/>
                </a:lnTo>
                <a:lnTo>
                  <a:pt x="547" y="973"/>
                </a:lnTo>
                <a:lnTo>
                  <a:pt x="519" y="933"/>
                </a:lnTo>
                <a:lnTo>
                  <a:pt x="487" y="901"/>
                </a:lnTo>
                <a:lnTo>
                  <a:pt x="464" y="877"/>
                </a:lnTo>
                <a:lnTo>
                  <a:pt x="460" y="761"/>
                </a:lnTo>
                <a:lnTo>
                  <a:pt x="467" y="662"/>
                </a:lnTo>
                <a:lnTo>
                  <a:pt x="471" y="534"/>
                </a:lnTo>
                <a:lnTo>
                  <a:pt x="475" y="442"/>
                </a:lnTo>
                <a:lnTo>
                  <a:pt x="475" y="406"/>
                </a:lnTo>
                <a:lnTo>
                  <a:pt x="444" y="374"/>
                </a:lnTo>
                <a:lnTo>
                  <a:pt x="404" y="327"/>
                </a:lnTo>
                <a:lnTo>
                  <a:pt x="368" y="263"/>
                </a:lnTo>
                <a:lnTo>
                  <a:pt x="336" y="215"/>
                </a:lnTo>
                <a:lnTo>
                  <a:pt x="304" y="163"/>
                </a:lnTo>
                <a:lnTo>
                  <a:pt x="276" y="135"/>
                </a:lnTo>
                <a:lnTo>
                  <a:pt x="236" y="115"/>
                </a:lnTo>
                <a:lnTo>
                  <a:pt x="192" y="99"/>
                </a:lnTo>
                <a:lnTo>
                  <a:pt x="152" y="95"/>
                </a:lnTo>
                <a:lnTo>
                  <a:pt x="116" y="103"/>
                </a:lnTo>
                <a:lnTo>
                  <a:pt x="68" y="95"/>
                </a:lnTo>
                <a:lnTo>
                  <a:pt x="44" y="63"/>
                </a:lnTo>
                <a:lnTo>
                  <a:pt x="16" y="2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89"/>
          <p:cNvSpPr/>
          <p:nvPr/>
        </p:nvSpPr>
        <p:spPr>
          <a:xfrm>
            <a:off x="2414520" y="3328920"/>
            <a:ext cx="192240" cy="211320"/>
          </a:xfrm>
          <a:custGeom>
            <a:avLst/>
            <a:gdLst/>
            <a:ahLst/>
            <a:rect l="l" t="t" r="r" b="b"/>
            <a:pathLst>
              <a:path w="121" h="133">
                <a:moveTo>
                  <a:pt x="4" y="44"/>
                </a:moveTo>
                <a:lnTo>
                  <a:pt x="17" y="48"/>
                </a:lnTo>
                <a:lnTo>
                  <a:pt x="21" y="46"/>
                </a:lnTo>
                <a:lnTo>
                  <a:pt x="23" y="46"/>
                </a:lnTo>
                <a:lnTo>
                  <a:pt x="25" y="38"/>
                </a:lnTo>
                <a:lnTo>
                  <a:pt x="39" y="54"/>
                </a:lnTo>
                <a:lnTo>
                  <a:pt x="41" y="54"/>
                </a:lnTo>
                <a:lnTo>
                  <a:pt x="43" y="54"/>
                </a:lnTo>
                <a:lnTo>
                  <a:pt x="43" y="52"/>
                </a:lnTo>
                <a:lnTo>
                  <a:pt x="37" y="18"/>
                </a:lnTo>
                <a:lnTo>
                  <a:pt x="45" y="24"/>
                </a:lnTo>
                <a:lnTo>
                  <a:pt x="49" y="24"/>
                </a:lnTo>
                <a:lnTo>
                  <a:pt x="49" y="22"/>
                </a:lnTo>
                <a:lnTo>
                  <a:pt x="51" y="22"/>
                </a:lnTo>
                <a:lnTo>
                  <a:pt x="61" y="0"/>
                </a:lnTo>
                <a:lnTo>
                  <a:pt x="69" y="22"/>
                </a:lnTo>
                <a:lnTo>
                  <a:pt x="71" y="22"/>
                </a:lnTo>
                <a:lnTo>
                  <a:pt x="73" y="24"/>
                </a:lnTo>
                <a:lnTo>
                  <a:pt x="75" y="22"/>
                </a:lnTo>
                <a:lnTo>
                  <a:pt x="83" y="18"/>
                </a:lnTo>
                <a:lnTo>
                  <a:pt x="77" y="52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95" y="38"/>
                </a:lnTo>
                <a:lnTo>
                  <a:pt x="97" y="44"/>
                </a:lnTo>
                <a:lnTo>
                  <a:pt x="99" y="46"/>
                </a:lnTo>
                <a:lnTo>
                  <a:pt x="101" y="48"/>
                </a:lnTo>
                <a:lnTo>
                  <a:pt x="117" y="44"/>
                </a:lnTo>
                <a:lnTo>
                  <a:pt x="113" y="62"/>
                </a:lnTo>
                <a:lnTo>
                  <a:pt x="113" y="64"/>
                </a:lnTo>
                <a:lnTo>
                  <a:pt x="113" y="66"/>
                </a:lnTo>
                <a:lnTo>
                  <a:pt x="115" y="68"/>
                </a:lnTo>
                <a:lnTo>
                  <a:pt x="121" y="70"/>
                </a:lnTo>
                <a:lnTo>
                  <a:pt x="91" y="92"/>
                </a:lnTo>
                <a:lnTo>
                  <a:pt x="89" y="94"/>
                </a:lnTo>
                <a:lnTo>
                  <a:pt x="89" y="96"/>
                </a:lnTo>
                <a:lnTo>
                  <a:pt x="89" y="98"/>
                </a:lnTo>
                <a:lnTo>
                  <a:pt x="93" y="106"/>
                </a:lnTo>
                <a:lnTo>
                  <a:pt x="67" y="100"/>
                </a:lnTo>
                <a:lnTo>
                  <a:pt x="65" y="100"/>
                </a:lnTo>
                <a:lnTo>
                  <a:pt x="63" y="102"/>
                </a:lnTo>
                <a:lnTo>
                  <a:pt x="63" y="133"/>
                </a:lnTo>
                <a:lnTo>
                  <a:pt x="57" y="133"/>
                </a:lnTo>
                <a:lnTo>
                  <a:pt x="59" y="102"/>
                </a:lnTo>
                <a:lnTo>
                  <a:pt x="57" y="100"/>
                </a:lnTo>
                <a:lnTo>
                  <a:pt x="53" y="100"/>
                </a:lnTo>
                <a:lnTo>
                  <a:pt x="51" y="100"/>
                </a:lnTo>
                <a:lnTo>
                  <a:pt x="29" y="106"/>
                </a:lnTo>
                <a:lnTo>
                  <a:pt x="31" y="96"/>
                </a:lnTo>
                <a:lnTo>
                  <a:pt x="31" y="94"/>
                </a:lnTo>
                <a:lnTo>
                  <a:pt x="31" y="92"/>
                </a:lnTo>
                <a:lnTo>
                  <a:pt x="0" y="70"/>
                </a:lnTo>
                <a:lnTo>
                  <a:pt x="8" y="66"/>
                </a:lnTo>
                <a:lnTo>
                  <a:pt x="9" y="66"/>
                </a:lnTo>
                <a:lnTo>
                  <a:pt x="9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90"/>
          <p:cNvSpPr/>
          <p:nvPr/>
        </p:nvSpPr>
        <p:spPr>
          <a:xfrm>
            <a:off x="4321080" y="4354560"/>
            <a:ext cx="193680" cy="21096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7"/>
                </a:lnTo>
                <a:lnTo>
                  <a:pt x="94" y="105"/>
                </a:lnTo>
                <a:lnTo>
                  <a:pt x="68" y="99"/>
                </a:lnTo>
                <a:lnTo>
                  <a:pt x="66" y="99"/>
                </a:lnTo>
                <a:lnTo>
                  <a:pt x="64" y="101"/>
                </a:lnTo>
                <a:lnTo>
                  <a:pt x="64" y="133"/>
                </a:lnTo>
                <a:lnTo>
                  <a:pt x="58" y="133"/>
                </a:lnTo>
                <a:lnTo>
                  <a:pt x="60" y="101"/>
                </a:lnTo>
                <a:lnTo>
                  <a:pt x="58" y="99"/>
                </a:lnTo>
                <a:lnTo>
                  <a:pt x="54" y="99"/>
                </a:lnTo>
                <a:lnTo>
                  <a:pt x="52" y="99"/>
                </a:lnTo>
                <a:lnTo>
                  <a:pt x="30" y="105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91"/>
          <p:cNvSpPr/>
          <p:nvPr/>
        </p:nvSpPr>
        <p:spPr>
          <a:xfrm>
            <a:off x="5583240" y="4094280"/>
            <a:ext cx="193680" cy="212760"/>
          </a:xfrm>
          <a:custGeom>
            <a:avLst/>
            <a:gdLst/>
            <a:ahLst/>
            <a:rect l="l" t="t" r="r" b="b"/>
            <a:pathLst>
              <a:path w="122" h="134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8"/>
                </a:lnTo>
                <a:lnTo>
                  <a:pt x="94" y="106"/>
                </a:lnTo>
                <a:lnTo>
                  <a:pt x="68" y="100"/>
                </a:lnTo>
                <a:lnTo>
                  <a:pt x="66" y="100"/>
                </a:lnTo>
                <a:lnTo>
                  <a:pt x="64" y="102"/>
                </a:lnTo>
                <a:lnTo>
                  <a:pt x="64" y="134"/>
                </a:lnTo>
                <a:lnTo>
                  <a:pt x="58" y="134"/>
                </a:lnTo>
                <a:lnTo>
                  <a:pt x="60" y="102"/>
                </a:lnTo>
                <a:lnTo>
                  <a:pt x="58" y="100"/>
                </a:lnTo>
                <a:lnTo>
                  <a:pt x="54" y="100"/>
                </a:lnTo>
                <a:lnTo>
                  <a:pt x="52" y="100"/>
                </a:lnTo>
                <a:lnTo>
                  <a:pt x="30" y="106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92"/>
          <p:cNvSpPr/>
          <p:nvPr/>
        </p:nvSpPr>
        <p:spPr>
          <a:xfrm>
            <a:off x="2711520" y="4376880"/>
            <a:ext cx="539640" cy="458640"/>
          </a:xfrm>
          <a:custGeom>
            <a:avLst/>
            <a:gdLst/>
            <a:ahLst/>
            <a:rect l="l" t="t" r="r" b="b"/>
            <a:pathLst>
              <a:path w="340" h="289">
                <a:moveTo>
                  <a:pt x="326" y="0"/>
                </a:moveTo>
                <a:lnTo>
                  <a:pt x="336" y="38"/>
                </a:lnTo>
                <a:lnTo>
                  <a:pt x="340" y="74"/>
                </a:lnTo>
                <a:lnTo>
                  <a:pt x="308" y="113"/>
                </a:lnTo>
                <a:lnTo>
                  <a:pt x="256" y="157"/>
                </a:lnTo>
                <a:lnTo>
                  <a:pt x="212" y="189"/>
                </a:lnTo>
                <a:lnTo>
                  <a:pt x="164" y="237"/>
                </a:lnTo>
                <a:lnTo>
                  <a:pt x="100" y="265"/>
                </a:lnTo>
                <a:lnTo>
                  <a:pt x="44" y="277"/>
                </a:lnTo>
                <a:lnTo>
                  <a:pt x="0" y="289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93"/>
          <p:cNvSpPr/>
          <p:nvPr/>
        </p:nvSpPr>
        <p:spPr>
          <a:xfrm>
            <a:off x="3529080" y="3240000"/>
            <a:ext cx="1736640" cy="1089000"/>
          </a:xfrm>
          <a:custGeom>
            <a:avLst/>
            <a:gdLst/>
            <a:ahLst/>
            <a:rect l="l" t="t" r="r" b="b"/>
            <a:pathLst>
              <a:path w="1094" h="686">
                <a:moveTo>
                  <a:pt x="0" y="686"/>
                </a:moveTo>
                <a:lnTo>
                  <a:pt x="48" y="646"/>
                </a:lnTo>
                <a:lnTo>
                  <a:pt x="140" y="606"/>
                </a:lnTo>
                <a:lnTo>
                  <a:pt x="208" y="602"/>
                </a:lnTo>
                <a:lnTo>
                  <a:pt x="308" y="590"/>
                </a:lnTo>
                <a:lnTo>
                  <a:pt x="368" y="550"/>
                </a:lnTo>
                <a:lnTo>
                  <a:pt x="399" y="510"/>
                </a:lnTo>
                <a:lnTo>
                  <a:pt x="403" y="467"/>
                </a:lnTo>
                <a:lnTo>
                  <a:pt x="407" y="431"/>
                </a:lnTo>
                <a:lnTo>
                  <a:pt x="443" y="411"/>
                </a:lnTo>
                <a:lnTo>
                  <a:pt x="495" y="407"/>
                </a:lnTo>
                <a:lnTo>
                  <a:pt x="511" y="371"/>
                </a:lnTo>
                <a:lnTo>
                  <a:pt x="611" y="315"/>
                </a:lnTo>
                <a:lnTo>
                  <a:pt x="743" y="251"/>
                </a:lnTo>
                <a:lnTo>
                  <a:pt x="827" y="191"/>
                </a:lnTo>
                <a:lnTo>
                  <a:pt x="895" y="144"/>
                </a:lnTo>
                <a:lnTo>
                  <a:pt x="930" y="144"/>
                </a:lnTo>
                <a:lnTo>
                  <a:pt x="982" y="104"/>
                </a:lnTo>
                <a:lnTo>
                  <a:pt x="1026" y="56"/>
                </a:lnTo>
                <a:lnTo>
                  <a:pt x="1070" y="28"/>
                </a:lnTo>
                <a:lnTo>
                  <a:pt x="1094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94"/>
          <p:cNvSpPr/>
          <p:nvPr/>
        </p:nvSpPr>
        <p:spPr>
          <a:xfrm>
            <a:off x="2857680" y="1822320"/>
            <a:ext cx="1616040" cy="177840"/>
          </a:xfrm>
          <a:custGeom>
            <a:avLst/>
            <a:gdLst/>
            <a:ahLst/>
            <a:rect l="l" t="t" r="r" b="b"/>
            <a:pathLst>
              <a:path w="1018" h="112">
                <a:moveTo>
                  <a:pt x="0" y="72"/>
                </a:moveTo>
                <a:lnTo>
                  <a:pt x="72" y="68"/>
                </a:lnTo>
                <a:lnTo>
                  <a:pt x="156" y="84"/>
                </a:lnTo>
                <a:lnTo>
                  <a:pt x="228" y="112"/>
                </a:lnTo>
                <a:lnTo>
                  <a:pt x="275" y="112"/>
                </a:lnTo>
                <a:lnTo>
                  <a:pt x="359" y="100"/>
                </a:lnTo>
                <a:lnTo>
                  <a:pt x="431" y="80"/>
                </a:lnTo>
                <a:lnTo>
                  <a:pt x="539" y="40"/>
                </a:lnTo>
                <a:lnTo>
                  <a:pt x="639" y="36"/>
                </a:lnTo>
                <a:lnTo>
                  <a:pt x="677" y="38"/>
                </a:lnTo>
                <a:lnTo>
                  <a:pt x="707" y="38"/>
                </a:lnTo>
                <a:lnTo>
                  <a:pt x="731" y="36"/>
                </a:lnTo>
                <a:lnTo>
                  <a:pt x="751" y="30"/>
                </a:lnTo>
                <a:lnTo>
                  <a:pt x="773" y="22"/>
                </a:lnTo>
                <a:lnTo>
                  <a:pt x="803" y="8"/>
                </a:lnTo>
                <a:lnTo>
                  <a:pt x="822" y="12"/>
                </a:lnTo>
                <a:lnTo>
                  <a:pt x="854" y="16"/>
                </a:lnTo>
                <a:lnTo>
                  <a:pt x="926" y="20"/>
                </a:lnTo>
                <a:lnTo>
                  <a:pt x="974" y="8"/>
                </a:lnTo>
                <a:lnTo>
                  <a:pt x="1018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95"/>
          <p:cNvSpPr/>
          <p:nvPr/>
        </p:nvSpPr>
        <p:spPr>
          <a:xfrm>
            <a:off x="3282840" y="1284120"/>
            <a:ext cx="2845080" cy="2829240"/>
          </a:xfrm>
          <a:custGeom>
            <a:avLst/>
            <a:gdLst/>
            <a:ahLst/>
            <a:rect l="l" t="t" r="r" b="b"/>
            <a:pathLst>
              <a:path w="1792" h="1782">
                <a:moveTo>
                  <a:pt x="0" y="8"/>
                </a:moveTo>
                <a:lnTo>
                  <a:pt x="35" y="16"/>
                </a:lnTo>
                <a:lnTo>
                  <a:pt x="79" y="20"/>
                </a:lnTo>
                <a:lnTo>
                  <a:pt x="143" y="28"/>
                </a:lnTo>
                <a:lnTo>
                  <a:pt x="195" y="24"/>
                </a:lnTo>
                <a:lnTo>
                  <a:pt x="227" y="12"/>
                </a:lnTo>
                <a:lnTo>
                  <a:pt x="267" y="8"/>
                </a:lnTo>
                <a:lnTo>
                  <a:pt x="299" y="0"/>
                </a:lnTo>
                <a:lnTo>
                  <a:pt x="335" y="28"/>
                </a:lnTo>
                <a:lnTo>
                  <a:pt x="403" y="64"/>
                </a:lnTo>
                <a:lnTo>
                  <a:pt x="499" y="92"/>
                </a:lnTo>
                <a:lnTo>
                  <a:pt x="586" y="104"/>
                </a:lnTo>
                <a:lnTo>
                  <a:pt x="650" y="132"/>
                </a:lnTo>
                <a:lnTo>
                  <a:pt x="690" y="148"/>
                </a:lnTo>
                <a:lnTo>
                  <a:pt x="706" y="191"/>
                </a:lnTo>
                <a:lnTo>
                  <a:pt x="734" y="263"/>
                </a:lnTo>
                <a:lnTo>
                  <a:pt x="754" y="315"/>
                </a:lnTo>
                <a:lnTo>
                  <a:pt x="758" y="375"/>
                </a:lnTo>
                <a:lnTo>
                  <a:pt x="772" y="385"/>
                </a:lnTo>
                <a:lnTo>
                  <a:pt x="782" y="395"/>
                </a:lnTo>
                <a:lnTo>
                  <a:pt x="794" y="399"/>
                </a:lnTo>
                <a:lnTo>
                  <a:pt x="842" y="415"/>
                </a:lnTo>
                <a:lnTo>
                  <a:pt x="870" y="447"/>
                </a:lnTo>
                <a:lnTo>
                  <a:pt x="902" y="479"/>
                </a:lnTo>
                <a:lnTo>
                  <a:pt x="930" y="530"/>
                </a:lnTo>
                <a:lnTo>
                  <a:pt x="938" y="578"/>
                </a:lnTo>
                <a:lnTo>
                  <a:pt x="958" y="630"/>
                </a:lnTo>
                <a:lnTo>
                  <a:pt x="982" y="678"/>
                </a:lnTo>
                <a:lnTo>
                  <a:pt x="970" y="714"/>
                </a:lnTo>
                <a:lnTo>
                  <a:pt x="970" y="746"/>
                </a:lnTo>
                <a:lnTo>
                  <a:pt x="950" y="789"/>
                </a:lnTo>
                <a:lnTo>
                  <a:pt x="926" y="821"/>
                </a:lnTo>
                <a:lnTo>
                  <a:pt x="910" y="849"/>
                </a:lnTo>
                <a:lnTo>
                  <a:pt x="898" y="877"/>
                </a:lnTo>
                <a:lnTo>
                  <a:pt x="890" y="905"/>
                </a:lnTo>
                <a:lnTo>
                  <a:pt x="922" y="933"/>
                </a:lnTo>
                <a:lnTo>
                  <a:pt x="958" y="961"/>
                </a:lnTo>
                <a:lnTo>
                  <a:pt x="1010" y="1001"/>
                </a:lnTo>
                <a:lnTo>
                  <a:pt x="1078" y="1061"/>
                </a:lnTo>
                <a:lnTo>
                  <a:pt x="1145" y="1112"/>
                </a:lnTo>
                <a:lnTo>
                  <a:pt x="1185" y="1160"/>
                </a:lnTo>
                <a:lnTo>
                  <a:pt x="1237" y="1204"/>
                </a:lnTo>
                <a:lnTo>
                  <a:pt x="1261" y="1254"/>
                </a:lnTo>
                <a:lnTo>
                  <a:pt x="1285" y="1272"/>
                </a:lnTo>
                <a:lnTo>
                  <a:pt x="1313" y="1276"/>
                </a:lnTo>
                <a:lnTo>
                  <a:pt x="1317" y="1308"/>
                </a:lnTo>
                <a:lnTo>
                  <a:pt x="1337" y="1360"/>
                </a:lnTo>
                <a:lnTo>
                  <a:pt x="1349" y="1439"/>
                </a:lnTo>
                <a:lnTo>
                  <a:pt x="1385" y="1487"/>
                </a:lnTo>
                <a:lnTo>
                  <a:pt x="1393" y="1531"/>
                </a:lnTo>
                <a:lnTo>
                  <a:pt x="1421" y="1547"/>
                </a:lnTo>
                <a:lnTo>
                  <a:pt x="1461" y="1571"/>
                </a:lnTo>
                <a:lnTo>
                  <a:pt x="1445" y="1607"/>
                </a:lnTo>
                <a:lnTo>
                  <a:pt x="1445" y="1655"/>
                </a:lnTo>
                <a:lnTo>
                  <a:pt x="1489" y="1647"/>
                </a:lnTo>
                <a:lnTo>
                  <a:pt x="1525" y="1647"/>
                </a:lnTo>
                <a:lnTo>
                  <a:pt x="1569" y="1659"/>
                </a:lnTo>
                <a:lnTo>
                  <a:pt x="1605" y="1671"/>
                </a:lnTo>
                <a:lnTo>
                  <a:pt x="1636" y="1687"/>
                </a:lnTo>
                <a:lnTo>
                  <a:pt x="1652" y="1679"/>
                </a:lnTo>
                <a:lnTo>
                  <a:pt x="1680" y="1679"/>
                </a:lnTo>
                <a:lnTo>
                  <a:pt x="1704" y="1707"/>
                </a:lnTo>
                <a:lnTo>
                  <a:pt x="1732" y="1719"/>
                </a:lnTo>
                <a:lnTo>
                  <a:pt x="1764" y="1746"/>
                </a:lnTo>
                <a:lnTo>
                  <a:pt x="1792" y="1782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96"/>
          <p:cNvSpPr/>
          <p:nvPr/>
        </p:nvSpPr>
        <p:spPr>
          <a:xfrm>
            <a:off x="4075200" y="4603680"/>
            <a:ext cx="563400" cy="668520"/>
          </a:xfrm>
          <a:custGeom>
            <a:avLst/>
            <a:gdLst/>
            <a:ahLst/>
            <a:rect l="l" t="t" r="r" b="b"/>
            <a:pathLst>
              <a:path w="355" h="421">
                <a:moveTo>
                  <a:pt x="355" y="0"/>
                </a:moveTo>
                <a:lnTo>
                  <a:pt x="329" y="32"/>
                </a:lnTo>
                <a:lnTo>
                  <a:pt x="281" y="102"/>
                </a:lnTo>
                <a:lnTo>
                  <a:pt x="239" y="154"/>
                </a:lnTo>
                <a:lnTo>
                  <a:pt x="195" y="182"/>
                </a:lnTo>
                <a:lnTo>
                  <a:pt x="163" y="240"/>
                </a:lnTo>
                <a:lnTo>
                  <a:pt x="115" y="281"/>
                </a:lnTo>
                <a:lnTo>
                  <a:pt x="79" y="335"/>
                </a:lnTo>
                <a:lnTo>
                  <a:pt x="51" y="383"/>
                </a:lnTo>
                <a:lnTo>
                  <a:pt x="0" y="421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97"/>
          <p:cNvSpPr/>
          <p:nvPr/>
        </p:nvSpPr>
        <p:spPr>
          <a:xfrm>
            <a:off x="2806560" y="5272200"/>
            <a:ext cx="1233720" cy="226800"/>
          </a:xfrm>
          <a:custGeom>
            <a:avLst/>
            <a:gdLst/>
            <a:ahLst/>
            <a:rect l="l" t="t" r="r" b="b"/>
            <a:pathLst>
              <a:path w="777" h="143">
                <a:moveTo>
                  <a:pt x="0" y="42"/>
                </a:moveTo>
                <a:lnTo>
                  <a:pt x="52" y="20"/>
                </a:lnTo>
                <a:lnTo>
                  <a:pt x="106" y="32"/>
                </a:lnTo>
                <a:lnTo>
                  <a:pt x="176" y="74"/>
                </a:lnTo>
                <a:lnTo>
                  <a:pt x="250" y="106"/>
                </a:lnTo>
                <a:lnTo>
                  <a:pt x="323" y="122"/>
                </a:lnTo>
                <a:lnTo>
                  <a:pt x="387" y="143"/>
                </a:lnTo>
                <a:lnTo>
                  <a:pt x="451" y="132"/>
                </a:lnTo>
                <a:lnTo>
                  <a:pt x="505" y="112"/>
                </a:lnTo>
                <a:lnTo>
                  <a:pt x="521" y="84"/>
                </a:lnTo>
                <a:lnTo>
                  <a:pt x="595" y="84"/>
                </a:lnTo>
                <a:lnTo>
                  <a:pt x="617" y="48"/>
                </a:lnTo>
                <a:lnTo>
                  <a:pt x="675" y="36"/>
                </a:lnTo>
                <a:lnTo>
                  <a:pt x="739" y="26"/>
                </a:lnTo>
                <a:lnTo>
                  <a:pt x="761" y="4"/>
                </a:lnTo>
                <a:lnTo>
                  <a:pt x="777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98"/>
          <p:cNvSpPr/>
          <p:nvPr/>
        </p:nvSpPr>
        <p:spPr>
          <a:xfrm>
            <a:off x="2332080" y="1322280"/>
            <a:ext cx="1057320" cy="1152720"/>
          </a:xfrm>
          <a:custGeom>
            <a:avLst/>
            <a:gdLst/>
            <a:ahLst/>
            <a:rect l="l" t="t" r="r" b="b"/>
            <a:pathLst>
              <a:path w="666" h="726">
                <a:moveTo>
                  <a:pt x="0" y="726"/>
                </a:moveTo>
                <a:lnTo>
                  <a:pt x="48" y="706"/>
                </a:lnTo>
                <a:lnTo>
                  <a:pt x="83" y="674"/>
                </a:lnTo>
                <a:lnTo>
                  <a:pt x="111" y="634"/>
                </a:lnTo>
                <a:lnTo>
                  <a:pt x="139" y="610"/>
                </a:lnTo>
                <a:lnTo>
                  <a:pt x="167" y="594"/>
                </a:lnTo>
                <a:lnTo>
                  <a:pt x="195" y="550"/>
                </a:lnTo>
                <a:lnTo>
                  <a:pt x="235" y="522"/>
                </a:lnTo>
                <a:lnTo>
                  <a:pt x="275" y="498"/>
                </a:lnTo>
                <a:lnTo>
                  <a:pt x="303" y="455"/>
                </a:lnTo>
                <a:lnTo>
                  <a:pt x="331" y="409"/>
                </a:lnTo>
                <a:lnTo>
                  <a:pt x="335" y="347"/>
                </a:lnTo>
                <a:lnTo>
                  <a:pt x="339" y="297"/>
                </a:lnTo>
                <a:lnTo>
                  <a:pt x="383" y="283"/>
                </a:lnTo>
                <a:lnTo>
                  <a:pt x="411" y="243"/>
                </a:lnTo>
                <a:lnTo>
                  <a:pt x="423" y="215"/>
                </a:lnTo>
                <a:lnTo>
                  <a:pt x="467" y="195"/>
                </a:lnTo>
                <a:lnTo>
                  <a:pt x="471" y="163"/>
                </a:lnTo>
                <a:lnTo>
                  <a:pt x="491" y="128"/>
                </a:lnTo>
                <a:lnTo>
                  <a:pt x="523" y="116"/>
                </a:lnTo>
                <a:lnTo>
                  <a:pt x="559" y="120"/>
                </a:lnTo>
                <a:lnTo>
                  <a:pt x="606" y="80"/>
                </a:lnTo>
                <a:lnTo>
                  <a:pt x="626" y="48"/>
                </a:lnTo>
                <a:lnTo>
                  <a:pt x="642" y="12"/>
                </a:lnTo>
                <a:lnTo>
                  <a:pt x="666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99"/>
          <p:cNvSpPr/>
          <p:nvPr/>
        </p:nvSpPr>
        <p:spPr>
          <a:xfrm>
            <a:off x="5886360" y="4329000"/>
            <a:ext cx="69840" cy="76320"/>
          </a:xfrm>
          <a:custGeom>
            <a:avLst/>
            <a:gdLst/>
            <a:ahLst/>
            <a:rect l="l" t="t" r="r" b="b"/>
            <a:pathLst>
              <a:path w="44" h="48">
                <a:moveTo>
                  <a:pt x="0" y="0"/>
                </a:moveTo>
                <a:lnTo>
                  <a:pt x="20" y="24"/>
                </a:lnTo>
                <a:lnTo>
                  <a:pt x="44" y="48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00"/>
          <p:cNvSpPr/>
          <p:nvPr/>
        </p:nvSpPr>
        <p:spPr>
          <a:xfrm>
            <a:off x="5815080" y="428472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0"/>
                </a:moveTo>
                <a:lnTo>
                  <a:pt x="41" y="28"/>
                </a:lnTo>
                <a:lnTo>
                  <a:pt x="35" y="36"/>
                </a:lnTo>
                <a:lnTo>
                  <a:pt x="29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29" y="0"/>
                </a:lnTo>
                <a:lnTo>
                  <a:pt x="35" y="6"/>
                </a:lnTo>
                <a:lnTo>
                  <a:pt x="41" y="12"/>
                </a:lnTo>
                <a:lnTo>
                  <a:pt x="41" y="18"/>
                </a:lnTo>
                <a:lnTo>
                  <a:pt x="4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01"/>
          <p:cNvSpPr/>
          <p:nvPr/>
        </p:nvSpPr>
        <p:spPr>
          <a:xfrm>
            <a:off x="4040280" y="52372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02"/>
          <p:cNvSpPr/>
          <p:nvPr/>
        </p:nvSpPr>
        <p:spPr>
          <a:xfrm>
            <a:off x="5211720" y="47466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03"/>
          <p:cNvSpPr/>
          <p:nvPr/>
        </p:nvSpPr>
        <p:spPr>
          <a:xfrm>
            <a:off x="4606920" y="456876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4"/>
          <p:cNvSpPr/>
          <p:nvPr/>
        </p:nvSpPr>
        <p:spPr>
          <a:xfrm>
            <a:off x="5249880" y="32083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05"/>
          <p:cNvSpPr/>
          <p:nvPr/>
        </p:nvSpPr>
        <p:spPr>
          <a:xfrm>
            <a:off x="5392800" y="346536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39"/>
                </a:lnTo>
                <a:lnTo>
                  <a:pt x="20" y="41"/>
                </a:lnTo>
                <a:lnTo>
                  <a:pt x="12" y="39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06"/>
          <p:cNvSpPr/>
          <p:nvPr/>
        </p:nvSpPr>
        <p:spPr>
          <a:xfrm>
            <a:off x="5361120" y="4021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07"/>
          <p:cNvSpPr/>
          <p:nvPr/>
        </p:nvSpPr>
        <p:spPr>
          <a:xfrm>
            <a:off x="4613400" y="2593800"/>
            <a:ext cx="69840" cy="70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30"/>
                </a:lnTo>
                <a:lnTo>
                  <a:pt x="38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8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2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08"/>
          <p:cNvSpPr/>
          <p:nvPr/>
        </p:nvSpPr>
        <p:spPr>
          <a:xfrm>
            <a:off x="5037120" y="189864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8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8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209"/>
          <p:cNvSpPr/>
          <p:nvPr/>
        </p:nvSpPr>
        <p:spPr>
          <a:xfrm>
            <a:off x="1792440" y="2081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8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30" y="0"/>
                </a:lnTo>
                <a:lnTo>
                  <a:pt x="36" y="6"/>
                </a:lnTo>
                <a:lnTo>
                  <a:pt x="40" y="12"/>
                </a:lnTo>
                <a:lnTo>
                  <a:pt x="40" y="2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210"/>
          <p:cNvSpPr/>
          <p:nvPr/>
        </p:nvSpPr>
        <p:spPr>
          <a:xfrm>
            <a:off x="1579680" y="216360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211"/>
          <p:cNvSpPr/>
          <p:nvPr/>
        </p:nvSpPr>
        <p:spPr>
          <a:xfrm>
            <a:off x="2822400" y="1905120"/>
            <a:ext cx="6696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212"/>
          <p:cNvSpPr/>
          <p:nvPr/>
        </p:nvSpPr>
        <p:spPr>
          <a:xfrm>
            <a:off x="2835360" y="17272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13"/>
          <p:cNvSpPr/>
          <p:nvPr/>
        </p:nvSpPr>
        <p:spPr>
          <a:xfrm>
            <a:off x="2408400" y="300024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1"/>
                </a:moveTo>
                <a:lnTo>
                  <a:pt x="41" y="29"/>
                </a:lnTo>
                <a:lnTo>
                  <a:pt x="37" y="37"/>
                </a:lnTo>
                <a:lnTo>
                  <a:pt x="29" y="41"/>
                </a:lnTo>
                <a:lnTo>
                  <a:pt x="21" y="43"/>
                </a:lnTo>
                <a:lnTo>
                  <a:pt x="13" y="41"/>
                </a:lnTo>
                <a:lnTo>
                  <a:pt x="8" y="37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8" y="6"/>
                </a:lnTo>
                <a:lnTo>
                  <a:pt x="13" y="2"/>
                </a:lnTo>
                <a:lnTo>
                  <a:pt x="21" y="0"/>
                </a:lnTo>
                <a:lnTo>
                  <a:pt x="29" y="2"/>
                </a:lnTo>
                <a:lnTo>
                  <a:pt x="37" y="6"/>
                </a:lnTo>
                <a:lnTo>
                  <a:pt x="41" y="14"/>
                </a:lnTo>
                <a:lnTo>
                  <a:pt x="41" y="21"/>
                </a:lnTo>
                <a:lnTo>
                  <a:pt x="4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4"/>
          <p:cNvSpPr/>
          <p:nvPr/>
        </p:nvSpPr>
        <p:spPr>
          <a:xfrm>
            <a:off x="3760920" y="118584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215"/>
          <p:cNvSpPr/>
          <p:nvPr/>
        </p:nvSpPr>
        <p:spPr>
          <a:xfrm>
            <a:off x="2297160" y="24433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16"/>
          <p:cNvSpPr/>
          <p:nvPr/>
        </p:nvSpPr>
        <p:spPr>
          <a:xfrm>
            <a:off x="4454640" y="180972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7"/>
          <p:cNvSpPr/>
          <p:nvPr/>
        </p:nvSpPr>
        <p:spPr>
          <a:xfrm>
            <a:off x="5398920" y="165096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18"/>
          <p:cNvSpPr/>
          <p:nvPr/>
        </p:nvSpPr>
        <p:spPr>
          <a:xfrm>
            <a:off x="2771640" y="5303880"/>
            <a:ext cx="6696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19"/>
          <p:cNvSpPr/>
          <p:nvPr/>
        </p:nvSpPr>
        <p:spPr>
          <a:xfrm>
            <a:off x="3016080" y="5465880"/>
            <a:ext cx="70200" cy="6480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21"/>
                </a:moveTo>
                <a:lnTo>
                  <a:pt x="42" y="29"/>
                </a:lnTo>
                <a:lnTo>
                  <a:pt x="38" y="35"/>
                </a:lnTo>
                <a:lnTo>
                  <a:pt x="30" y="39"/>
                </a:lnTo>
                <a:lnTo>
                  <a:pt x="22" y="41"/>
                </a:lnTo>
                <a:lnTo>
                  <a:pt x="14" y="39"/>
                </a:lnTo>
                <a:lnTo>
                  <a:pt x="6" y="35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1"/>
                </a:lnTo>
                <a:lnTo>
                  <a:pt x="4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0"/>
          <p:cNvSpPr/>
          <p:nvPr/>
        </p:nvSpPr>
        <p:spPr>
          <a:xfrm>
            <a:off x="5401800" y="432900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ck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21"/>
          <p:cNvSpPr/>
          <p:nvPr/>
        </p:nvSpPr>
        <p:spPr>
          <a:xfrm>
            <a:off x="4167000" y="505476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22"/>
          <p:cNvSpPr/>
          <p:nvPr/>
        </p:nvSpPr>
        <p:spPr>
          <a:xfrm>
            <a:off x="4167360" y="517356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23"/>
          <p:cNvSpPr/>
          <p:nvPr/>
        </p:nvSpPr>
        <p:spPr>
          <a:xfrm>
            <a:off x="4707360" y="460836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s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24"/>
          <p:cNvSpPr/>
          <p:nvPr/>
        </p:nvSpPr>
        <p:spPr>
          <a:xfrm>
            <a:off x="4739400" y="317664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ibu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5"/>
          <p:cNvSpPr/>
          <p:nvPr/>
        </p:nvSpPr>
        <p:spPr>
          <a:xfrm>
            <a:off x="5727960" y="1209600"/>
            <a:ext cx="62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ou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26"/>
          <p:cNvSpPr/>
          <p:nvPr/>
        </p:nvSpPr>
        <p:spPr>
          <a:xfrm>
            <a:off x="5679360" y="148752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 Lam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27"/>
          <p:cNvSpPr/>
          <p:nvPr/>
        </p:nvSpPr>
        <p:spPr>
          <a:xfrm>
            <a:off x="2970000" y="625320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 Manan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28"/>
          <p:cNvSpPr/>
          <p:nvPr/>
        </p:nvSpPr>
        <p:spPr>
          <a:xfrm>
            <a:off x="5215320" y="462744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9"/>
          <p:cNvSpPr/>
          <p:nvPr/>
        </p:nvSpPr>
        <p:spPr>
          <a:xfrm>
            <a:off x="3050640" y="532296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0"/>
          <p:cNvSpPr/>
          <p:nvPr/>
        </p:nvSpPr>
        <p:spPr>
          <a:xfrm>
            <a:off x="2529000" y="300672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t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1"/>
          <p:cNvSpPr/>
          <p:nvPr/>
        </p:nvSpPr>
        <p:spPr>
          <a:xfrm>
            <a:off x="2529360" y="313056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32"/>
          <p:cNvSpPr/>
          <p:nvPr/>
        </p:nvSpPr>
        <p:spPr>
          <a:xfrm>
            <a:off x="1892520" y="193680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dmund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33"/>
          <p:cNvSpPr/>
          <p:nvPr/>
        </p:nvSpPr>
        <p:spPr>
          <a:xfrm>
            <a:off x="2378880" y="162720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dg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34"/>
          <p:cNvSpPr/>
          <p:nvPr/>
        </p:nvSpPr>
        <p:spPr>
          <a:xfrm>
            <a:off x="1345320" y="2133720"/>
            <a:ext cx="20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35"/>
          <p:cNvSpPr/>
          <p:nvPr/>
        </p:nvSpPr>
        <p:spPr>
          <a:xfrm>
            <a:off x="3881880" y="1139760"/>
            <a:ext cx="45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lhou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36"/>
          <p:cNvSpPr/>
          <p:nvPr/>
        </p:nvSpPr>
        <p:spPr>
          <a:xfrm>
            <a:off x="2419560" y="2411280"/>
            <a:ext cx="63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Leo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37"/>
          <p:cNvSpPr/>
          <p:nvPr/>
        </p:nvSpPr>
        <p:spPr>
          <a:xfrm>
            <a:off x="4074840" y="170352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u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38"/>
          <p:cNvSpPr/>
          <p:nvPr/>
        </p:nvSpPr>
        <p:spPr>
          <a:xfrm>
            <a:off x="4739760" y="186696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39"/>
          <p:cNvSpPr/>
          <p:nvPr/>
        </p:nvSpPr>
        <p:spPr>
          <a:xfrm>
            <a:off x="4740120" y="199080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id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40"/>
          <p:cNvSpPr/>
          <p:nvPr/>
        </p:nvSpPr>
        <p:spPr>
          <a:xfrm>
            <a:off x="4444200" y="244620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mi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41"/>
          <p:cNvSpPr/>
          <p:nvPr/>
        </p:nvSpPr>
        <p:spPr>
          <a:xfrm>
            <a:off x="5511960" y="168768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pa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2"/>
          <p:cNvSpPr/>
          <p:nvPr/>
        </p:nvSpPr>
        <p:spPr>
          <a:xfrm>
            <a:off x="4845240" y="3373560"/>
            <a:ext cx="54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ucto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43"/>
          <p:cNvSpPr/>
          <p:nvPr/>
        </p:nvSpPr>
        <p:spPr>
          <a:xfrm>
            <a:off x="4971960" y="3879720"/>
            <a:ext cx="39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c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44"/>
          <p:cNvSpPr/>
          <p:nvPr/>
        </p:nvSpPr>
        <p:spPr>
          <a:xfrm>
            <a:off x="2892240" y="19652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5"/>
          <p:cNvSpPr/>
          <p:nvPr/>
        </p:nvSpPr>
        <p:spPr>
          <a:xfrm>
            <a:off x="2892960" y="208584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en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46"/>
          <p:cNvSpPr/>
          <p:nvPr/>
        </p:nvSpPr>
        <p:spPr>
          <a:xfrm>
            <a:off x="2748600" y="517032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Step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7"/>
          <p:cNvSpPr/>
          <p:nvPr/>
        </p:nvSpPr>
        <p:spPr>
          <a:xfrm>
            <a:off x="2956680" y="439272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deric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48"/>
          <p:cNvSpPr/>
          <p:nvPr/>
        </p:nvSpPr>
        <p:spPr>
          <a:xfrm>
            <a:off x="4250520" y="393372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49"/>
          <p:cNvSpPr/>
          <p:nvPr/>
        </p:nvSpPr>
        <p:spPr>
          <a:xfrm>
            <a:off x="4313520" y="405432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0"/>
          <p:cNvSpPr/>
          <p:nvPr/>
        </p:nvSpPr>
        <p:spPr>
          <a:xfrm>
            <a:off x="2731680" y="40766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int John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51"/>
          <p:cNvSpPr/>
          <p:nvPr/>
        </p:nvSpPr>
        <p:spPr>
          <a:xfrm>
            <a:off x="4100040" y="549756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y of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52"/>
          <p:cNvSpPr/>
          <p:nvPr/>
        </p:nvSpPr>
        <p:spPr>
          <a:xfrm>
            <a:off x="4072320" y="5618160"/>
            <a:ext cx="65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le de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53"/>
          <p:cNvSpPr/>
          <p:nvPr/>
        </p:nvSpPr>
        <p:spPr>
          <a:xfrm>
            <a:off x="6642000" y="2579760"/>
            <a:ext cx="898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ulf of St Law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54"/>
          <p:cNvSpPr/>
          <p:nvPr/>
        </p:nvSpPr>
        <p:spPr>
          <a:xfrm>
            <a:off x="6580440" y="2698920"/>
            <a:ext cx="102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olfe du Saint-Lau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55"/>
          <p:cNvSpPr/>
          <p:nvPr/>
        </p:nvSpPr>
        <p:spPr>
          <a:xfrm>
            <a:off x="6531480" y="3086280"/>
            <a:ext cx="126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CE EDWARD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56"/>
          <p:cNvSpPr/>
          <p:nvPr/>
        </p:nvSpPr>
        <p:spPr>
          <a:xfrm>
            <a:off x="6516360" y="3205080"/>
            <a:ext cx="129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-DU-PRINCE-EDO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7"/>
          <p:cNvSpPr/>
          <p:nvPr/>
        </p:nvSpPr>
        <p:spPr>
          <a:xfrm>
            <a:off x="4945320" y="5762520"/>
            <a:ext cx="7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A SCO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58"/>
          <p:cNvSpPr/>
          <p:nvPr/>
        </p:nvSpPr>
        <p:spPr>
          <a:xfrm>
            <a:off x="4793400" y="588312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VELLE-ECO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59"/>
          <p:cNvSpPr/>
          <p:nvPr/>
        </p:nvSpPr>
        <p:spPr>
          <a:xfrm>
            <a:off x="3430440" y="4240080"/>
            <a:ext cx="174600" cy="165240"/>
          </a:xfrm>
          <a:custGeom>
            <a:avLst/>
            <a:gdLst/>
            <a:ahLst/>
            <a:rect l="l" t="t" r="r" b="b"/>
            <a:pathLst>
              <a:path w="110" h="104">
                <a:moveTo>
                  <a:pt x="56" y="0"/>
                </a:moveTo>
                <a:lnTo>
                  <a:pt x="68" y="40"/>
                </a:lnTo>
                <a:lnTo>
                  <a:pt x="110" y="40"/>
                </a:lnTo>
                <a:lnTo>
                  <a:pt x="76" y="64"/>
                </a:lnTo>
                <a:lnTo>
                  <a:pt x="90" y="104"/>
                </a:lnTo>
                <a:lnTo>
                  <a:pt x="56" y="80"/>
                </a:lnTo>
                <a:lnTo>
                  <a:pt x="22" y="104"/>
                </a:lnTo>
                <a:lnTo>
                  <a:pt x="34" y="64"/>
                </a:lnTo>
                <a:lnTo>
                  <a:pt x="0" y="40"/>
                </a:lnTo>
                <a:lnTo>
                  <a:pt x="42" y="4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0"/>
          <p:cNvSpPr/>
          <p:nvPr/>
        </p:nvSpPr>
        <p:spPr>
          <a:xfrm>
            <a:off x="5927040" y="1920960"/>
            <a:ext cx="15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61"/>
          <p:cNvSpPr/>
          <p:nvPr/>
        </p:nvSpPr>
        <p:spPr>
          <a:xfrm>
            <a:off x="5927400" y="2131920"/>
            <a:ext cx="202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UVEAU-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62"/>
          <p:cNvSpPr/>
          <p:nvPr/>
        </p:nvSpPr>
        <p:spPr>
          <a:xfrm>
            <a:off x="128880" y="1338120"/>
            <a:ext cx="2328120" cy="4496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d and Tex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nd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ways, waterw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xt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 tool bar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province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Holding d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HIFT Key when you re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keep the 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63"/>
          <p:cNvSpPr/>
          <p:nvPr/>
        </p:nvSpPr>
        <p:spPr>
          <a:xfrm>
            <a:off x="2223000" y="512640"/>
            <a:ext cx="488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Canadian Provinence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7"/>
          <p:cNvSpPr/>
          <p:nvPr/>
        </p:nvSpPr>
        <p:spPr>
          <a:xfrm>
            <a:off x="5403960" y="0"/>
            <a:ext cx="22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fills and lines located above in the Drawing Tool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68"/>
          <p:cNvSpPr/>
          <p:nvPr/>
        </p:nvSpPr>
        <p:spPr>
          <a:xfrm rot="10800000">
            <a:off x="7470360" y="5832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01"/>
          <p:cNvSpPr/>
          <p:nvPr/>
        </p:nvSpPr>
        <p:spPr>
          <a:xfrm>
            <a:off x="4320" y="6224760"/>
            <a:ext cx="21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>
            <a:off x="1152360" y="534960"/>
            <a:ext cx="5286600" cy="4405320"/>
          </a:xfrm>
          <a:custGeom>
            <a:avLst/>
            <a:gdLst/>
            <a:ahLst/>
            <a:rect l="l" t="t" r="r" b="b"/>
            <a:pathLst>
              <a:path w="3330" h="2775">
                <a:moveTo>
                  <a:pt x="439" y="84"/>
                </a:moveTo>
                <a:lnTo>
                  <a:pt x="589" y="88"/>
                </a:lnTo>
                <a:lnTo>
                  <a:pt x="615" y="20"/>
                </a:lnTo>
                <a:lnTo>
                  <a:pt x="924" y="36"/>
                </a:lnTo>
                <a:lnTo>
                  <a:pt x="918" y="78"/>
                </a:lnTo>
                <a:lnTo>
                  <a:pt x="972" y="110"/>
                </a:lnTo>
                <a:lnTo>
                  <a:pt x="1020" y="148"/>
                </a:lnTo>
                <a:lnTo>
                  <a:pt x="1068" y="158"/>
                </a:lnTo>
                <a:lnTo>
                  <a:pt x="1218" y="126"/>
                </a:lnTo>
                <a:lnTo>
                  <a:pt x="1260" y="110"/>
                </a:lnTo>
                <a:lnTo>
                  <a:pt x="1286" y="136"/>
                </a:lnTo>
                <a:lnTo>
                  <a:pt x="1318" y="136"/>
                </a:lnTo>
                <a:lnTo>
                  <a:pt x="1330" y="62"/>
                </a:lnTo>
                <a:lnTo>
                  <a:pt x="1357" y="40"/>
                </a:lnTo>
                <a:lnTo>
                  <a:pt x="1405" y="60"/>
                </a:lnTo>
                <a:lnTo>
                  <a:pt x="1477" y="60"/>
                </a:lnTo>
                <a:lnTo>
                  <a:pt x="1549" y="44"/>
                </a:lnTo>
                <a:lnTo>
                  <a:pt x="1609" y="20"/>
                </a:lnTo>
                <a:lnTo>
                  <a:pt x="1649" y="0"/>
                </a:lnTo>
                <a:lnTo>
                  <a:pt x="1677" y="0"/>
                </a:lnTo>
                <a:lnTo>
                  <a:pt x="1693" y="24"/>
                </a:lnTo>
                <a:lnTo>
                  <a:pt x="1693" y="48"/>
                </a:lnTo>
                <a:lnTo>
                  <a:pt x="1721" y="56"/>
                </a:lnTo>
                <a:lnTo>
                  <a:pt x="1761" y="80"/>
                </a:lnTo>
                <a:lnTo>
                  <a:pt x="1817" y="88"/>
                </a:lnTo>
                <a:lnTo>
                  <a:pt x="1853" y="124"/>
                </a:lnTo>
                <a:lnTo>
                  <a:pt x="1904" y="136"/>
                </a:lnTo>
                <a:lnTo>
                  <a:pt x="1940" y="140"/>
                </a:lnTo>
                <a:lnTo>
                  <a:pt x="2008" y="160"/>
                </a:lnTo>
                <a:lnTo>
                  <a:pt x="2064" y="204"/>
                </a:lnTo>
                <a:lnTo>
                  <a:pt x="2080" y="231"/>
                </a:lnTo>
                <a:lnTo>
                  <a:pt x="2084" y="295"/>
                </a:lnTo>
                <a:lnTo>
                  <a:pt x="2104" y="335"/>
                </a:lnTo>
                <a:lnTo>
                  <a:pt x="2124" y="347"/>
                </a:lnTo>
                <a:lnTo>
                  <a:pt x="2108" y="399"/>
                </a:lnTo>
                <a:lnTo>
                  <a:pt x="2140" y="399"/>
                </a:lnTo>
                <a:lnTo>
                  <a:pt x="2152" y="363"/>
                </a:lnTo>
                <a:lnTo>
                  <a:pt x="2196" y="355"/>
                </a:lnTo>
                <a:lnTo>
                  <a:pt x="2260" y="331"/>
                </a:lnTo>
                <a:lnTo>
                  <a:pt x="2308" y="287"/>
                </a:lnTo>
                <a:lnTo>
                  <a:pt x="2376" y="247"/>
                </a:lnTo>
                <a:lnTo>
                  <a:pt x="2439" y="224"/>
                </a:lnTo>
                <a:lnTo>
                  <a:pt x="2483" y="220"/>
                </a:lnTo>
                <a:lnTo>
                  <a:pt x="2511" y="216"/>
                </a:lnTo>
                <a:lnTo>
                  <a:pt x="2543" y="220"/>
                </a:lnTo>
                <a:lnTo>
                  <a:pt x="2543" y="239"/>
                </a:lnTo>
                <a:lnTo>
                  <a:pt x="2519" y="243"/>
                </a:lnTo>
                <a:lnTo>
                  <a:pt x="2491" y="251"/>
                </a:lnTo>
                <a:lnTo>
                  <a:pt x="2499" y="271"/>
                </a:lnTo>
                <a:lnTo>
                  <a:pt x="2535" y="263"/>
                </a:lnTo>
                <a:lnTo>
                  <a:pt x="2575" y="247"/>
                </a:lnTo>
                <a:lnTo>
                  <a:pt x="2603" y="243"/>
                </a:lnTo>
                <a:lnTo>
                  <a:pt x="2639" y="247"/>
                </a:lnTo>
                <a:lnTo>
                  <a:pt x="2651" y="263"/>
                </a:lnTo>
                <a:lnTo>
                  <a:pt x="2627" y="275"/>
                </a:lnTo>
                <a:lnTo>
                  <a:pt x="2627" y="299"/>
                </a:lnTo>
                <a:lnTo>
                  <a:pt x="2651" y="299"/>
                </a:lnTo>
                <a:lnTo>
                  <a:pt x="2663" y="315"/>
                </a:lnTo>
                <a:lnTo>
                  <a:pt x="2695" y="303"/>
                </a:lnTo>
                <a:lnTo>
                  <a:pt x="2719" y="287"/>
                </a:lnTo>
                <a:lnTo>
                  <a:pt x="2723" y="307"/>
                </a:lnTo>
                <a:lnTo>
                  <a:pt x="2695" y="331"/>
                </a:lnTo>
                <a:lnTo>
                  <a:pt x="2675" y="347"/>
                </a:lnTo>
                <a:lnTo>
                  <a:pt x="2643" y="339"/>
                </a:lnTo>
                <a:lnTo>
                  <a:pt x="2619" y="339"/>
                </a:lnTo>
                <a:lnTo>
                  <a:pt x="2595" y="347"/>
                </a:lnTo>
                <a:lnTo>
                  <a:pt x="2615" y="363"/>
                </a:lnTo>
                <a:lnTo>
                  <a:pt x="2643" y="371"/>
                </a:lnTo>
                <a:lnTo>
                  <a:pt x="2655" y="383"/>
                </a:lnTo>
                <a:lnTo>
                  <a:pt x="2643" y="411"/>
                </a:lnTo>
                <a:lnTo>
                  <a:pt x="2631" y="443"/>
                </a:lnTo>
                <a:lnTo>
                  <a:pt x="2603" y="455"/>
                </a:lnTo>
                <a:lnTo>
                  <a:pt x="2591" y="479"/>
                </a:lnTo>
                <a:lnTo>
                  <a:pt x="2579" y="531"/>
                </a:lnTo>
                <a:lnTo>
                  <a:pt x="2603" y="546"/>
                </a:lnTo>
                <a:lnTo>
                  <a:pt x="2599" y="574"/>
                </a:lnTo>
                <a:lnTo>
                  <a:pt x="2591" y="626"/>
                </a:lnTo>
                <a:lnTo>
                  <a:pt x="2583" y="650"/>
                </a:lnTo>
                <a:lnTo>
                  <a:pt x="2551" y="654"/>
                </a:lnTo>
                <a:lnTo>
                  <a:pt x="2551" y="678"/>
                </a:lnTo>
                <a:lnTo>
                  <a:pt x="2535" y="710"/>
                </a:lnTo>
                <a:lnTo>
                  <a:pt x="2495" y="742"/>
                </a:lnTo>
                <a:lnTo>
                  <a:pt x="2459" y="778"/>
                </a:lnTo>
                <a:lnTo>
                  <a:pt x="2420" y="806"/>
                </a:lnTo>
                <a:lnTo>
                  <a:pt x="2388" y="842"/>
                </a:lnTo>
                <a:lnTo>
                  <a:pt x="2344" y="873"/>
                </a:lnTo>
                <a:lnTo>
                  <a:pt x="2332" y="893"/>
                </a:lnTo>
                <a:lnTo>
                  <a:pt x="2292" y="905"/>
                </a:lnTo>
                <a:lnTo>
                  <a:pt x="2300" y="929"/>
                </a:lnTo>
                <a:lnTo>
                  <a:pt x="2336" y="929"/>
                </a:lnTo>
                <a:lnTo>
                  <a:pt x="2376" y="913"/>
                </a:lnTo>
                <a:lnTo>
                  <a:pt x="2404" y="917"/>
                </a:lnTo>
                <a:lnTo>
                  <a:pt x="2408" y="925"/>
                </a:lnTo>
                <a:lnTo>
                  <a:pt x="2416" y="931"/>
                </a:lnTo>
                <a:lnTo>
                  <a:pt x="2420" y="933"/>
                </a:lnTo>
                <a:lnTo>
                  <a:pt x="2424" y="933"/>
                </a:lnTo>
                <a:lnTo>
                  <a:pt x="2445" y="931"/>
                </a:lnTo>
                <a:lnTo>
                  <a:pt x="2459" y="929"/>
                </a:lnTo>
                <a:lnTo>
                  <a:pt x="2469" y="923"/>
                </a:lnTo>
                <a:lnTo>
                  <a:pt x="2491" y="913"/>
                </a:lnTo>
                <a:lnTo>
                  <a:pt x="2511" y="909"/>
                </a:lnTo>
                <a:lnTo>
                  <a:pt x="2523" y="905"/>
                </a:lnTo>
                <a:lnTo>
                  <a:pt x="2555" y="917"/>
                </a:lnTo>
                <a:lnTo>
                  <a:pt x="2579" y="917"/>
                </a:lnTo>
                <a:lnTo>
                  <a:pt x="2599" y="901"/>
                </a:lnTo>
                <a:lnTo>
                  <a:pt x="2627" y="909"/>
                </a:lnTo>
                <a:lnTo>
                  <a:pt x="2651" y="913"/>
                </a:lnTo>
                <a:lnTo>
                  <a:pt x="2643" y="937"/>
                </a:lnTo>
                <a:lnTo>
                  <a:pt x="2659" y="973"/>
                </a:lnTo>
                <a:lnTo>
                  <a:pt x="2647" y="997"/>
                </a:lnTo>
                <a:lnTo>
                  <a:pt x="2619" y="1037"/>
                </a:lnTo>
                <a:lnTo>
                  <a:pt x="2603" y="1053"/>
                </a:lnTo>
                <a:lnTo>
                  <a:pt x="2599" y="1101"/>
                </a:lnTo>
                <a:lnTo>
                  <a:pt x="2571" y="1113"/>
                </a:lnTo>
                <a:lnTo>
                  <a:pt x="2571" y="1129"/>
                </a:lnTo>
                <a:lnTo>
                  <a:pt x="2599" y="1137"/>
                </a:lnTo>
                <a:lnTo>
                  <a:pt x="2603" y="1180"/>
                </a:lnTo>
                <a:lnTo>
                  <a:pt x="2611" y="1212"/>
                </a:lnTo>
                <a:lnTo>
                  <a:pt x="2627" y="1220"/>
                </a:lnTo>
                <a:lnTo>
                  <a:pt x="2643" y="1224"/>
                </a:lnTo>
                <a:lnTo>
                  <a:pt x="2639" y="1252"/>
                </a:lnTo>
                <a:lnTo>
                  <a:pt x="2631" y="1272"/>
                </a:lnTo>
                <a:lnTo>
                  <a:pt x="2655" y="1260"/>
                </a:lnTo>
                <a:lnTo>
                  <a:pt x="2687" y="1260"/>
                </a:lnTo>
                <a:lnTo>
                  <a:pt x="2703" y="1244"/>
                </a:lnTo>
                <a:lnTo>
                  <a:pt x="2715" y="1256"/>
                </a:lnTo>
                <a:lnTo>
                  <a:pt x="2719" y="1284"/>
                </a:lnTo>
                <a:lnTo>
                  <a:pt x="2727" y="1336"/>
                </a:lnTo>
                <a:lnTo>
                  <a:pt x="2719" y="1380"/>
                </a:lnTo>
                <a:lnTo>
                  <a:pt x="2739" y="1404"/>
                </a:lnTo>
                <a:lnTo>
                  <a:pt x="2779" y="1444"/>
                </a:lnTo>
                <a:lnTo>
                  <a:pt x="2755" y="1448"/>
                </a:lnTo>
                <a:lnTo>
                  <a:pt x="2727" y="1456"/>
                </a:lnTo>
                <a:lnTo>
                  <a:pt x="2731" y="1475"/>
                </a:lnTo>
                <a:lnTo>
                  <a:pt x="2755" y="1479"/>
                </a:lnTo>
                <a:lnTo>
                  <a:pt x="2779" y="1491"/>
                </a:lnTo>
                <a:lnTo>
                  <a:pt x="2783" y="1523"/>
                </a:lnTo>
                <a:lnTo>
                  <a:pt x="2783" y="1559"/>
                </a:lnTo>
                <a:lnTo>
                  <a:pt x="2767" y="1575"/>
                </a:lnTo>
                <a:lnTo>
                  <a:pt x="2735" y="1583"/>
                </a:lnTo>
                <a:lnTo>
                  <a:pt x="2755" y="1599"/>
                </a:lnTo>
                <a:lnTo>
                  <a:pt x="2799" y="1587"/>
                </a:lnTo>
                <a:lnTo>
                  <a:pt x="2815" y="1563"/>
                </a:lnTo>
                <a:lnTo>
                  <a:pt x="2835" y="1575"/>
                </a:lnTo>
                <a:lnTo>
                  <a:pt x="2847" y="1599"/>
                </a:lnTo>
                <a:lnTo>
                  <a:pt x="2819" y="1623"/>
                </a:lnTo>
                <a:lnTo>
                  <a:pt x="2831" y="1667"/>
                </a:lnTo>
                <a:lnTo>
                  <a:pt x="2911" y="1671"/>
                </a:lnTo>
                <a:lnTo>
                  <a:pt x="2982" y="1679"/>
                </a:lnTo>
                <a:lnTo>
                  <a:pt x="3030" y="1671"/>
                </a:lnTo>
                <a:lnTo>
                  <a:pt x="3074" y="1703"/>
                </a:lnTo>
                <a:lnTo>
                  <a:pt x="3066" y="1731"/>
                </a:lnTo>
                <a:lnTo>
                  <a:pt x="3090" y="1739"/>
                </a:lnTo>
                <a:lnTo>
                  <a:pt x="3110" y="1723"/>
                </a:lnTo>
                <a:lnTo>
                  <a:pt x="3122" y="1739"/>
                </a:lnTo>
                <a:lnTo>
                  <a:pt x="3158" y="1731"/>
                </a:lnTo>
                <a:lnTo>
                  <a:pt x="3186" y="1727"/>
                </a:lnTo>
                <a:lnTo>
                  <a:pt x="3234" y="1743"/>
                </a:lnTo>
                <a:lnTo>
                  <a:pt x="3278" y="1747"/>
                </a:lnTo>
                <a:lnTo>
                  <a:pt x="3302" y="1755"/>
                </a:lnTo>
                <a:lnTo>
                  <a:pt x="3330" y="1771"/>
                </a:lnTo>
                <a:lnTo>
                  <a:pt x="3322" y="1786"/>
                </a:lnTo>
                <a:lnTo>
                  <a:pt x="3286" y="1802"/>
                </a:lnTo>
                <a:lnTo>
                  <a:pt x="3250" y="1822"/>
                </a:lnTo>
                <a:lnTo>
                  <a:pt x="3226" y="1830"/>
                </a:lnTo>
                <a:lnTo>
                  <a:pt x="3182" y="1830"/>
                </a:lnTo>
                <a:lnTo>
                  <a:pt x="3150" y="1838"/>
                </a:lnTo>
                <a:lnTo>
                  <a:pt x="3142" y="1858"/>
                </a:lnTo>
                <a:lnTo>
                  <a:pt x="3146" y="1882"/>
                </a:lnTo>
                <a:lnTo>
                  <a:pt x="3170" y="1884"/>
                </a:lnTo>
                <a:lnTo>
                  <a:pt x="3198" y="1886"/>
                </a:lnTo>
                <a:lnTo>
                  <a:pt x="3130" y="1906"/>
                </a:lnTo>
                <a:lnTo>
                  <a:pt x="3098" y="1914"/>
                </a:lnTo>
                <a:lnTo>
                  <a:pt x="3078" y="1926"/>
                </a:lnTo>
                <a:lnTo>
                  <a:pt x="3046" y="1990"/>
                </a:lnTo>
                <a:lnTo>
                  <a:pt x="3014" y="2038"/>
                </a:lnTo>
                <a:lnTo>
                  <a:pt x="2990" y="2018"/>
                </a:lnTo>
                <a:lnTo>
                  <a:pt x="2963" y="2002"/>
                </a:lnTo>
                <a:lnTo>
                  <a:pt x="2947" y="2038"/>
                </a:lnTo>
                <a:lnTo>
                  <a:pt x="2915" y="2078"/>
                </a:lnTo>
                <a:lnTo>
                  <a:pt x="2883" y="2113"/>
                </a:lnTo>
                <a:lnTo>
                  <a:pt x="2863" y="2141"/>
                </a:lnTo>
                <a:lnTo>
                  <a:pt x="2859" y="2141"/>
                </a:lnTo>
                <a:lnTo>
                  <a:pt x="2849" y="2141"/>
                </a:lnTo>
                <a:lnTo>
                  <a:pt x="2845" y="2139"/>
                </a:lnTo>
                <a:lnTo>
                  <a:pt x="2843" y="2137"/>
                </a:lnTo>
                <a:lnTo>
                  <a:pt x="2841" y="2133"/>
                </a:lnTo>
                <a:lnTo>
                  <a:pt x="2843" y="2129"/>
                </a:lnTo>
                <a:lnTo>
                  <a:pt x="2855" y="2105"/>
                </a:lnTo>
                <a:lnTo>
                  <a:pt x="2863" y="2090"/>
                </a:lnTo>
                <a:lnTo>
                  <a:pt x="2851" y="2042"/>
                </a:lnTo>
                <a:lnTo>
                  <a:pt x="2815" y="1994"/>
                </a:lnTo>
                <a:lnTo>
                  <a:pt x="2787" y="1946"/>
                </a:lnTo>
                <a:lnTo>
                  <a:pt x="2763" y="1934"/>
                </a:lnTo>
                <a:lnTo>
                  <a:pt x="2771" y="1974"/>
                </a:lnTo>
                <a:lnTo>
                  <a:pt x="2795" y="2030"/>
                </a:lnTo>
                <a:lnTo>
                  <a:pt x="2803" y="2058"/>
                </a:lnTo>
                <a:lnTo>
                  <a:pt x="2799" y="2090"/>
                </a:lnTo>
                <a:lnTo>
                  <a:pt x="2751" y="2137"/>
                </a:lnTo>
                <a:lnTo>
                  <a:pt x="2783" y="2149"/>
                </a:lnTo>
                <a:lnTo>
                  <a:pt x="2759" y="2165"/>
                </a:lnTo>
                <a:lnTo>
                  <a:pt x="2735" y="2205"/>
                </a:lnTo>
                <a:lnTo>
                  <a:pt x="2715" y="2241"/>
                </a:lnTo>
                <a:lnTo>
                  <a:pt x="2683" y="2257"/>
                </a:lnTo>
                <a:lnTo>
                  <a:pt x="2659" y="2253"/>
                </a:lnTo>
                <a:lnTo>
                  <a:pt x="2631" y="2253"/>
                </a:lnTo>
                <a:lnTo>
                  <a:pt x="2579" y="2273"/>
                </a:lnTo>
                <a:lnTo>
                  <a:pt x="2535" y="2321"/>
                </a:lnTo>
                <a:lnTo>
                  <a:pt x="2487" y="2325"/>
                </a:lnTo>
                <a:lnTo>
                  <a:pt x="2431" y="2357"/>
                </a:lnTo>
                <a:lnTo>
                  <a:pt x="2392" y="2389"/>
                </a:lnTo>
                <a:lnTo>
                  <a:pt x="2364" y="2389"/>
                </a:lnTo>
                <a:lnTo>
                  <a:pt x="2324" y="2416"/>
                </a:lnTo>
                <a:lnTo>
                  <a:pt x="2284" y="2440"/>
                </a:lnTo>
                <a:lnTo>
                  <a:pt x="2236" y="2468"/>
                </a:lnTo>
                <a:lnTo>
                  <a:pt x="2208" y="2492"/>
                </a:lnTo>
                <a:lnTo>
                  <a:pt x="2192" y="2528"/>
                </a:lnTo>
                <a:lnTo>
                  <a:pt x="2148" y="2544"/>
                </a:lnTo>
                <a:lnTo>
                  <a:pt x="2096" y="2576"/>
                </a:lnTo>
                <a:lnTo>
                  <a:pt x="2064" y="2584"/>
                </a:lnTo>
                <a:lnTo>
                  <a:pt x="2016" y="2592"/>
                </a:lnTo>
                <a:lnTo>
                  <a:pt x="1964" y="2636"/>
                </a:lnTo>
                <a:lnTo>
                  <a:pt x="1932" y="2620"/>
                </a:lnTo>
                <a:lnTo>
                  <a:pt x="1896" y="2616"/>
                </a:lnTo>
                <a:lnTo>
                  <a:pt x="1896" y="2584"/>
                </a:lnTo>
                <a:lnTo>
                  <a:pt x="1869" y="2572"/>
                </a:lnTo>
                <a:lnTo>
                  <a:pt x="1845" y="2572"/>
                </a:lnTo>
                <a:lnTo>
                  <a:pt x="1825" y="2616"/>
                </a:lnTo>
                <a:lnTo>
                  <a:pt x="1785" y="2656"/>
                </a:lnTo>
                <a:lnTo>
                  <a:pt x="1757" y="2672"/>
                </a:lnTo>
                <a:lnTo>
                  <a:pt x="1725" y="2664"/>
                </a:lnTo>
                <a:lnTo>
                  <a:pt x="1689" y="2688"/>
                </a:lnTo>
                <a:lnTo>
                  <a:pt x="1653" y="2723"/>
                </a:lnTo>
                <a:lnTo>
                  <a:pt x="1605" y="2739"/>
                </a:lnTo>
                <a:lnTo>
                  <a:pt x="1581" y="2735"/>
                </a:lnTo>
                <a:lnTo>
                  <a:pt x="1585" y="2696"/>
                </a:lnTo>
                <a:lnTo>
                  <a:pt x="1549" y="2696"/>
                </a:lnTo>
                <a:lnTo>
                  <a:pt x="1493" y="2723"/>
                </a:lnTo>
                <a:lnTo>
                  <a:pt x="1445" y="2751"/>
                </a:lnTo>
                <a:lnTo>
                  <a:pt x="1373" y="2775"/>
                </a:lnTo>
                <a:lnTo>
                  <a:pt x="1365" y="2751"/>
                </a:lnTo>
                <a:lnTo>
                  <a:pt x="1342" y="2747"/>
                </a:lnTo>
                <a:lnTo>
                  <a:pt x="1322" y="2755"/>
                </a:lnTo>
                <a:lnTo>
                  <a:pt x="1294" y="2739"/>
                </a:lnTo>
                <a:lnTo>
                  <a:pt x="1294" y="2715"/>
                </a:lnTo>
                <a:lnTo>
                  <a:pt x="1314" y="2708"/>
                </a:lnTo>
                <a:lnTo>
                  <a:pt x="1282" y="2688"/>
                </a:lnTo>
                <a:lnTo>
                  <a:pt x="1258" y="2668"/>
                </a:lnTo>
                <a:lnTo>
                  <a:pt x="1230" y="2672"/>
                </a:lnTo>
                <a:lnTo>
                  <a:pt x="1230" y="2704"/>
                </a:lnTo>
                <a:lnTo>
                  <a:pt x="1182" y="2719"/>
                </a:lnTo>
                <a:lnTo>
                  <a:pt x="1162" y="2664"/>
                </a:lnTo>
                <a:lnTo>
                  <a:pt x="1146" y="2620"/>
                </a:lnTo>
                <a:lnTo>
                  <a:pt x="1118" y="2600"/>
                </a:lnTo>
                <a:lnTo>
                  <a:pt x="1126" y="2632"/>
                </a:lnTo>
                <a:lnTo>
                  <a:pt x="1122" y="2660"/>
                </a:lnTo>
                <a:lnTo>
                  <a:pt x="1094" y="2636"/>
                </a:lnTo>
                <a:lnTo>
                  <a:pt x="1062" y="2624"/>
                </a:lnTo>
                <a:lnTo>
                  <a:pt x="1058" y="2656"/>
                </a:lnTo>
                <a:lnTo>
                  <a:pt x="1042" y="2676"/>
                </a:lnTo>
                <a:lnTo>
                  <a:pt x="990" y="2648"/>
                </a:lnTo>
                <a:lnTo>
                  <a:pt x="958" y="2592"/>
                </a:lnTo>
                <a:lnTo>
                  <a:pt x="934" y="2536"/>
                </a:lnTo>
                <a:lnTo>
                  <a:pt x="958" y="2496"/>
                </a:lnTo>
                <a:lnTo>
                  <a:pt x="974" y="2444"/>
                </a:lnTo>
                <a:lnTo>
                  <a:pt x="946" y="2404"/>
                </a:lnTo>
                <a:lnTo>
                  <a:pt x="934" y="2357"/>
                </a:lnTo>
                <a:lnTo>
                  <a:pt x="962" y="2305"/>
                </a:lnTo>
                <a:lnTo>
                  <a:pt x="982" y="2273"/>
                </a:lnTo>
                <a:lnTo>
                  <a:pt x="958" y="2229"/>
                </a:lnTo>
                <a:lnTo>
                  <a:pt x="954" y="2181"/>
                </a:lnTo>
                <a:lnTo>
                  <a:pt x="922" y="2165"/>
                </a:lnTo>
                <a:lnTo>
                  <a:pt x="918" y="2213"/>
                </a:lnTo>
                <a:lnTo>
                  <a:pt x="858" y="2209"/>
                </a:lnTo>
                <a:lnTo>
                  <a:pt x="830" y="2181"/>
                </a:lnTo>
                <a:lnTo>
                  <a:pt x="818" y="2141"/>
                </a:lnTo>
                <a:lnTo>
                  <a:pt x="791" y="2125"/>
                </a:lnTo>
                <a:lnTo>
                  <a:pt x="775" y="2157"/>
                </a:lnTo>
                <a:lnTo>
                  <a:pt x="751" y="2141"/>
                </a:lnTo>
                <a:lnTo>
                  <a:pt x="763" y="2113"/>
                </a:lnTo>
                <a:lnTo>
                  <a:pt x="747" y="2074"/>
                </a:lnTo>
                <a:lnTo>
                  <a:pt x="763" y="2018"/>
                </a:lnTo>
                <a:lnTo>
                  <a:pt x="739" y="1978"/>
                </a:lnTo>
                <a:lnTo>
                  <a:pt x="771" y="1946"/>
                </a:lnTo>
                <a:lnTo>
                  <a:pt x="751" y="1918"/>
                </a:lnTo>
                <a:lnTo>
                  <a:pt x="767" y="1555"/>
                </a:lnTo>
                <a:lnTo>
                  <a:pt x="795" y="901"/>
                </a:lnTo>
                <a:lnTo>
                  <a:pt x="711" y="822"/>
                </a:lnTo>
                <a:lnTo>
                  <a:pt x="675" y="766"/>
                </a:lnTo>
                <a:lnTo>
                  <a:pt x="643" y="690"/>
                </a:lnTo>
                <a:lnTo>
                  <a:pt x="579" y="626"/>
                </a:lnTo>
                <a:lnTo>
                  <a:pt x="507" y="598"/>
                </a:lnTo>
                <a:lnTo>
                  <a:pt x="463" y="594"/>
                </a:lnTo>
                <a:lnTo>
                  <a:pt x="439" y="618"/>
                </a:lnTo>
                <a:lnTo>
                  <a:pt x="411" y="646"/>
                </a:lnTo>
                <a:lnTo>
                  <a:pt x="327" y="646"/>
                </a:lnTo>
                <a:lnTo>
                  <a:pt x="271" y="670"/>
                </a:lnTo>
                <a:lnTo>
                  <a:pt x="168" y="698"/>
                </a:lnTo>
                <a:lnTo>
                  <a:pt x="76" y="730"/>
                </a:lnTo>
                <a:lnTo>
                  <a:pt x="32" y="682"/>
                </a:lnTo>
                <a:lnTo>
                  <a:pt x="8" y="650"/>
                </a:lnTo>
                <a:lnTo>
                  <a:pt x="0" y="606"/>
                </a:lnTo>
                <a:lnTo>
                  <a:pt x="60" y="598"/>
                </a:lnTo>
                <a:lnTo>
                  <a:pt x="152" y="586"/>
                </a:lnTo>
                <a:lnTo>
                  <a:pt x="252" y="546"/>
                </a:lnTo>
                <a:lnTo>
                  <a:pt x="311" y="511"/>
                </a:lnTo>
                <a:lnTo>
                  <a:pt x="383" y="447"/>
                </a:lnTo>
                <a:lnTo>
                  <a:pt x="431" y="375"/>
                </a:lnTo>
                <a:lnTo>
                  <a:pt x="439" y="8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5456160" y="782640"/>
            <a:ext cx="190440" cy="20808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8" y="24"/>
                </a:moveTo>
                <a:lnTo>
                  <a:pt x="56" y="4"/>
                </a:lnTo>
                <a:lnTo>
                  <a:pt x="84" y="20"/>
                </a:lnTo>
                <a:lnTo>
                  <a:pt x="96" y="4"/>
                </a:lnTo>
                <a:lnTo>
                  <a:pt x="120" y="0"/>
                </a:lnTo>
                <a:lnTo>
                  <a:pt x="108" y="32"/>
                </a:lnTo>
                <a:lnTo>
                  <a:pt x="92" y="64"/>
                </a:lnTo>
                <a:lnTo>
                  <a:pt x="76" y="91"/>
                </a:lnTo>
                <a:lnTo>
                  <a:pt x="52" y="123"/>
                </a:lnTo>
                <a:lnTo>
                  <a:pt x="24" y="131"/>
                </a:lnTo>
                <a:lnTo>
                  <a:pt x="20" y="107"/>
                </a:lnTo>
                <a:lnTo>
                  <a:pt x="28" y="91"/>
                </a:lnTo>
                <a:lnTo>
                  <a:pt x="20" y="75"/>
                </a:lnTo>
                <a:lnTo>
                  <a:pt x="0" y="64"/>
                </a:lnTo>
                <a:lnTo>
                  <a:pt x="0" y="40"/>
                </a:lnTo>
                <a:lnTo>
                  <a:pt x="28" y="2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5583240" y="604800"/>
            <a:ext cx="88920" cy="139680"/>
          </a:xfrm>
          <a:custGeom>
            <a:avLst/>
            <a:gdLst/>
            <a:ahLst/>
            <a:rect l="l" t="t" r="r" b="b"/>
            <a:pathLst>
              <a:path w="56" h="88">
                <a:moveTo>
                  <a:pt x="0" y="88"/>
                </a:moveTo>
                <a:lnTo>
                  <a:pt x="0" y="52"/>
                </a:lnTo>
                <a:lnTo>
                  <a:pt x="12" y="24"/>
                </a:lnTo>
                <a:lnTo>
                  <a:pt x="20" y="0"/>
                </a:lnTo>
                <a:lnTo>
                  <a:pt x="48" y="4"/>
                </a:lnTo>
                <a:lnTo>
                  <a:pt x="56" y="20"/>
                </a:lnTo>
                <a:lnTo>
                  <a:pt x="52" y="48"/>
                </a:lnTo>
                <a:lnTo>
                  <a:pt x="40" y="76"/>
                </a:lnTo>
                <a:lnTo>
                  <a:pt x="24" y="76"/>
                </a:lnTo>
                <a:lnTo>
                  <a:pt x="0" y="8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3200400" y="5308560"/>
            <a:ext cx="182520" cy="277920"/>
          </a:xfrm>
          <a:custGeom>
            <a:avLst/>
            <a:gdLst/>
            <a:ahLst/>
            <a:rect l="l" t="t" r="r" b="b"/>
            <a:pathLst>
              <a:path w="115" h="175">
                <a:moveTo>
                  <a:pt x="103" y="0"/>
                </a:moveTo>
                <a:lnTo>
                  <a:pt x="111" y="35"/>
                </a:lnTo>
                <a:lnTo>
                  <a:pt x="99" y="59"/>
                </a:lnTo>
                <a:lnTo>
                  <a:pt x="115" y="79"/>
                </a:lnTo>
                <a:lnTo>
                  <a:pt x="99" y="95"/>
                </a:lnTo>
                <a:lnTo>
                  <a:pt x="91" y="123"/>
                </a:lnTo>
                <a:lnTo>
                  <a:pt x="55" y="139"/>
                </a:lnTo>
                <a:lnTo>
                  <a:pt x="8" y="175"/>
                </a:lnTo>
                <a:lnTo>
                  <a:pt x="0" y="147"/>
                </a:lnTo>
                <a:lnTo>
                  <a:pt x="32" y="83"/>
                </a:lnTo>
                <a:lnTo>
                  <a:pt x="63" y="23"/>
                </a:lnTo>
                <a:lnTo>
                  <a:pt x="75" y="4"/>
                </a:lnTo>
                <a:lnTo>
                  <a:pt x="103" y="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3105000" y="4978440"/>
            <a:ext cx="82800" cy="114120"/>
          </a:xfrm>
          <a:custGeom>
            <a:avLst/>
            <a:gdLst/>
            <a:ahLst/>
            <a:rect l="l" t="t" r="r" b="b"/>
            <a:pathLst>
              <a:path w="52" h="72">
                <a:moveTo>
                  <a:pt x="52" y="20"/>
                </a:moveTo>
                <a:lnTo>
                  <a:pt x="40" y="44"/>
                </a:lnTo>
                <a:lnTo>
                  <a:pt x="8" y="72"/>
                </a:lnTo>
                <a:lnTo>
                  <a:pt x="0" y="32"/>
                </a:lnTo>
                <a:lnTo>
                  <a:pt x="20" y="12"/>
                </a:lnTo>
                <a:lnTo>
                  <a:pt x="40" y="0"/>
                </a:lnTo>
                <a:lnTo>
                  <a:pt x="52" y="20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3162240" y="5086440"/>
            <a:ext cx="50760" cy="145800"/>
          </a:xfrm>
          <a:custGeom>
            <a:avLst/>
            <a:gdLst/>
            <a:ahLst/>
            <a:rect l="l" t="t" r="r" b="b"/>
            <a:pathLst>
              <a:path w="32" h="92">
                <a:moveTo>
                  <a:pt x="32" y="8"/>
                </a:moveTo>
                <a:lnTo>
                  <a:pt x="28" y="36"/>
                </a:lnTo>
                <a:lnTo>
                  <a:pt x="20" y="64"/>
                </a:lnTo>
                <a:lnTo>
                  <a:pt x="4" y="92"/>
                </a:lnTo>
                <a:lnTo>
                  <a:pt x="0" y="60"/>
                </a:lnTo>
                <a:lnTo>
                  <a:pt x="8" y="28"/>
                </a:lnTo>
                <a:lnTo>
                  <a:pt x="12" y="0"/>
                </a:lnTo>
                <a:lnTo>
                  <a:pt x="32" y="8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5240160" y="3770280"/>
            <a:ext cx="696960" cy="758880"/>
          </a:xfrm>
          <a:custGeom>
            <a:avLst/>
            <a:gdLst/>
            <a:ahLst/>
            <a:rect l="l" t="t" r="r" b="b"/>
            <a:pathLst>
              <a:path w="439" h="478">
                <a:moveTo>
                  <a:pt x="439" y="0"/>
                </a:moveTo>
                <a:lnTo>
                  <a:pt x="435" y="24"/>
                </a:lnTo>
                <a:lnTo>
                  <a:pt x="419" y="48"/>
                </a:lnTo>
                <a:lnTo>
                  <a:pt x="431" y="63"/>
                </a:lnTo>
                <a:lnTo>
                  <a:pt x="407" y="75"/>
                </a:lnTo>
                <a:lnTo>
                  <a:pt x="384" y="67"/>
                </a:lnTo>
                <a:lnTo>
                  <a:pt x="399" y="52"/>
                </a:lnTo>
                <a:lnTo>
                  <a:pt x="391" y="36"/>
                </a:lnTo>
                <a:lnTo>
                  <a:pt x="368" y="44"/>
                </a:lnTo>
                <a:lnTo>
                  <a:pt x="356" y="71"/>
                </a:lnTo>
                <a:lnTo>
                  <a:pt x="332" y="119"/>
                </a:lnTo>
                <a:lnTo>
                  <a:pt x="288" y="171"/>
                </a:lnTo>
                <a:lnTo>
                  <a:pt x="236" y="223"/>
                </a:lnTo>
                <a:lnTo>
                  <a:pt x="164" y="279"/>
                </a:lnTo>
                <a:lnTo>
                  <a:pt x="120" y="315"/>
                </a:lnTo>
                <a:lnTo>
                  <a:pt x="72" y="339"/>
                </a:lnTo>
                <a:lnTo>
                  <a:pt x="40" y="382"/>
                </a:lnTo>
                <a:lnTo>
                  <a:pt x="12" y="406"/>
                </a:lnTo>
                <a:lnTo>
                  <a:pt x="0" y="462"/>
                </a:lnTo>
                <a:lnTo>
                  <a:pt x="28" y="462"/>
                </a:lnTo>
                <a:lnTo>
                  <a:pt x="76" y="442"/>
                </a:lnTo>
                <a:lnTo>
                  <a:pt x="96" y="478"/>
                </a:lnTo>
                <a:lnTo>
                  <a:pt x="140" y="478"/>
                </a:lnTo>
                <a:lnTo>
                  <a:pt x="144" y="478"/>
                </a:lnTo>
                <a:lnTo>
                  <a:pt x="148" y="474"/>
                </a:lnTo>
                <a:lnTo>
                  <a:pt x="156" y="462"/>
                </a:lnTo>
                <a:lnTo>
                  <a:pt x="164" y="446"/>
                </a:lnTo>
                <a:lnTo>
                  <a:pt x="196" y="414"/>
                </a:lnTo>
                <a:lnTo>
                  <a:pt x="252" y="402"/>
                </a:lnTo>
                <a:lnTo>
                  <a:pt x="284" y="418"/>
                </a:lnTo>
                <a:lnTo>
                  <a:pt x="292" y="426"/>
                </a:lnTo>
                <a:lnTo>
                  <a:pt x="302" y="432"/>
                </a:lnTo>
                <a:lnTo>
                  <a:pt x="312" y="434"/>
                </a:lnTo>
                <a:lnTo>
                  <a:pt x="354" y="430"/>
                </a:lnTo>
                <a:lnTo>
                  <a:pt x="388" y="4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3941640" y="4503600"/>
            <a:ext cx="1914480" cy="1754280"/>
          </a:xfrm>
          <a:custGeom>
            <a:avLst/>
            <a:gdLst/>
            <a:ahLst/>
            <a:rect l="l" t="t" r="r" b="b"/>
            <a:pathLst>
              <a:path w="1206" h="1105">
                <a:moveTo>
                  <a:pt x="1206" y="32"/>
                </a:moveTo>
                <a:lnTo>
                  <a:pt x="1174" y="12"/>
                </a:lnTo>
                <a:lnTo>
                  <a:pt x="1142" y="0"/>
                </a:lnTo>
                <a:lnTo>
                  <a:pt x="1118" y="0"/>
                </a:lnTo>
                <a:lnTo>
                  <a:pt x="1134" y="24"/>
                </a:lnTo>
                <a:lnTo>
                  <a:pt x="1162" y="36"/>
                </a:lnTo>
                <a:lnTo>
                  <a:pt x="1166" y="56"/>
                </a:lnTo>
                <a:lnTo>
                  <a:pt x="1130" y="92"/>
                </a:lnTo>
                <a:lnTo>
                  <a:pt x="1062" y="120"/>
                </a:lnTo>
                <a:lnTo>
                  <a:pt x="1002" y="140"/>
                </a:lnTo>
                <a:lnTo>
                  <a:pt x="942" y="168"/>
                </a:lnTo>
                <a:lnTo>
                  <a:pt x="846" y="192"/>
                </a:lnTo>
                <a:lnTo>
                  <a:pt x="762" y="255"/>
                </a:lnTo>
                <a:lnTo>
                  <a:pt x="686" y="311"/>
                </a:lnTo>
                <a:lnTo>
                  <a:pt x="615" y="371"/>
                </a:lnTo>
                <a:lnTo>
                  <a:pt x="535" y="423"/>
                </a:lnTo>
                <a:lnTo>
                  <a:pt x="467" y="475"/>
                </a:lnTo>
                <a:lnTo>
                  <a:pt x="411" y="511"/>
                </a:lnTo>
                <a:lnTo>
                  <a:pt x="379" y="546"/>
                </a:lnTo>
                <a:lnTo>
                  <a:pt x="339" y="566"/>
                </a:lnTo>
                <a:lnTo>
                  <a:pt x="311" y="590"/>
                </a:lnTo>
                <a:lnTo>
                  <a:pt x="295" y="614"/>
                </a:lnTo>
                <a:lnTo>
                  <a:pt x="335" y="626"/>
                </a:lnTo>
                <a:lnTo>
                  <a:pt x="355" y="612"/>
                </a:lnTo>
                <a:lnTo>
                  <a:pt x="373" y="602"/>
                </a:lnTo>
                <a:lnTo>
                  <a:pt x="387" y="594"/>
                </a:lnTo>
                <a:lnTo>
                  <a:pt x="399" y="590"/>
                </a:lnTo>
                <a:lnTo>
                  <a:pt x="413" y="582"/>
                </a:lnTo>
                <a:lnTo>
                  <a:pt x="431" y="570"/>
                </a:lnTo>
                <a:lnTo>
                  <a:pt x="467" y="550"/>
                </a:lnTo>
                <a:lnTo>
                  <a:pt x="495" y="530"/>
                </a:lnTo>
                <a:lnTo>
                  <a:pt x="511" y="546"/>
                </a:lnTo>
                <a:lnTo>
                  <a:pt x="495" y="562"/>
                </a:lnTo>
                <a:lnTo>
                  <a:pt x="451" y="590"/>
                </a:lnTo>
                <a:lnTo>
                  <a:pt x="411" y="622"/>
                </a:lnTo>
                <a:lnTo>
                  <a:pt x="391" y="654"/>
                </a:lnTo>
                <a:lnTo>
                  <a:pt x="371" y="682"/>
                </a:lnTo>
                <a:lnTo>
                  <a:pt x="339" y="690"/>
                </a:lnTo>
                <a:lnTo>
                  <a:pt x="303" y="682"/>
                </a:lnTo>
                <a:lnTo>
                  <a:pt x="295" y="650"/>
                </a:lnTo>
                <a:lnTo>
                  <a:pt x="291" y="634"/>
                </a:lnTo>
                <a:lnTo>
                  <a:pt x="255" y="626"/>
                </a:lnTo>
                <a:lnTo>
                  <a:pt x="231" y="650"/>
                </a:lnTo>
                <a:lnTo>
                  <a:pt x="183" y="678"/>
                </a:lnTo>
                <a:lnTo>
                  <a:pt x="147" y="698"/>
                </a:lnTo>
                <a:lnTo>
                  <a:pt x="108" y="730"/>
                </a:lnTo>
                <a:lnTo>
                  <a:pt x="88" y="758"/>
                </a:lnTo>
                <a:lnTo>
                  <a:pt x="60" y="786"/>
                </a:lnTo>
                <a:lnTo>
                  <a:pt x="40" y="814"/>
                </a:lnTo>
                <a:lnTo>
                  <a:pt x="16" y="833"/>
                </a:lnTo>
                <a:lnTo>
                  <a:pt x="0" y="853"/>
                </a:lnTo>
                <a:lnTo>
                  <a:pt x="4" y="873"/>
                </a:lnTo>
                <a:lnTo>
                  <a:pt x="32" y="869"/>
                </a:lnTo>
                <a:lnTo>
                  <a:pt x="56" y="830"/>
                </a:lnTo>
                <a:lnTo>
                  <a:pt x="92" y="798"/>
                </a:lnTo>
                <a:lnTo>
                  <a:pt x="116" y="766"/>
                </a:lnTo>
                <a:lnTo>
                  <a:pt x="139" y="734"/>
                </a:lnTo>
                <a:lnTo>
                  <a:pt x="163" y="714"/>
                </a:lnTo>
                <a:lnTo>
                  <a:pt x="191" y="726"/>
                </a:lnTo>
                <a:lnTo>
                  <a:pt x="219" y="718"/>
                </a:lnTo>
                <a:lnTo>
                  <a:pt x="219" y="742"/>
                </a:lnTo>
                <a:lnTo>
                  <a:pt x="191" y="786"/>
                </a:lnTo>
                <a:lnTo>
                  <a:pt x="151" y="818"/>
                </a:lnTo>
                <a:lnTo>
                  <a:pt x="120" y="853"/>
                </a:lnTo>
                <a:lnTo>
                  <a:pt x="68" y="901"/>
                </a:lnTo>
                <a:lnTo>
                  <a:pt x="56" y="953"/>
                </a:lnTo>
                <a:lnTo>
                  <a:pt x="48" y="989"/>
                </a:lnTo>
                <a:lnTo>
                  <a:pt x="36" y="1025"/>
                </a:lnTo>
                <a:lnTo>
                  <a:pt x="4" y="110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0"/>
          <p:cNvSpPr/>
          <p:nvPr/>
        </p:nvSpPr>
        <p:spPr>
          <a:xfrm>
            <a:off x="5748480" y="1996920"/>
            <a:ext cx="2198520" cy="1532160"/>
          </a:xfrm>
          <a:custGeom>
            <a:avLst/>
            <a:gdLst/>
            <a:ahLst/>
            <a:rect l="l" t="t" r="r" b="b"/>
            <a:pathLst>
              <a:path w="1385" h="965">
                <a:moveTo>
                  <a:pt x="1369" y="495"/>
                </a:moveTo>
                <a:lnTo>
                  <a:pt x="1333" y="499"/>
                </a:lnTo>
                <a:lnTo>
                  <a:pt x="1245" y="499"/>
                </a:lnTo>
                <a:lnTo>
                  <a:pt x="1173" y="499"/>
                </a:lnTo>
                <a:lnTo>
                  <a:pt x="1102" y="495"/>
                </a:lnTo>
                <a:lnTo>
                  <a:pt x="1094" y="515"/>
                </a:lnTo>
                <a:lnTo>
                  <a:pt x="1126" y="523"/>
                </a:lnTo>
                <a:lnTo>
                  <a:pt x="1161" y="523"/>
                </a:lnTo>
                <a:lnTo>
                  <a:pt x="1169" y="539"/>
                </a:lnTo>
                <a:lnTo>
                  <a:pt x="1142" y="554"/>
                </a:lnTo>
                <a:lnTo>
                  <a:pt x="1110" y="550"/>
                </a:lnTo>
                <a:lnTo>
                  <a:pt x="1082" y="535"/>
                </a:lnTo>
                <a:lnTo>
                  <a:pt x="1042" y="531"/>
                </a:lnTo>
                <a:lnTo>
                  <a:pt x="1010" y="550"/>
                </a:lnTo>
                <a:lnTo>
                  <a:pt x="990" y="531"/>
                </a:lnTo>
                <a:lnTo>
                  <a:pt x="918" y="547"/>
                </a:lnTo>
                <a:lnTo>
                  <a:pt x="922" y="570"/>
                </a:lnTo>
                <a:lnTo>
                  <a:pt x="902" y="594"/>
                </a:lnTo>
                <a:lnTo>
                  <a:pt x="878" y="594"/>
                </a:lnTo>
                <a:lnTo>
                  <a:pt x="866" y="570"/>
                </a:lnTo>
                <a:lnTo>
                  <a:pt x="822" y="550"/>
                </a:lnTo>
                <a:lnTo>
                  <a:pt x="786" y="554"/>
                </a:lnTo>
                <a:lnTo>
                  <a:pt x="766" y="570"/>
                </a:lnTo>
                <a:lnTo>
                  <a:pt x="742" y="570"/>
                </a:lnTo>
                <a:lnTo>
                  <a:pt x="746" y="547"/>
                </a:lnTo>
                <a:lnTo>
                  <a:pt x="726" y="543"/>
                </a:lnTo>
                <a:lnTo>
                  <a:pt x="698" y="554"/>
                </a:lnTo>
                <a:lnTo>
                  <a:pt x="698" y="535"/>
                </a:lnTo>
                <a:lnTo>
                  <a:pt x="710" y="515"/>
                </a:lnTo>
                <a:lnTo>
                  <a:pt x="686" y="495"/>
                </a:lnTo>
                <a:lnTo>
                  <a:pt x="666" y="487"/>
                </a:lnTo>
                <a:lnTo>
                  <a:pt x="630" y="475"/>
                </a:lnTo>
                <a:lnTo>
                  <a:pt x="630" y="507"/>
                </a:lnTo>
                <a:lnTo>
                  <a:pt x="614" y="527"/>
                </a:lnTo>
                <a:lnTo>
                  <a:pt x="591" y="511"/>
                </a:lnTo>
                <a:lnTo>
                  <a:pt x="575" y="523"/>
                </a:lnTo>
                <a:lnTo>
                  <a:pt x="551" y="515"/>
                </a:lnTo>
                <a:lnTo>
                  <a:pt x="571" y="499"/>
                </a:lnTo>
                <a:lnTo>
                  <a:pt x="571" y="475"/>
                </a:lnTo>
                <a:lnTo>
                  <a:pt x="539" y="455"/>
                </a:lnTo>
                <a:lnTo>
                  <a:pt x="503" y="439"/>
                </a:lnTo>
                <a:lnTo>
                  <a:pt x="459" y="439"/>
                </a:lnTo>
                <a:lnTo>
                  <a:pt x="439" y="455"/>
                </a:lnTo>
                <a:lnTo>
                  <a:pt x="443" y="487"/>
                </a:lnTo>
                <a:lnTo>
                  <a:pt x="455" y="519"/>
                </a:lnTo>
                <a:lnTo>
                  <a:pt x="439" y="543"/>
                </a:lnTo>
                <a:lnTo>
                  <a:pt x="411" y="535"/>
                </a:lnTo>
                <a:lnTo>
                  <a:pt x="379" y="535"/>
                </a:lnTo>
                <a:lnTo>
                  <a:pt x="379" y="511"/>
                </a:lnTo>
                <a:lnTo>
                  <a:pt x="375" y="483"/>
                </a:lnTo>
                <a:lnTo>
                  <a:pt x="347" y="487"/>
                </a:lnTo>
                <a:lnTo>
                  <a:pt x="315" y="515"/>
                </a:lnTo>
                <a:lnTo>
                  <a:pt x="283" y="535"/>
                </a:lnTo>
                <a:lnTo>
                  <a:pt x="295" y="503"/>
                </a:lnTo>
                <a:lnTo>
                  <a:pt x="319" y="483"/>
                </a:lnTo>
                <a:lnTo>
                  <a:pt x="347" y="471"/>
                </a:lnTo>
                <a:lnTo>
                  <a:pt x="355" y="451"/>
                </a:lnTo>
                <a:lnTo>
                  <a:pt x="347" y="411"/>
                </a:lnTo>
                <a:lnTo>
                  <a:pt x="319" y="423"/>
                </a:lnTo>
                <a:lnTo>
                  <a:pt x="303" y="403"/>
                </a:lnTo>
                <a:lnTo>
                  <a:pt x="327" y="395"/>
                </a:lnTo>
                <a:lnTo>
                  <a:pt x="343" y="375"/>
                </a:lnTo>
                <a:lnTo>
                  <a:pt x="311" y="351"/>
                </a:lnTo>
                <a:lnTo>
                  <a:pt x="295" y="323"/>
                </a:lnTo>
                <a:lnTo>
                  <a:pt x="267" y="299"/>
                </a:lnTo>
                <a:lnTo>
                  <a:pt x="231" y="283"/>
                </a:lnTo>
                <a:lnTo>
                  <a:pt x="235" y="319"/>
                </a:lnTo>
                <a:lnTo>
                  <a:pt x="207" y="311"/>
                </a:lnTo>
                <a:lnTo>
                  <a:pt x="203" y="279"/>
                </a:lnTo>
                <a:lnTo>
                  <a:pt x="179" y="267"/>
                </a:lnTo>
                <a:lnTo>
                  <a:pt x="199" y="247"/>
                </a:lnTo>
                <a:lnTo>
                  <a:pt x="219" y="232"/>
                </a:lnTo>
                <a:lnTo>
                  <a:pt x="239" y="200"/>
                </a:lnTo>
                <a:lnTo>
                  <a:pt x="263" y="164"/>
                </a:lnTo>
                <a:lnTo>
                  <a:pt x="275" y="136"/>
                </a:lnTo>
                <a:lnTo>
                  <a:pt x="271" y="108"/>
                </a:lnTo>
                <a:lnTo>
                  <a:pt x="259" y="76"/>
                </a:lnTo>
                <a:lnTo>
                  <a:pt x="271" y="32"/>
                </a:lnTo>
                <a:lnTo>
                  <a:pt x="271" y="4"/>
                </a:lnTo>
                <a:lnTo>
                  <a:pt x="247" y="0"/>
                </a:lnTo>
                <a:lnTo>
                  <a:pt x="223" y="32"/>
                </a:lnTo>
                <a:lnTo>
                  <a:pt x="211" y="60"/>
                </a:lnTo>
                <a:lnTo>
                  <a:pt x="171" y="76"/>
                </a:lnTo>
                <a:lnTo>
                  <a:pt x="135" y="120"/>
                </a:lnTo>
                <a:lnTo>
                  <a:pt x="107" y="156"/>
                </a:lnTo>
                <a:lnTo>
                  <a:pt x="83" y="200"/>
                </a:lnTo>
                <a:lnTo>
                  <a:pt x="60" y="239"/>
                </a:lnTo>
                <a:lnTo>
                  <a:pt x="32" y="271"/>
                </a:lnTo>
                <a:lnTo>
                  <a:pt x="12" y="303"/>
                </a:lnTo>
                <a:lnTo>
                  <a:pt x="0" y="343"/>
                </a:lnTo>
                <a:lnTo>
                  <a:pt x="8" y="383"/>
                </a:lnTo>
                <a:lnTo>
                  <a:pt x="40" y="391"/>
                </a:lnTo>
                <a:lnTo>
                  <a:pt x="87" y="387"/>
                </a:lnTo>
                <a:lnTo>
                  <a:pt x="127" y="403"/>
                </a:lnTo>
                <a:lnTo>
                  <a:pt x="155" y="419"/>
                </a:lnTo>
                <a:lnTo>
                  <a:pt x="191" y="427"/>
                </a:lnTo>
                <a:lnTo>
                  <a:pt x="195" y="395"/>
                </a:lnTo>
                <a:lnTo>
                  <a:pt x="215" y="391"/>
                </a:lnTo>
                <a:lnTo>
                  <a:pt x="227" y="423"/>
                </a:lnTo>
                <a:lnTo>
                  <a:pt x="219" y="451"/>
                </a:lnTo>
                <a:lnTo>
                  <a:pt x="195" y="467"/>
                </a:lnTo>
                <a:lnTo>
                  <a:pt x="199" y="499"/>
                </a:lnTo>
                <a:lnTo>
                  <a:pt x="207" y="531"/>
                </a:lnTo>
                <a:lnTo>
                  <a:pt x="187" y="550"/>
                </a:lnTo>
                <a:lnTo>
                  <a:pt x="187" y="582"/>
                </a:lnTo>
                <a:lnTo>
                  <a:pt x="223" y="586"/>
                </a:lnTo>
                <a:lnTo>
                  <a:pt x="267" y="606"/>
                </a:lnTo>
                <a:lnTo>
                  <a:pt x="299" y="594"/>
                </a:lnTo>
                <a:lnTo>
                  <a:pt x="331" y="590"/>
                </a:lnTo>
                <a:lnTo>
                  <a:pt x="347" y="598"/>
                </a:lnTo>
                <a:lnTo>
                  <a:pt x="395" y="598"/>
                </a:lnTo>
                <a:lnTo>
                  <a:pt x="423" y="594"/>
                </a:lnTo>
                <a:lnTo>
                  <a:pt x="431" y="614"/>
                </a:lnTo>
                <a:lnTo>
                  <a:pt x="459" y="630"/>
                </a:lnTo>
                <a:lnTo>
                  <a:pt x="459" y="650"/>
                </a:lnTo>
                <a:lnTo>
                  <a:pt x="435" y="650"/>
                </a:lnTo>
                <a:lnTo>
                  <a:pt x="407" y="630"/>
                </a:lnTo>
                <a:lnTo>
                  <a:pt x="379" y="646"/>
                </a:lnTo>
                <a:lnTo>
                  <a:pt x="415" y="666"/>
                </a:lnTo>
                <a:lnTo>
                  <a:pt x="443" y="710"/>
                </a:lnTo>
                <a:lnTo>
                  <a:pt x="491" y="738"/>
                </a:lnTo>
                <a:lnTo>
                  <a:pt x="531" y="766"/>
                </a:lnTo>
                <a:lnTo>
                  <a:pt x="583" y="770"/>
                </a:lnTo>
                <a:lnTo>
                  <a:pt x="638" y="790"/>
                </a:lnTo>
                <a:lnTo>
                  <a:pt x="690" y="802"/>
                </a:lnTo>
                <a:lnTo>
                  <a:pt x="750" y="814"/>
                </a:lnTo>
                <a:lnTo>
                  <a:pt x="790" y="806"/>
                </a:lnTo>
                <a:lnTo>
                  <a:pt x="826" y="778"/>
                </a:lnTo>
                <a:lnTo>
                  <a:pt x="822" y="754"/>
                </a:lnTo>
                <a:lnTo>
                  <a:pt x="794" y="770"/>
                </a:lnTo>
                <a:lnTo>
                  <a:pt x="762" y="778"/>
                </a:lnTo>
                <a:lnTo>
                  <a:pt x="742" y="770"/>
                </a:lnTo>
                <a:lnTo>
                  <a:pt x="762" y="754"/>
                </a:lnTo>
                <a:lnTo>
                  <a:pt x="786" y="750"/>
                </a:lnTo>
                <a:lnTo>
                  <a:pt x="806" y="722"/>
                </a:lnTo>
                <a:lnTo>
                  <a:pt x="802" y="702"/>
                </a:lnTo>
                <a:lnTo>
                  <a:pt x="822" y="702"/>
                </a:lnTo>
                <a:lnTo>
                  <a:pt x="834" y="718"/>
                </a:lnTo>
                <a:lnTo>
                  <a:pt x="858" y="690"/>
                </a:lnTo>
                <a:lnTo>
                  <a:pt x="878" y="670"/>
                </a:lnTo>
                <a:lnTo>
                  <a:pt x="914" y="658"/>
                </a:lnTo>
                <a:lnTo>
                  <a:pt x="910" y="678"/>
                </a:lnTo>
                <a:lnTo>
                  <a:pt x="894" y="694"/>
                </a:lnTo>
                <a:lnTo>
                  <a:pt x="862" y="734"/>
                </a:lnTo>
                <a:lnTo>
                  <a:pt x="858" y="758"/>
                </a:lnTo>
                <a:lnTo>
                  <a:pt x="910" y="766"/>
                </a:lnTo>
                <a:lnTo>
                  <a:pt x="938" y="766"/>
                </a:lnTo>
                <a:lnTo>
                  <a:pt x="938" y="790"/>
                </a:lnTo>
                <a:lnTo>
                  <a:pt x="966" y="802"/>
                </a:lnTo>
                <a:lnTo>
                  <a:pt x="986" y="790"/>
                </a:lnTo>
                <a:lnTo>
                  <a:pt x="994" y="806"/>
                </a:lnTo>
                <a:lnTo>
                  <a:pt x="982" y="830"/>
                </a:lnTo>
                <a:lnTo>
                  <a:pt x="950" y="850"/>
                </a:lnTo>
                <a:lnTo>
                  <a:pt x="910" y="861"/>
                </a:lnTo>
                <a:lnTo>
                  <a:pt x="910" y="865"/>
                </a:lnTo>
                <a:lnTo>
                  <a:pt x="914" y="871"/>
                </a:lnTo>
                <a:lnTo>
                  <a:pt x="920" y="879"/>
                </a:lnTo>
                <a:lnTo>
                  <a:pt x="924" y="881"/>
                </a:lnTo>
                <a:lnTo>
                  <a:pt x="930" y="881"/>
                </a:lnTo>
                <a:lnTo>
                  <a:pt x="954" y="879"/>
                </a:lnTo>
                <a:lnTo>
                  <a:pt x="966" y="877"/>
                </a:lnTo>
                <a:lnTo>
                  <a:pt x="978" y="889"/>
                </a:lnTo>
                <a:lnTo>
                  <a:pt x="978" y="917"/>
                </a:lnTo>
                <a:lnTo>
                  <a:pt x="1002" y="941"/>
                </a:lnTo>
                <a:lnTo>
                  <a:pt x="1016" y="949"/>
                </a:lnTo>
                <a:lnTo>
                  <a:pt x="1028" y="953"/>
                </a:lnTo>
                <a:lnTo>
                  <a:pt x="1042" y="957"/>
                </a:lnTo>
                <a:lnTo>
                  <a:pt x="1076" y="963"/>
                </a:lnTo>
                <a:lnTo>
                  <a:pt x="1098" y="965"/>
                </a:lnTo>
                <a:lnTo>
                  <a:pt x="1130" y="953"/>
                </a:lnTo>
                <a:lnTo>
                  <a:pt x="1189" y="949"/>
                </a:lnTo>
                <a:lnTo>
                  <a:pt x="1241" y="945"/>
                </a:lnTo>
                <a:lnTo>
                  <a:pt x="1257" y="913"/>
                </a:lnTo>
                <a:lnTo>
                  <a:pt x="1233" y="913"/>
                </a:lnTo>
                <a:lnTo>
                  <a:pt x="1209" y="913"/>
                </a:lnTo>
                <a:lnTo>
                  <a:pt x="1225" y="885"/>
                </a:lnTo>
                <a:lnTo>
                  <a:pt x="1253" y="881"/>
                </a:lnTo>
                <a:lnTo>
                  <a:pt x="1265" y="842"/>
                </a:lnTo>
                <a:lnTo>
                  <a:pt x="1273" y="814"/>
                </a:lnTo>
                <a:lnTo>
                  <a:pt x="1261" y="786"/>
                </a:lnTo>
                <a:lnTo>
                  <a:pt x="1245" y="802"/>
                </a:lnTo>
                <a:lnTo>
                  <a:pt x="1229" y="814"/>
                </a:lnTo>
                <a:lnTo>
                  <a:pt x="1209" y="794"/>
                </a:lnTo>
                <a:lnTo>
                  <a:pt x="1197" y="766"/>
                </a:lnTo>
                <a:lnTo>
                  <a:pt x="1221" y="762"/>
                </a:lnTo>
                <a:lnTo>
                  <a:pt x="1205" y="742"/>
                </a:lnTo>
                <a:lnTo>
                  <a:pt x="1209" y="718"/>
                </a:lnTo>
                <a:lnTo>
                  <a:pt x="1241" y="726"/>
                </a:lnTo>
                <a:lnTo>
                  <a:pt x="1281" y="726"/>
                </a:lnTo>
                <a:lnTo>
                  <a:pt x="1289" y="706"/>
                </a:lnTo>
                <a:lnTo>
                  <a:pt x="1265" y="694"/>
                </a:lnTo>
                <a:lnTo>
                  <a:pt x="1269" y="674"/>
                </a:lnTo>
                <a:lnTo>
                  <a:pt x="1313" y="678"/>
                </a:lnTo>
                <a:lnTo>
                  <a:pt x="1317" y="646"/>
                </a:lnTo>
                <a:lnTo>
                  <a:pt x="1329" y="622"/>
                </a:lnTo>
                <a:lnTo>
                  <a:pt x="1317" y="602"/>
                </a:lnTo>
                <a:lnTo>
                  <a:pt x="1329" y="590"/>
                </a:lnTo>
                <a:lnTo>
                  <a:pt x="1353" y="598"/>
                </a:lnTo>
                <a:lnTo>
                  <a:pt x="1385" y="58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3306600" y="162000"/>
            <a:ext cx="2162160" cy="468360"/>
          </a:xfrm>
          <a:custGeom>
            <a:avLst/>
            <a:gdLst/>
            <a:ahLst/>
            <a:rect l="l" t="t" r="r" b="b"/>
            <a:pathLst>
              <a:path w="1362" h="295">
                <a:moveTo>
                  <a:pt x="0" y="275"/>
                </a:moveTo>
                <a:lnTo>
                  <a:pt x="40" y="271"/>
                </a:lnTo>
                <a:lnTo>
                  <a:pt x="76" y="275"/>
                </a:lnTo>
                <a:lnTo>
                  <a:pt x="108" y="259"/>
                </a:lnTo>
                <a:lnTo>
                  <a:pt x="136" y="247"/>
                </a:lnTo>
                <a:lnTo>
                  <a:pt x="188" y="247"/>
                </a:lnTo>
                <a:lnTo>
                  <a:pt x="212" y="219"/>
                </a:lnTo>
                <a:lnTo>
                  <a:pt x="240" y="187"/>
                </a:lnTo>
                <a:lnTo>
                  <a:pt x="292" y="183"/>
                </a:lnTo>
                <a:lnTo>
                  <a:pt x="332" y="187"/>
                </a:lnTo>
                <a:lnTo>
                  <a:pt x="356" y="219"/>
                </a:lnTo>
                <a:lnTo>
                  <a:pt x="384" y="207"/>
                </a:lnTo>
                <a:lnTo>
                  <a:pt x="392" y="183"/>
                </a:lnTo>
                <a:lnTo>
                  <a:pt x="406" y="189"/>
                </a:lnTo>
                <a:lnTo>
                  <a:pt x="420" y="193"/>
                </a:lnTo>
                <a:lnTo>
                  <a:pt x="432" y="195"/>
                </a:lnTo>
                <a:lnTo>
                  <a:pt x="488" y="195"/>
                </a:lnTo>
                <a:lnTo>
                  <a:pt x="531" y="183"/>
                </a:lnTo>
                <a:lnTo>
                  <a:pt x="551" y="152"/>
                </a:lnTo>
                <a:lnTo>
                  <a:pt x="583" y="128"/>
                </a:lnTo>
                <a:lnTo>
                  <a:pt x="615" y="136"/>
                </a:lnTo>
                <a:lnTo>
                  <a:pt x="643" y="159"/>
                </a:lnTo>
                <a:lnTo>
                  <a:pt x="683" y="183"/>
                </a:lnTo>
                <a:lnTo>
                  <a:pt x="747" y="203"/>
                </a:lnTo>
                <a:lnTo>
                  <a:pt x="803" y="227"/>
                </a:lnTo>
                <a:lnTo>
                  <a:pt x="851" y="239"/>
                </a:lnTo>
                <a:lnTo>
                  <a:pt x="887" y="275"/>
                </a:lnTo>
                <a:lnTo>
                  <a:pt x="927" y="295"/>
                </a:lnTo>
                <a:lnTo>
                  <a:pt x="971" y="283"/>
                </a:lnTo>
                <a:lnTo>
                  <a:pt x="1007" y="267"/>
                </a:lnTo>
                <a:lnTo>
                  <a:pt x="1035" y="251"/>
                </a:lnTo>
                <a:lnTo>
                  <a:pt x="1090" y="219"/>
                </a:lnTo>
                <a:lnTo>
                  <a:pt x="1154" y="191"/>
                </a:lnTo>
                <a:lnTo>
                  <a:pt x="1178" y="159"/>
                </a:lnTo>
                <a:lnTo>
                  <a:pt x="1186" y="148"/>
                </a:lnTo>
                <a:lnTo>
                  <a:pt x="1196" y="138"/>
                </a:lnTo>
                <a:lnTo>
                  <a:pt x="1206" y="132"/>
                </a:lnTo>
                <a:lnTo>
                  <a:pt x="1262" y="116"/>
                </a:lnTo>
                <a:lnTo>
                  <a:pt x="1306" y="96"/>
                </a:lnTo>
                <a:lnTo>
                  <a:pt x="1330" y="44"/>
                </a:lnTo>
                <a:lnTo>
                  <a:pt x="1362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2"/>
          <p:cNvSpPr/>
          <p:nvPr/>
        </p:nvSpPr>
        <p:spPr>
          <a:xfrm>
            <a:off x="6210360" y="3529080"/>
            <a:ext cx="1255680" cy="372960"/>
          </a:xfrm>
          <a:custGeom>
            <a:avLst/>
            <a:gdLst/>
            <a:ahLst/>
            <a:rect l="l" t="t" r="r" b="b"/>
            <a:pathLst>
              <a:path w="791" h="235">
                <a:moveTo>
                  <a:pt x="0" y="0"/>
                </a:moveTo>
                <a:lnTo>
                  <a:pt x="36" y="4"/>
                </a:lnTo>
                <a:lnTo>
                  <a:pt x="72" y="20"/>
                </a:lnTo>
                <a:lnTo>
                  <a:pt x="96" y="48"/>
                </a:lnTo>
                <a:lnTo>
                  <a:pt x="124" y="76"/>
                </a:lnTo>
                <a:lnTo>
                  <a:pt x="184" y="108"/>
                </a:lnTo>
                <a:lnTo>
                  <a:pt x="220" y="108"/>
                </a:lnTo>
                <a:lnTo>
                  <a:pt x="268" y="96"/>
                </a:lnTo>
                <a:lnTo>
                  <a:pt x="316" y="96"/>
                </a:lnTo>
                <a:lnTo>
                  <a:pt x="347" y="96"/>
                </a:lnTo>
                <a:lnTo>
                  <a:pt x="371" y="112"/>
                </a:lnTo>
                <a:lnTo>
                  <a:pt x="347" y="132"/>
                </a:lnTo>
                <a:lnTo>
                  <a:pt x="308" y="148"/>
                </a:lnTo>
                <a:lnTo>
                  <a:pt x="323" y="164"/>
                </a:lnTo>
                <a:lnTo>
                  <a:pt x="375" y="148"/>
                </a:lnTo>
                <a:lnTo>
                  <a:pt x="399" y="148"/>
                </a:lnTo>
                <a:lnTo>
                  <a:pt x="427" y="164"/>
                </a:lnTo>
                <a:lnTo>
                  <a:pt x="459" y="152"/>
                </a:lnTo>
                <a:lnTo>
                  <a:pt x="483" y="160"/>
                </a:lnTo>
                <a:lnTo>
                  <a:pt x="479" y="184"/>
                </a:lnTo>
                <a:lnTo>
                  <a:pt x="443" y="196"/>
                </a:lnTo>
                <a:lnTo>
                  <a:pt x="415" y="204"/>
                </a:lnTo>
                <a:lnTo>
                  <a:pt x="431" y="223"/>
                </a:lnTo>
                <a:lnTo>
                  <a:pt x="463" y="235"/>
                </a:lnTo>
                <a:lnTo>
                  <a:pt x="479" y="211"/>
                </a:lnTo>
                <a:lnTo>
                  <a:pt x="503" y="200"/>
                </a:lnTo>
                <a:lnTo>
                  <a:pt x="523" y="184"/>
                </a:lnTo>
                <a:lnTo>
                  <a:pt x="523" y="211"/>
                </a:lnTo>
                <a:lnTo>
                  <a:pt x="543" y="204"/>
                </a:lnTo>
                <a:lnTo>
                  <a:pt x="567" y="192"/>
                </a:lnTo>
                <a:lnTo>
                  <a:pt x="599" y="192"/>
                </a:lnTo>
                <a:lnTo>
                  <a:pt x="591" y="172"/>
                </a:lnTo>
                <a:lnTo>
                  <a:pt x="579" y="152"/>
                </a:lnTo>
                <a:lnTo>
                  <a:pt x="615" y="144"/>
                </a:lnTo>
                <a:lnTo>
                  <a:pt x="651" y="156"/>
                </a:lnTo>
                <a:lnTo>
                  <a:pt x="723" y="172"/>
                </a:lnTo>
                <a:lnTo>
                  <a:pt x="791" y="19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3992400" y="3382920"/>
            <a:ext cx="265320" cy="355680"/>
          </a:xfrm>
          <a:custGeom>
            <a:avLst/>
            <a:gdLst/>
            <a:ahLst/>
            <a:rect l="l" t="t" r="r" b="b"/>
            <a:pathLst>
              <a:path w="167" h="224">
                <a:moveTo>
                  <a:pt x="123" y="148"/>
                </a:moveTo>
                <a:lnTo>
                  <a:pt x="103" y="168"/>
                </a:lnTo>
                <a:lnTo>
                  <a:pt x="95" y="192"/>
                </a:lnTo>
                <a:lnTo>
                  <a:pt x="76" y="208"/>
                </a:lnTo>
                <a:lnTo>
                  <a:pt x="56" y="220"/>
                </a:lnTo>
                <a:lnTo>
                  <a:pt x="28" y="220"/>
                </a:lnTo>
                <a:lnTo>
                  <a:pt x="4" y="224"/>
                </a:lnTo>
                <a:lnTo>
                  <a:pt x="0" y="192"/>
                </a:lnTo>
                <a:lnTo>
                  <a:pt x="20" y="168"/>
                </a:lnTo>
                <a:lnTo>
                  <a:pt x="52" y="144"/>
                </a:lnTo>
                <a:lnTo>
                  <a:pt x="64" y="112"/>
                </a:lnTo>
                <a:lnTo>
                  <a:pt x="88" y="88"/>
                </a:lnTo>
                <a:lnTo>
                  <a:pt x="95" y="56"/>
                </a:lnTo>
                <a:lnTo>
                  <a:pt x="115" y="36"/>
                </a:lnTo>
                <a:lnTo>
                  <a:pt x="131" y="28"/>
                </a:lnTo>
                <a:lnTo>
                  <a:pt x="131" y="8"/>
                </a:lnTo>
                <a:lnTo>
                  <a:pt x="151" y="0"/>
                </a:lnTo>
                <a:lnTo>
                  <a:pt x="167" y="24"/>
                </a:lnTo>
                <a:lnTo>
                  <a:pt x="159" y="40"/>
                </a:lnTo>
                <a:lnTo>
                  <a:pt x="135" y="56"/>
                </a:lnTo>
                <a:lnTo>
                  <a:pt x="135" y="76"/>
                </a:lnTo>
                <a:lnTo>
                  <a:pt x="163" y="72"/>
                </a:lnTo>
                <a:lnTo>
                  <a:pt x="155" y="88"/>
                </a:lnTo>
                <a:lnTo>
                  <a:pt x="135" y="100"/>
                </a:lnTo>
                <a:lnTo>
                  <a:pt x="115" y="104"/>
                </a:lnTo>
                <a:lnTo>
                  <a:pt x="107" y="124"/>
                </a:lnTo>
                <a:lnTo>
                  <a:pt x="123" y="148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3630600" y="36939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136" y="32"/>
                </a:moveTo>
                <a:lnTo>
                  <a:pt x="112" y="32"/>
                </a:lnTo>
                <a:lnTo>
                  <a:pt x="76" y="32"/>
                </a:lnTo>
                <a:lnTo>
                  <a:pt x="48" y="36"/>
                </a:lnTo>
                <a:lnTo>
                  <a:pt x="16" y="40"/>
                </a:lnTo>
                <a:lnTo>
                  <a:pt x="0" y="24"/>
                </a:lnTo>
                <a:lnTo>
                  <a:pt x="4" y="4"/>
                </a:lnTo>
                <a:lnTo>
                  <a:pt x="52" y="4"/>
                </a:lnTo>
                <a:lnTo>
                  <a:pt x="80" y="0"/>
                </a:lnTo>
                <a:lnTo>
                  <a:pt x="132" y="0"/>
                </a:lnTo>
                <a:lnTo>
                  <a:pt x="168" y="12"/>
                </a:lnTo>
                <a:lnTo>
                  <a:pt x="196" y="32"/>
                </a:lnTo>
                <a:lnTo>
                  <a:pt x="224" y="56"/>
                </a:lnTo>
                <a:lnTo>
                  <a:pt x="252" y="80"/>
                </a:lnTo>
                <a:lnTo>
                  <a:pt x="260" y="107"/>
                </a:lnTo>
                <a:lnTo>
                  <a:pt x="260" y="139"/>
                </a:lnTo>
                <a:lnTo>
                  <a:pt x="276" y="155"/>
                </a:lnTo>
                <a:lnTo>
                  <a:pt x="292" y="151"/>
                </a:lnTo>
                <a:lnTo>
                  <a:pt x="304" y="135"/>
                </a:lnTo>
                <a:lnTo>
                  <a:pt x="323" y="119"/>
                </a:lnTo>
                <a:lnTo>
                  <a:pt x="339" y="103"/>
                </a:lnTo>
                <a:lnTo>
                  <a:pt x="343" y="135"/>
                </a:lnTo>
                <a:lnTo>
                  <a:pt x="331" y="155"/>
                </a:lnTo>
                <a:lnTo>
                  <a:pt x="312" y="175"/>
                </a:lnTo>
                <a:lnTo>
                  <a:pt x="300" y="199"/>
                </a:lnTo>
                <a:lnTo>
                  <a:pt x="296" y="227"/>
                </a:lnTo>
                <a:lnTo>
                  <a:pt x="300" y="251"/>
                </a:lnTo>
                <a:lnTo>
                  <a:pt x="312" y="271"/>
                </a:lnTo>
                <a:lnTo>
                  <a:pt x="335" y="279"/>
                </a:lnTo>
                <a:lnTo>
                  <a:pt x="363" y="267"/>
                </a:lnTo>
                <a:lnTo>
                  <a:pt x="383" y="247"/>
                </a:lnTo>
                <a:lnTo>
                  <a:pt x="395" y="235"/>
                </a:lnTo>
                <a:lnTo>
                  <a:pt x="415" y="235"/>
                </a:lnTo>
                <a:lnTo>
                  <a:pt x="403" y="259"/>
                </a:lnTo>
                <a:lnTo>
                  <a:pt x="395" y="283"/>
                </a:lnTo>
                <a:lnTo>
                  <a:pt x="355" y="307"/>
                </a:lnTo>
                <a:lnTo>
                  <a:pt x="331" y="335"/>
                </a:lnTo>
                <a:lnTo>
                  <a:pt x="300" y="359"/>
                </a:lnTo>
                <a:lnTo>
                  <a:pt x="288" y="387"/>
                </a:lnTo>
                <a:lnTo>
                  <a:pt x="260" y="410"/>
                </a:lnTo>
                <a:lnTo>
                  <a:pt x="248" y="426"/>
                </a:lnTo>
                <a:lnTo>
                  <a:pt x="228" y="446"/>
                </a:lnTo>
                <a:lnTo>
                  <a:pt x="216" y="466"/>
                </a:lnTo>
                <a:lnTo>
                  <a:pt x="212" y="486"/>
                </a:lnTo>
                <a:lnTo>
                  <a:pt x="220" y="510"/>
                </a:lnTo>
                <a:lnTo>
                  <a:pt x="252" y="506"/>
                </a:lnTo>
                <a:lnTo>
                  <a:pt x="272" y="478"/>
                </a:lnTo>
                <a:lnTo>
                  <a:pt x="284" y="450"/>
                </a:lnTo>
                <a:lnTo>
                  <a:pt x="304" y="430"/>
                </a:lnTo>
                <a:lnTo>
                  <a:pt x="339" y="418"/>
                </a:lnTo>
                <a:lnTo>
                  <a:pt x="355" y="399"/>
                </a:lnTo>
                <a:lnTo>
                  <a:pt x="375" y="383"/>
                </a:lnTo>
                <a:lnTo>
                  <a:pt x="403" y="355"/>
                </a:lnTo>
                <a:lnTo>
                  <a:pt x="423" y="355"/>
                </a:lnTo>
                <a:lnTo>
                  <a:pt x="403" y="383"/>
                </a:lnTo>
                <a:lnTo>
                  <a:pt x="379" y="399"/>
                </a:lnTo>
                <a:lnTo>
                  <a:pt x="367" y="414"/>
                </a:lnTo>
                <a:lnTo>
                  <a:pt x="343" y="434"/>
                </a:lnTo>
                <a:lnTo>
                  <a:pt x="335" y="454"/>
                </a:lnTo>
                <a:lnTo>
                  <a:pt x="323" y="482"/>
                </a:lnTo>
                <a:lnTo>
                  <a:pt x="308" y="510"/>
                </a:lnTo>
                <a:lnTo>
                  <a:pt x="292" y="530"/>
                </a:lnTo>
                <a:lnTo>
                  <a:pt x="268" y="550"/>
                </a:lnTo>
                <a:lnTo>
                  <a:pt x="272" y="570"/>
                </a:lnTo>
                <a:lnTo>
                  <a:pt x="284" y="582"/>
                </a:lnTo>
                <a:lnTo>
                  <a:pt x="252" y="578"/>
                </a:lnTo>
                <a:lnTo>
                  <a:pt x="232" y="562"/>
                </a:lnTo>
                <a:lnTo>
                  <a:pt x="216" y="546"/>
                </a:lnTo>
                <a:lnTo>
                  <a:pt x="188" y="522"/>
                </a:lnTo>
                <a:lnTo>
                  <a:pt x="184" y="494"/>
                </a:lnTo>
                <a:lnTo>
                  <a:pt x="184" y="466"/>
                </a:lnTo>
                <a:lnTo>
                  <a:pt x="204" y="434"/>
                </a:lnTo>
                <a:lnTo>
                  <a:pt x="228" y="407"/>
                </a:lnTo>
                <a:lnTo>
                  <a:pt x="252" y="387"/>
                </a:lnTo>
                <a:lnTo>
                  <a:pt x="256" y="363"/>
                </a:lnTo>
                <a:lnTo>
                  <a:pt x="280" y="351"/>
                </a:lnTo>
                <a:lnTo>
                  <a:pt x="288" y="327"/>
                </a:lnTo>
                <a:lnTo>
                  <a:pt x="296" y="295"/>
                </a:lnTo>
                <a:lnTo>
                  <a:pt x="284" y="267"/>
                </a:lnTo>
                <a:lnTo>
                  <a:pt x="268" y="235"/>
                </a:lnTo>
                <a:lnTo>
                  <a:pt x="260" y="195"/>
                </a:lnTo>
                <a:lnTo>
                  <a:pt x="248" y="155"/>
                </a:lnTo>
                <a:lnTo>
                  <a:pt x="236" y="119"/>
                </a:lnTo>
                <a:lnTo>
                  <a:pt x="232" y="92"/>
                </a:lnTo>
                <a:lnTo>
                  <a:pt x="208" y="72"/>
                </a:lnTo>
                <a:lnTo>
                  <a:pt x="188" y="56"/>
                </a:lnTo>
                <a:lnTo>
                  <a:pt x="168" y="40"/>
                </a:lnTo>
                <a:lnTo>
                  <a:pt x="136" y="32"/>
                </a:lnTo>
                <a:close/>
              </a:path>
            </a:pathLst>
          </a:custGeom>
          <a:solidFill>
            <a:srgbClr val="00a0c6"/>
          </a:solidFill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"/>
          <p:cNvSpPr/>
          <p:nvPr/>
        </p:nvSpPr>
        <p:spPr>
          <a:xfrm>
            <a:off x="2825640" y="1971720"/>
            <a:ext cx="1965600" cy="974520"/>
          </a:xfrm>
          <a:custGeom>
            <a:avLst/>
            <a:gdLst/>
            <a:ahLst/>
            <a:rect l="l" t="t" r="r" b="b"/>
            <a:pathLst>
              <a:path w="1238" h="614">
                <a:moveTo>
                  <a:pt x="1238" y="0"/>
                </a:moveTo>
                <a:lnTo>
                  <a:pt x="1206" y="12"/>
                </a:lnTo>
                <a:lnTo>
                  <a:pt x="1154" y="40"/>
                </a:lnTo>
                <a:lnTo>
                  <a:pt x="1126" y="76"/>
                </a:lnTo>
                <a:lnTo>
                  <a:pt x="1106" y="116"/>
                </a:lnTo>
                <a:lnTo>
                  <a:pt x="1082" y="144"/>
                </a:lnTo>
                <a:lnTo>
                  <a:pt x="1054" y="168"/>
                </a:lnTo>
                <a:lnTo>
                  <a:pt x="1034" y="184"/>
                </a:lnTo>
                <a:lnTo>
                  <a:pt x="1002" y="208"/>
                </a:lnTo>
                <a:lnTo>
                  <a:pt x="986" y="232"/>
                </a:lnTo>
                <a:lnTo>
                  <a:pt x="990" y="252"/>
                </a:lnTo>
                <a:lnTo>
                  <a:pt x="1006" y="267"/>
                </a:lnTo>
                <a:lnTo>
                  <a:pt x="986" y="287"/>
                </a:lnTo>
                <a:lnTo>
                  <a:pt x="978" y="303"/>
                </a:lnTo>
                <a:lnTo>
                  <a:pt x="990" y="323"/>
                </a:lnTo>
                <a:lnTo>
                  <a:pt x="1002" y="347"/>
                </a:lnTo>
                <a:lnTo>
                  <a:pt x="982" y="375"/>
                </a:lnTo>
                <a:lnTo>
                  <a:pt x="954" y="387"/>
                </a:lnTo>
                <a:lnTo>
                  <a:pt x="922" y="403"/>
                </a:lnTo>
                <a:lnTo>
                  <a:pt x="886" y="431"/>
                </a:lnTo>
                <a:lnTo>
                  <a:pt x="850" y="435"/>
                </a:lnTo>
                <a:lnTo>
                  <a:pt x="803" y="439"/>
                </a:lnTo>
                <a:lnTo>
                  <a:pt x="771" y="451"/>
                </a:lnTo>
                <a:lnTo>
                  <a:pt x="711" y="467"/>
                </a:lnTo>
                <a:lnTo>
                  <a:pt x="675" y="491"/>
                </a:lnTo>
                <a:lnTo>
                  <a:pt x="643" y="519"/>
                </a:lnTo>
                <a:lnTo>
                  <a:pt x="599" y="535"/>
                </a:lnTo>
                <a:lnTo>
                  <a:pt x="559" y="543"/>
                </a:lnTo>
                <a:lnTo>
                  <a:pt x="535" y="519"/>
                </a:lnTo>
                <a:lnTo>
                  <a:pt x="527" y="495"/>
                </a:lnTo>
                <a:lnTo>
                  <a:pt x="503" y="475"/>
                </a:lnTo>
                <a:lnTo>
                  <a:pt x="491" y="447"/>
                </a:lnTo>
                <a:lnTo>
                  <a:pt x="459" y="435"/>
                </a:lnTo>
                <a:lnTo>
                  <a:pt x="419" y="435"/>
                </a:lnTo>
                <a:lnTo>
                  <a:pt x="347" y="435"/>
                </a:lnTo>
                <a:lnTo>
                  <a:pt x="303" y="459"/>
                </a:lnTo>
                <a:lnTo>
                  <a:pt x="288" y="483"/>
                </a:lnTo>
                <a:lnTo>
                  <a:pt x="248" y="495"/>
                </a:lnTo>
                <a:lnTo>
                  <a:pt x="200" y="503"/>
                </a:lnTo>
                <a:lnTo>
                  <a:pt x="172" y="499"/>
                </a:lnTo>
                <a:lnTo>
                  <a:pt x="136" y="491"/>
                </a:lnTo>
                <a:lnTo>
                  <a:pt x="112" y="475"/>
                </a:lnTo>
                <a:lnTo>
                  <a:pt x="98" y="473"/>
                </a:lnTo>
                <a:lnTo>
                  <a:pt x="86" y="467"/>
                </a:lnTo>
                <a:lnTo>
                  <a:pt x="76" y="459"/>
                </a:lnTo>
                <a:lnTo>
                  <a:pt x="64" y="447"/>
                </a:lnTo>
                <a:lnTo>
                  <a:pt x="32" y="439"/>
                </a:lnTo>
                <a:lnTo>
                  <a:pt x="20" y="447"/>
                </a:lnTo>
                <a:lnTo>
                  <a:pt x="0" y="467"/>
                </a:lnTo>
                <a:lnTo>
                  <a:pt x="0" y="511"/>
                </a:lnTo>
                <a:lnTo>
                  <a:pt x="20" y="531"/>
                </a:lnTo>
                <a:lnTo>
                  <a:pt x="36" y="555"/>
                </a:lnTo>
                <a:lnTo>
                  <a:pt x="40" y="590"/>
                </a:lnTo>
                <a:lnTo>
                  <a:pt x="28" y="61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1735200" y="1282680"/>
            <a:ext cx="1901880" cy="2417760"/>
          </a:xfrm>
          <a:custGeom>
            <a:avLst/>
            <a:gdLst/>
            <a:ahLst/>
            <a:rect l="l" t="t" r="r" b="b"/>
            <a:pathLst>
              <a:path w="1198" h="1523">
                <a:moveTo>
                  <a:pt x="1198" y="1523"/>
                </a:moveTo>
                <a:lnTo>
                  <a:pt x="1158" y="1519"/>
                </a:lnTo>
                <a:lnTo>
                  <a:pt x="1130" y="1491"/>
                </a:lnTo>
                <a:lnTo>
                  <a:pt x="1126" y="1467"/>
                </a:lnTo>
                <a:lnTo>
                  <a:pt x="1118" y="1443"/>
                </a:lnTo>
                <a:lnTo>
                  <a:pt x="1102" y="1435"/>
                </a:lnTo>
                <a:lnTo>
                  <a:pt x="1074" y="1427"/>
                </a:lnTo>
                <a:lnTo>
                  <a:pt x="1038" y="1427"/>
                </a:lnTo>
                <a:lnTo>
                  <a:pt x="998" y="1435"/>
                </a:lnTo>
                <a:lnTo>
                  <a:pt x="975" y="1459"/>
                </a:lnTo>
                <a:lnTo>
                  <a:pt x="955" y="1495"/>
                </a:lnTo>
                <a:lnTo>
                  <a:pt x="935" y="1519"/>
                </a:lnTo>
                <a:lnTo>
                  <a:pt x="895" y="1499"/>
                </a:lnTo>
                <a:lnTo>
                  <a:pt x="859" y="1483"/>
                </a:lnTo>
                <a:lnTo>
                  <a:pt x="815" y="1459"/>
                </a:lnTo>
                <a:lnTo>
                  <a:pt x="787" y="1435"/>
                </a:lnTo>
                <a:lnTo>
                  <a:pt x="755" y="1431"/>
                </a:lnTo>
                <a:lnTo>
                  <a:pt x="703" y="1431"/>
                </a:lnTo>
                <a:lnTo>
                  <a:pt x="667" y="1423"/>
                </a:lnTo>
                <a:lnTo>
                  <a:pt x="631" y="1415"/>
                </a:lnTo>
                <a:lnTo>
                  <a:pt x="599" y="1407"/>
                </a:lnTo>
                <a:lnTo>
                  <a:pt x="559" y="1403"/>
                </a:lnTo>
                <a:lnTo>
                  <a:pt x="535" y="1379"/>
                </a:lnTo>
                <a:lnTo>
                  <a:pt x="527" y="1347"/>
                </a:lnTo>
                <a:lnTo>
                  <a:pt x="531" y="1315"/>
                </a:lnTo>
                <a:lnTo>
                  <a:pt x="523" y="1268"/>
                </a:lnTo>
                <a:lnTo>
                  <a:pt x="523" y="1236"/>
                </a:lnTo>
                <a:lnTo>
                  <a:pt x="543" y="1216"/>
                </a:lnTo>
                <a:lnTo>
                  <a:pt x="559" y="1192"/>
                </a:lnTo>
                <a:lnTo>
                  <a:pt x="575" y="1164"/>
                </a:lnTo>
                <a:lnTo>
                  <a:pt x="551" y="1100"/>
                </a:lnTo>
                <a:lnTo>
                  <a:pt x="535" y="1068"/>
                </a:lnTo>
                <a:lnTo>
                  <a:pt x="523" y="1036"/>
                </a:lnTo>
                <a:lnTo>
                  <a:pt x="519" y="1000"/>
                </a:lnTo>
                <a:lnTo>
                  <a:pt x="511" y="949"/>
                </a:lnTo>
                <a:lnTo>
                  <a:pt x="483" y="917"/>
                </a:lnTo>
                <a:lnTo>
                  <a:pt x="467" y="881"/>
                </a:lnTo>
                <a:lnTo>
                  <a:pt x="459" y="837"/>
                </a:lnTo>
                <a:lnTo>
                  <a:pt x="459" y="805"/>
                </a:lnTo>
                <a:lnTo>
                  <a:pt x="463" y="765"/>
                </a:lnTo>
                <a:lnTo>
                  <a:pt x="467" y="729"/>
                </a:lnTo>
                <a:lnTo>
                  <a:pt x="463" y="686"/>
                </a:lnTo>
                <a:lnTo>
                  <a:pt x="463" y="650"/>
                </a:lnTo>
                <a:lnTo>
                  <a:pt x="471" y="602"/>
                </a:lnTo>
                <a:lnTo>
                  <a:pt x="487" y="538"/>
                </a:lnTo>
                <a:lnTo>
                  <a:pt x="467" y="498"/>
                </a:lnTo>
                <a:lnTo>
                  <a:pt x="463" y="454"/>
                </a:lnTo>
                <a:lnTo>
                  <a:pt x="463" y="426"/>
                </a:lnTo>
                <a:lnTo>
                  <a:pt x="443" y="398"/>
                </a:lnTo>
                <a:lnTo>
                  <a:pt x="424" y="367"/>
                </a:lnTo>
                <a:lnTo>
                  <a:pt x="392" y="327"/>
                </a:lnTo>
                <a:lnTo>
                  <a:pt x="364" y="279"/>
                </a:lnTo>
                <a:lnTo>
                  <a:pt x="328" y="223"/>
                </a:lnTo>
                <a:lnTo>
                  <a:pt x="304" y="183"/>
                </a:lnTo>
                <a:lnTo>
                  <a:pt x="272" y="159"/>
                </a:lnTo>
                <a:lnTo>
                  <a:pt x="244" y="135"/>
                </a:lnTo>
                <a:lnTo>
                  <a:pt x="216" y="111"/>
                </a:lnTo>
                <a:lnTo>
                  <a:pt x="180" y="95"/>
                </a:lnTo>
                <a:lnTo>
                  <a:pt x="152" y="91"/>
                </a:lnTo>
                <a:lnTo>
                  <a:pt x="108" y="99"/>
                </a:lnTo>
                <a:lnTo>
                  <a:pt x="92" y="103"/>
                </a:lnTo>
                <a:lnTo>
                  <a:pt x="76" y="87"/>
                </a:lnTo>
                <a:lnTo>
                  <a:pt x="60" y="52"/>
                </a:lnTo>
                <a:lnTo>
                  <a:pt x="48" y="28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433680" y="1212840"/>
            <a:ext cx="1077840" cy="347760"/>
          </a:xfrm>
          <a:custGeom>
            <a:avLst/>
            <a:gdLst/>
            <a:ahLst/>
            <a:rect l="l" t="t" r="r" b="b"/>
            <a:pathLst>
              <a:path w="679" h="219">
                <a:moveTo>
                  <a:pt x="679" y="0"/>
                </a:moveTo>
                <a:lnTo>
                  <a:pt x="679" y="40"/>
                </a:lnTo>
                <a:lnTo>
                  <a:pt x="671" y="84"/>
                </a:lnTo>
                <a:lnTo>
                  <a:pt x="663" y="108"/>
                </a:lnTo>
                <a:lnTo>
                  <a:pt x="651" y="139"/>
                </a:lnTo>
                <a:lnTo>
                  <a:pt x="615" y="171"/>
                </a:lnTo>
                <a:lnTo>
                  <a:pt x="547" y="183"/>
                </a:lnTo>
                <a:lnTo>
                  <a:pt x="463" y="199"/>
                </a:lnTo>
                <a:lnTo>
                  <a:pt x="424" y="199"/>
                </a:lnTo>
                <a:lnTo>
                  <a:pt x="380" y="191"/>
                </a:lnTo>
                <a:lnTo>
                  <a:pt x="344" y="179"/>
                </a:lnTo>
                <a:lnTo>
                  <a:pt x="324" y="191"/>
                </a:lnTo>
                <a:lnTo>
                  <a:pt x="296" y="191"/>
                </a:lnTo>
                <a:lnTo>
                  <a:pt x="248" y="183"/>
                </a:lnTo>
                <a:lnTo>
                  <a:pt x="160" y="183"/>
                </a:lnTo>
                <a:lnTo>
                  <a:pt x="112" y="183"/>
                </a:lnTo>
                <a:lnTo>
                  <a:pt x="88" y="199"/>
                </a:lnTo>
                <a:lnTo>
                  <a:pt x="56" y="219"/>
                </a:lnTo>
                <a:lnTo>
                  <a:pt x="28" y="215"/>
                </a:lnTo>
                <a:lnTo>
                  <a:pt x="16" y="199"/>
                </a:lnTo>
                <a:lnTo>
                  <a:pt x="0" y="187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4898880" y="3440160"/>
            <a:ext cx="640080" cy="304920"/>
          </a:xfrm>
          <a:custGeom>
            <a:avLst/>
            <a:gdLst/>
            <a:ahLst/>
            <a:rect l="l" t="t" r="r" b="b"/>
            <a:pathLst>
              <a:path w="403" h="192">
                <a:moveTo>
                  <a:pt x="0" y="164"/>
                </a:moveTo>
                <a:lnTo>
                  <a:pt x="2" y="170"/>
                </a:lnTo>
                <a:lnTo>
                  <a:pt x="8" y="180"/>
                </a:lnTo>
                <a:lnTo>
                  <a:pt x="12" y="186"/>
                </a:lnTo>
                <a:lnTo>
                  <a:pt x="16" y="190"/>
                </a:lnTo>
                <a:lnTo>
                  <a:pt x="22" y="192"/>
                </a:lnTo>
                <a:lnTo>
                  <a:pt x="28" y="192"/>
                </a:lnTo>
                <a:lnTo>
                  <a:pt x="40" y="188"/>
                </a:lnTo>
                <a:lnTo>
                  <a:pt x="52" y="180"/>
                </a:lnTo>
                <a:lnTo>
                  <a:pt x="64" y="168"/>
                </a:lnTo>
                <a:lnTo>
                  <a:pt x="83" y="124"/>
                </a:lnTo>
                <a:lnTo>
                  <a:pt x="115" y="88"/>
                </a:lnTo>
                <a:lnTo>
                  <a:pt x="135" y="52"/>
                </a:lnTo>
                <a:lnTo>
                  <a:pt x="171" y="40"/>
                </a:lnTo>
                <a:lnTo>
                  <a:pt x="195" y="24"/>
                </a:lnTo>
                <a:lnTo>
                  <a:pt x="251" y="16"/>
                </a:lnTo>
                <a:lnTo>
                  <a:pt x="291" y="8"/>
                </a:lnTo>
                <a:lnTo>
                  <a:pt x="335" y="0"/>
                </a:lnTo>
                <a:lnTo>
                  <a:pt x="367" y="0"/>
                </a:lnTo>
                <a:lnTo>
                  <a:pt x="383" y="12"/>
                </a:lnTo>
                <a:lnTo>
                  <a:pt x="387" y="40"/>
                </a:lnTo>
                <a:lnTo>
                  <a:pt x="395" y="64"/>
                </a:lnTo>
                <a:lnTo>
                  <a:pt x="403" y="104"/>
                </a:lnTo>
              </a:path>
            </a:pathLst>
          </a:custGeom>
          <a:noFill/>
          <a:ln w="1260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8"/>
          <p:cNvSpPr/>
          <p:nvPr/>
        </p:nvSpPr>
        <p:spPr>
          <a:xfrm>
            <a:off x="1690560" y="1301760"/>
            <a:ext cx="4729320" cy="2625840"/>
          </a:xfrm>
          <a:custGeom>
            <a:avLst/>
            <a:gdLst/>
            <a:ahLst/>
            <a:rect l="l" t="t" r="r" b="b"/>
            <a:pathLst>
              <a:path w="2979" h="1654">
                <a:moveTo>
                  <a:pt x="2979" y="1280"/>
                </a:moveTo>
                <a:lnTo>
                  <a:pt x="2959" y="1299"/>
                </a:lnTo>
                <a:lnTo>
                  <a:pt x="2931" y="1311"/>
                </a:lnTo>
                <a:lnTo>
                  <a:pt x="2891" y="1311"/>
                </a:lnTo>
                <a:lnTo>
                  <a:pt x="2851" y="1315"/>
                </a:lnTo>
                <a:lnTo>
                  <a:pt x="2803" y="1335"/>
                </a:lnTo>
                <a:lnTo>
                  <a:pt x="2767" y="1363"/>
                </a:lnTo>
                <a:lnTo>
                  <a:pt x="2743" y="1395"/>
                </a:lnTo>
                <a:lnTo>
                  <a:pt x="2727" y="1419"/>
                </a:lnTo>
                <a:lnTo>
                  <a:pt x="2711" y="1443"/>
                </a:lnTo>
                <a:lnTo>
                  <a:pt x="2691" y="1475"/>
                </a:lnTo>
                <a:lnTo>
                  <a:pt x="2663" y="1499"/>
                </a:lnTo>
                <a:lnTo>
                  <a:pt x="2643" y="1495"/>
                </a:lnTo>
                <a:lnTo>
                  <a:pt x="2620" y="1479"/>
                </a:lnTo>
                <a:lnTo>
                  <a:pt x="2600" y="1479"/>
                </a:lnTo>
                <a:lnTo>
                  <a:pt x="2590" y="1479"/>
                </a:lnTo>
                <a:lnTo>
                  <a:pt x="2580" y="1477"/>
                </a:lnTo>
                <a:lnTo>
                  <a:pt x="2572" y="1471"/>
                </a:lnTo>
                <a:lnTo>
                  <a:pt x="2516" y="1431"/>
                </a:lnTo>
                <a:lnTo>
                  <a:pt x="2464" y="1391"/>
                </a:lnTo>
                <a:lnTo>
                  <a:pt x="2420" y="1351"/>
                </a:lnTo>
                <a:lnTo>
                  <a:pt x="2380" y="1315"/>
                </a:lnTo>
                <a:lnTo>
                  <a:pt x="2336" y="1288"/>
                </a:lnTo>
                <a:lnTo>
                  <a:pt x="2296" y="1284"/>
                </a:lnTo>
                <a:lnTo>
                  <a:pt x="2240" y="1288"/>
                </a:lnTo>
                <a:lnTo>
                  <a:pt x="2204" y="1315"/>
                </a:lnTo>
                <a:lnTo>
                  <a:pt x="2148" y="1359"/>
                </a:lnTo>
                <a:lnTo>
                  <a:pt x="2108" y="1403"/>
                </a:lnTo>
                <a:lnTo>
                  <a:pt x="2077" y="1435"/>
                </a:lnTo>
                <a:lnTo>
                  <a:pt x="2069" y="1463"/>
                </a:lnTo>
                <a:lnTo>
                  <a:pt x="2061" y="1499"/>
                </a:lnTo>
                <a:lnTo>
                  <a:pt x="2037" y="1551"/>
                </a:lnTo>
                <a:lnTo>
                  <a:pt x="2029" y="1563"/>
                </a:lnTo>
                <a:lnTo>
                  <a:pt x="2021" y="1583"/>
                </a:lnTo>
                <a:lnTo>
                  <a:pt x="2015" y="1593"/>
                </a:lnTo>
                <a:lnTo>
                  <a:pt x="2007" y="1603"/>
                </a:lnTo>
                <a:lnTo>
                  <a:pt x="1997" y="1610"/>
                </a:lnTo>
                <a:lnTo>
                  <a:pt x="1957" y="1630"/>
                </a:lnTo>
                <a:lnTo>
                  <a:pt x="1925" y="1650"/>
                </a:lnTo>
                <a:lnTo>
                  <a:pt x="1889" y="1654"/>
                </a:lnTo>
                <a:lnTo>
                  <a:pt x="1849" y="1654"/>
                </a:lnTo>
                <a:lnTo>
                  <a:pt x="1797" y="1646"/>
                </a:lnTo>
                <a:lnTo>
                  <a:pt x="1745" y="1607"/>
                </a:lnTo>
                <a:lnTo>
                  <a:pt x="1709" y="1563"/>
                </a:lnTo>
                <a:lnTo>
                  <a:pt x="1673" y="1531"/>
                </a:lnTo>
                <a:lnTo>
                  <a:pt x="1641" y="1507"/>
                </a:lnTo>
                <a:lnTo>
                  <a:pt x="1613" y="1495"/>
                </a:lnTo>
                <a:lnTo>
                  <a:pt x="1581" y="1499"/>
                </a:lnTo>
                <a:lnTo>
                  <a:pt x="1553" y="1527"/>
                </a:lnTo>
                <a:lnTo>
                  <a:pt x="1534" y="1551"/>
                </a:lnTo>
                <a:lnTo>
                  <a:pt x="1494" y="1567"/>
                </a:lnTo>
                <a:lnTo>
                  <a:pt x="1454" y="1547"/>
                </a:lnTo>
                <a:lnTo>
                  <a:pt x="1418" y="1519"/>
                </a:lnTo>
                <a:lnTo>
                  <a:pt x="1370" y="1495"/>
                </a:lnTo>
                <a:lnTo>
                  <a:pt x="1322" y="1491"/>
                </a:lnTo>
                <a:lnTo>
                  <a:pt x="1274" y="1491"/>
                </a:lnTo>
                <a:lnTo>
                  <a:pt x="1226" y="1491"/>
                </a:lnTo>
                <a:lnTo>
                  <a:pt x="1158" y="1495"/>
                </a:lnTo>
                <a:lnTo>
                  <a:pt x="1110" y="1487"/>
                </a:lnTo>
                <a:lnTo>
                  <a:pt x="1074" y="1471"/>
                </a:lnTo>
                <a:lnTo>
                  <a:pt x="1038" y="1467"/>
                </a:lnTo>
                <a:lnTo>
                  <a:pt x="1014" y="1499"/>
                </a:lnTo>
                <a:lnTo>
                  <a:pt x="991" y="1523"/>
                </a:lnTo>
                <a:lnTo>
                  <a:pt x="955" y="1523"/>
                </a:lnTo>
                <a:lnTo>
                  <a:pt x="851" y="1499"/>
                </a:lnTo>
                <a:lnTo>
                  <a:pt x="787" y="1471"/>
                </a:lnTo>
                <a:lnTo>
                  <a:pt x="759" y="1459"/>
                </a:lnTo>
                <a:lnTo>
                  <a:pt x="715" y="1455"/>
                </a:lnTo>
                <a:lnTo>
                  <a:pt x="671" y="1447"/>
                </a:lnTo>
                <a:lnTo>
                  <a:pt x="635" y="1427"/>
                </a:lnTo>
                <a:lnTo>
                  <a:pt x="595" y="1419"/>
                </a:lnTo>
                <a:lnTo>
                  <a:pt x="543" y="1399"/>
                </a:lnTo>
                <a:lnTo>
                  <a:pt x="543" y="1355"/>
                </a:lnTo>
                <a:lnTo>
                  <a:pt x="531" y="1307"/>
                </a:lnTo>
                <a:lnTo>
                  <a:pt x="527" y="1260"/>
                </a:lnTo>
                <a:lnTo>
                  <a:pt x="535" y="1208"/>
                </a:lnTo>
                <a:lnTo>
                  <a:pt x="551" y="1172"/>
                </a:lnTo>
                <a:lnTo>
                  <a:pt x="571" y="1140"/>
                </a:lnTo>
                <a:lnTo>
                  <a:pt x="579" y="1104"/>
                </a:lnTo>
                <a:lnTo>
                  <a:pt x="579" y="1056"/>
                </a:lnTo>
                <a:lnTo>
                  <a:pt x="563" y="1012"/>
                </a:lnTo>
                <a:lnTo>
                  <a:pt x="547" y="973"/>
                </a:lnTo>
                <a:lnTo>
                  <a:pt x="519" y="933"/>
                </a:lnTo>
                <a:lnTo>
                  <a:pt x="487" y="901"/>
                </a:lnTo>
                <a:lnTo>
                  <a:pt x="464" y="877"/>
                </a:lnTo>
                <a:lnTo>
                  <a:pt x="460" y="761"/>
                </a:lnTo>
                <a:lnTo>
                  <a:pt x="467" y="662"/>
                </a:lnTo>
                <a:lnTo>
                  <a:pt x="471" y="534"/>
                </a:lnTo>
                <a:lnTo>
                  <a:pt x="475" y="442"/>
                </a:lnTo>
                <a:lnTo>
                  <a:pt x="475" y="406"/>
                </a:lnTo>
                <a:lnTo>
                  <a:pt x="444" y="374"/>
                </a:lnTo>
                <a:lnTo>
                  <a:pt x="404" y="327"/>
                </a:lnTo>
                <a:lnTo>
                  <a:pt x="368" y="263"/>
                </a:lnTo>
                <a:lnTo>
                  <a:pt x="336" y="215"/>
                </a:lnTo>
                <a:lnTo>
                  <a:pt x="304" y="163"/>
                </a:lnTo>
                <a:lnTo>
                  <a:pt x="276" y="135"/>
                </a:lnTo>
                <a:lnTo>
                  <a:pt x="236" y="115"/>
                </a:lnTo>
                <a:lnTo>
                  <a:pt x="192" y="99"/>
                </a:lnTo>
                <a:lnTo>
                  <a:pt x="152" y="95"/>
                </a:lnTo>
                <a:lnTo>
                  <a:pt x="116" y="103"/>
                </a:lnTo>
                <a:lnTo>
                  <a:pt x="68" y="95"/>
                </a:lnTo>
                <a:lnTo>
                  <a:pt x="44" y="63"/>
                </a:lnTo>
                <a:lnTo>
                  <a:pt x="16" y="2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2414520" y="2674800"/>
            <a:ext cx="192240" cy="211320"/>
          </a:xfrm>
          <a:custGeom>
            <a:avLst/>
            <a:gdLst/>
            <a:ahLst/>
            <a:rect l="l" t="t" r="r" b="b"/>
            <a:pathLst>
              <a:path w="121" h="133">
                <a:moveTo>
                  <a:pt x="4" y="44"/>
                </a:moveTo>
                <a:lnTo>
                  <a:pt x="17" y="48"/>
                </a:lnTo>
                <a:lnTo>
                  <a:pt x="21" y="46"/>
                </a:lnTo>
                <a:lnTo>
                  <a:pt x="23" y="46"/>
                </a:lnTo>
                <a:lnTo>
                  <a:pt x="25" y="38"/>
                </a:lnTo>
                <a:lnTo>
                  <a:pt x="39" y="54"/>
                </a:lnTo>
                <a:lnTo>
                  <a:pt x="41" y="54"/>
                </a:lnTo>
                <a:lnTo>
                  <a:pt x="43" y="54"/>
                </a:lnTo>
                <a:lnTo>
                  <a:pt x="43" y="52"/>
                </a:lnTo>
                <a:lnTo>
                  <a:pt x="37" y="18"/>
                </a:lnTo>
                <a:lnTo>
                  <a:pt x="45" y="24"/>
                </a:lnTo>
                <a:lnTo>
                  <a:pt x="49" y="24"/>
                </a:lnTo>
                <a:lnTo>
                  <a:pt x="49" y="22"/>
                </a:lnTo>
                <a:lnTo>
                  <a:pt x="51" y="22"/>
                </a:lnTo>
                <a:lnTo>
                  <a:pt x="61" y="0"/>
                </a:lnTo>
                <a:lnTo>
                  <a:pt x="69" y="22"/>
                </a:lnTo>
                <a:lnTo>
                  <a:pt x="71" y="22"/>
                </a:lnTo>
                <a:lnTo>
                  <a:pt x="73" y="24"/>
                </a:lnTo>
                <a:lnTo>
                  <a:pt x="75" y="22"/>
                </a:lnTo>
                <a:lnTo>
                  <a:pt x="83" y="18"/>
                </a:lnTo>
                <a:lnTo>
                  <a:pt x="77" y="52"/>
                </a:lnTo>
                <a:lnTo>
                  <a:pt x="77" y="54"/>
                </a:lnTo>
                <a:lnTo>
                  <a:pt x="79" y="54"/>
                </a:lnTo>
                <a:lnTo>
                  <a:pt x="81" y="54"/>
                </a:lnTo>
                <a:lnTo>
                  <a:pt x="95" y="38"/>
                </a:lnTo>
                <a:lnTo>
                  <a:pt x="97" y="44"/>
                </a:lnTo>
                <a:lnTo>
                  <a:pt x="99" y="46"/>
                </a:lnTo>
                <a:lnTo>
                  <a:pt x="101" y="48"/>
                </a:lnTo>
                <a:lnTo>
                  <a:pt x="117" y="44"/>
                </a:lnTo>
                <a:lnTo>
                  <a:pt x="113" y="62"/>
                </a:lnTo>
                <a:lnTo>
                  <a:pt x="113" y="64"/>
                </a:lnTo>
                <a:lnTo>
                  <a:pt x="113" y="66"/>
                </a:lnTo>
                <a:lnTo>
                  <a:pt x="115" y="68"/>
                </a:lnTo>
                <a:lnTo>
                  <a:pt x="121" y="70"/>
                </a:lnTo>
                <a:lnTo>
                  <a:pt x="91" y="92"/>
                </a:lnTo>
                <a:lnTo>
                  <a:pt x="89" y="94"/>
                </a:lnTo>
                <a:lnTo>
                  <a:pt x="89" y="96"/>
                </a:lnTo>
                <a:lnTo>
                  <a:pt x="89" y="98"/>
                </a:lnTo>
                <a:lnTo>
                  <a:pt x="93" y="106"/>
                </a:lnTo>
                <a:lnTo>
                  <a:pt x="67" y="100"/>
                </a:lnTo>
                <a:lnTo>
                  <a:pt x="65" y="100"/>
                </a:lnTo>
                <a:lnTo>
                  <a:pt x="63" y="102"/>
                </a:lnTo>
                <a:lnTo>
                  <a:pt x="63" y="133"/>
                </a:lnTo>
                <a:lnTo>
                  <a:pt x="57" y="133"/>
                </a:lnTo>
                <a:lnTo>
                  <a:pt x="59" y="102"/>
                </a:lnTo>
                <a:lnTo>
                  <a:pt x="57" y="100"/>
                </a:lnTo>
                <a:lnTo>
                  <a:pt x="53" y="100"/>
                </a:lnTo>
                <a:lnTo>
                  <a:pt x="51" y="100"/>
                </a:lnTo>
                <a:lnTo>
                  <a:pt x="29" y="106"/>
                </a:lnTo>
                <a:lnTo>
                  <a:pt x="31" y="96"/>
                </a:lnTo>
                <a:lnTo>
                  <a:pt x="31" y="94"/>
                </a:lnTo>
                <a:lnTo>
                  <a:pt x="31" y="92"/>
                </a:lnTo>
                <a:lnTo>
                  <a:pt x="0" y="70"/>
                </a:lnTo>
                <a:lnTo>
                  <a:pt x="8" y="66"/>
                </a:lnTo>
                <a:lnTo>
                  <a:pt x="9" y="66"/>
                </a:lnTo>
                <a:lnTo>
                  <a:pt x="9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4321080" y="3700440"/>
            <a:ext cx="193680" cy="21132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7"/>
                </a:lnTo>
                <a:lnTo>
                  <a:pt x="94" y="105"/>
                </a:lnTo>
                <a:lnTo>
                  <a:pt x="68" y="99"/>
                </a:lnTo>
                <a:lnTo>
                  <a:pt x="66" y="99"/>
                </a:lnTo>
                <a:lnTo>
                  <a:pt x="64" y="101"/>
                </a:lnTo>
                <a:lnTo>
                  <a:pt x="64" y="133"/>
                </a:lnTo>
                <a:lnTo>
                  <a:pt x="58" y="133"/>
                </a:lnTo>
                <a:lnTo>
                  <a:pt x="60" y="101"/>
                </a:lnTo>
                <a:lnTo>
                  <a:pt x="58" y="99"/>
                </a:lnTo>
                <a:lnTo>
                  <a:pt x="54" y="99"/>
                </a:lnTo>
                <a:lnTo>
                  <a:pt x="52" y="99"/>
                </a:lnTo>
                <a:lnTo>
                  <a:pt x="30" y="105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5583240" y="3440160"/>
            <a:ext cx="193680" cy="212760"/>
          </a:xfrm>
          <a:custGeom>
            <a:avLst/>
            <a:gdLst/>
            <a:ahLst/>
            <a:rect l="l" t="t" r="r" b="b"/>
            <a:pathLst>
              <a:path w="122" h="134">
                <a:moveTo>
                  <a:pt x="4" y="44"/>
                </a:moveTo>
                <a:lnTo>
                  <a:pt x="18" y="48"/>
                </a:lnTo>
                <a:lnTo>
                  <a:pt x="22" y="46"/>
                </a:lnTo>
                <a:lnTo>
                  <a:pt x="24" y="46"/>
                </a:lnTo>
                <a:lnTo>
                  <a:pt x="26" y="38"/>
                </a:lnTo>
                <a:lnTo>
                  <a:pt x="40" y="54"/>
                </a:lnTo>
                <a:lnTo>
                  <a:pt x="42" y="54"/>
                </a:lnTo>
                <a:lnTo>
                  <a:pt x="44" y="54"/>
                </a:lnTo>
                <a:lnTo>
                  <a:pt x="44" y="52"/>
                </a:lnTo>
                <a:lnTo>
                  <a:pt x="38" y="18"/>
                </a:lnTo>
                <a:lnTo>
                  <a:pt x="46" y="24"/>
                </a:lnTo>
                <a:lnTo>
                  <a:pt x="50" y="24"/>
                </a:lnTo>
                <a:lnTo>
                  <a:pt x="50" y="22"/>
                </a:lnTo>
                <a:lnTo>
                  <a:pt x="52" y="22"/>
                </a:lnTo>
                <a:lnTo>
                  <a:pt x="62" y="0"/>
                </a:lnTo>
                <a:lnTo>
                  <a:pt x="70" y="22"/>
                </a:lnTo>
                <a:lnTo>
                  <a:pt x="72" y="22"/>
                </a:lnTo>
                <a:lnTo>
                  <a:pt x="74" y="24"/>
                </a:lnTo>
                <a:lnTo>
                  <a:pt x="76" y="22"/>
                </a:lnTo>
                <a:lnTo>
                  <a:pt x="84" y="18"/>
                </a:lnTo>
                <a:lnTo>
                  <a:pt x="78" y="52"/>
                </a:lnTo>
                <a:lnTo>
                  <a:pt x="78" y="54"/>
                </a:lnTo>
                <a:lnTo>
                  <a:pt x="80" y="54"/>
                </a:lnTo>
                <a:lnTo>
                  <a:pt x="82" y="54"/>
                </a:lnTo>
                <a:lnTo>
                  <a:pt x="96" y="38"/>
                </a:lnTo>
                <a:lnTo>
                  <a:pt x="98" y="44"/>
                </a:lnTo>
                <a:lnTo>
                  <a:pt x="100" y="46"/>
                </a:lnTo>
                <a:lnTo>
                  <a:pt x="102" y="48"/>
                </a:lnTo>
                <a:lnTo>
                  <a:pt x="118" y="44"/>
                </a:lnTo>
                <a:lnTo>
                  <a:pt x="114" y="62"/>
                </a:lnTo>
                <a:lnTo>
                  <a:pt x="114" y="64"/>
                </a:lnTo>
                <a:lnTo>
                  <a:pt x="114" y="66"/>
                </a:lnTo>
                <a:lnTo>
                  <a:pt x="116" y="68"/>
                </a:lnTo>
                <a:lnTo>
                  <a:pt x="122" y="70"/>
                </a:lnTo>
                <a:lnTo>
                  <a:pt x="92" y="92"/>
                </a:lnTo>
                <a:lnTo>
                  <a:pt x="90" y="94"/>
                </a:lnTo>
                <a:lnTo>
                  <a:pt x="90" y="96"/>
                </a:lnTo>
                <a:lnTo>
                  <a:pt x="90" y="98"/>
                </a:lnTo>
                <a:lnTo>
                  <a:pt x="94" y="106"/>
                </a:lnTo>
                <a:lnTo>
                  <a:pt x="68" y="100"/>
                </a:lnTo>
                <a:lnTo>
                  <a:pt x="66" y="100"/>
                </a:lnTo>
                <a:lnTo>
                  <a:pt x="64" y="102"/>
                </a:lnTo>
                <a:lnTo>
                  <a:pt x="64" y="134"/>
                </a:lnTo>
                <a:lnTo>
                  <a:pt x="58" y="134"/>
                </a:lnTo>
                <a:lnTo>
                  <a:pt x="60" y="102"/>
                </a:lnTo>
                <a:lnTo>
                  <a:pt x="58" y="100"/>
                </a:lnTo>
                <a:lnTo>
                  <a:pt x="54" y="100"/>
                </a:lnTo>
                <a:lnTo>
                  <a:pt x="52" y="100"/>
                </a:lnTo>
                <a:lnTo>
                  <a:pt x="30" y="106"/>
                </a:lnTo>
                <a:lnTo>
                  <a:pt x="32" y="96"/>
                </a:lnTo>
                <a:lnTo>
                  <a:pt x="32" y="94"/>
                </a:lnTo>
                <a:lnTo>
                  <a:pt x="32" y="92"/>
                </a:lnTo>
                <a:lnTo>
                  <a:pt x="0" y="70"/>
                </a:lnTo>
                <a:lnTo>
                  <a:pt x="8" y="66"/>
                </a:lnTo>
                <a:lnTo>
                  <a:pt x="10" y="66"/>
                </a:lnTo>
                <a:lnTo>
                  <a:pt x="10" y="62"/>
                </a:lnTo>
                <a:lnTo>
                  <a:pt x="8" y="60"/>
                </a:lnTo>
                <a:lnTo>
                  <a:pt x="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711520" y="3722760"/>
            <a:ext cx="539640" cy="458640"/>
          </a:xfrm>
          <a:custGeom>
            <a:avLst/>
            <a:gdLst/>
            <a:ahLst/>
            <a:rect l="l" t="t" r="r" b="b"/>
            <a:pathLst>
              <a:path w="340" h="289">
                <a:moveTo>
                  <a:pt x="326" y="0"/>
                </a:moveTo>
                <a:lnTo>
                  <a:pt x="336" y="38"/>
                </a:lnTo>
                <a:lnTo>
                  <a:pt x="340" y="74"/>
                </a:lnTo>
                <a:lnTo>
                  <a:pt x="308" y="113"/>
                </a:lnTo>
                <a:lnTo>
                  <a:pt x="256" y="157"/>
                </a:lnTo>
                <a:lnTo>
                  <a:pt x="212" y="189"/>
                </a:lnTo>
                <a:lnTo>
                  <a:pt x="164" y="237"/>
                </a:lnTo>
                <a:lnTo>
                  <a:pt x="100" y="265"/>
                </a:lnTo>
                <a:lnTo>
                  <a:pt x="44" y="277"/>
                </a:lnTo>
                <a:lnTo>
                  <a:pt x="0" y="289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3"/>
          <p:cNvSpPr/>
          <p:nvPr/>
        </p:nvSpPr>
        <p:spPr>
          <a:xfrm>
            <a:off x="3529080" y="2585880"/>
            <a:ext cx="1736640" cy="1089360"/>
          </a:xfrm>
          <a:custGeom>
            <a:avLst/>
            <a:gdLst/>
            <a:ahLst/>
            <a:rect l="l" t="t" r="r" b="b"/>
            <a:pathLst>
              <a:path w="1094" h="686">
                <a:moveTo>
                  <a:pt x="0" y="686"/>
                </a:moveTo>
                <a:lnTo>
                  <a:pt x="48" y="646"/>
                </a:lnTo>
                <a:lnTo>
                  <a:pt x="140" y="606"/>
                </a:lnTo>
                <a:lnTo>
                  <a:pt x="208" y="602"/>
                </a:lnTo>
                <a:lnTo>
                  <a:pt x="308" y="590"/>
                </a:lnTo>
                <a:lnTo>
                  <a:pt x="368" y="550"/>
                </a:lnTo>
                <a:lnTo>
                  <a:pt x="399" y="510"/>
                </a:lnTo>
                <a:lnTo>
                  <a:pt x="403" y="467"/>
                </a:lnTo>
                <a:lnTo>
                  <a:pt x="407" y="431"/>
                </a:lnTo>
                <a:lnTo>
                  <a:pt x="443" y="411"/>
                </a:lnTo>
                <a:lnTo>
                  <a:pt x="495" y="407"/>
                </a:lnTo>
                <a:lnTo>
                  <a:pt x="511" y="371"/>
                </a:lnTo>
                <a:lnTo>
                  <a:pt x="611" y="315"/>
                </a:lnTo>
                <a:lnTo>
                  <a:pt x="743" y="251"/>
                </a:lnTo>
                <a:lnTo>
                  <a:pt x="827" y="191"/>
                </a:lnTo>
                <a:lnTo>
                  <a:pt x="895" y="144"/>
                </a:lnTo>
                <a:lnTo>
                  <a:pt x="930" y="144"/>
                </a:lnTo>
                <a:lnTo>
                  <a:pt x="982" y="104"/>
                </a:lnTo>
                <a:lnTo>
                  <a:pt x="1026" y="56"/>
                </a:lnTo>
                <a:lnTo>
                  <a:pt x="1070" y="28"/>
                </a:lnTo>
                <a:lnTo>
                  <a:pt x="1094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2857680" y="1168560"/>
            <a:ext cx="1616040" cy="177480"/>
          </a:xfrm>
          <a:custGeom>
            <a:avLst/>
            <a:gdLst/>
            <a:ahLst/>
            <a:rect l="l" t="t" r="r" b="b"/>
            <a:pathLst>
              <a:path w="1018" h="112">
                <a:moveTo>
                  <a:pt x="0" y="72"/>
                </a:moveTo>
                <a:lnTo>
                  <a:pt x="72" y="68"/>
                </a:lnTo>
                <a:lnTo>
                  <a:pt x="156" y="84"/>
                </a:lnTo>
                <a:lnTo>
                  <a:pt x="228" y="112"/>
                </a:lnTo>
                <a:lnTo>
                  <a:pt x="275" y="112"/>
                </a:lnTo>
                <a:lnTo>
                  <a:pt x="359" y="100"/>
                </a:lnTo>
                <a:lnTo>
                  <a:pt x="431" y="80"/>
                </a:lnTo>
                <a:lnTo>
                  <a:pt x="539" y="40"/>
                </a:lnTo>
                <a:lnTo>
                  <a:pt x="639" y="36"/>
                </a:lnTo>
                <a:lnTo>
                  <a:pt x="677" y="38"/>
                </a:lnTo>
                <a:lnTo>
                  <a:pt x="707" y="38"/>
                </a:lnTo>
                <a:lnTo>
                  <a:pt x="731" y="36"/>
                </a:lnTo>
                <a:lnTo>
                  <a:pt x="751" y="30"/>
                </a:lnTo>
                <a:lnTo>
                  <a:pt x="773" y="22"/>
                </a:lnTo>
                <a:lnTo>
                  <a:pt x="803" y="8"/>
                </a:lnTo>
                <a:lnTo>
                  <a:pt x="822" y="12"/>
                </a:lnTo>
                <a:lnTo>
                  <a:pt x="854" y="16"/>
                </a:lnTo>
                <a:lnTo>
                  <a:pt x="926" y="20"/>
                </a:lnTo>
                <a:lnTo>
                  <a:pt x="974" y="8"/>
                </a:lnTo>
                <a:lnTo>
                  <a:pt x="1018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5"/>
          <p:cNvSpPr/>
          <p:nvPr/>
        </p:nvSpPr>
        <p:spPr>
          <a:xfrm>
            <a:off x="3282840" y="630360"/>
            <a:ext cx="2845080" cy="2828880"/>
          </a:xfrm>
          <a:custGeom>
            <a:avLst/>
            <a:gdLst/>
            <a:ahLst/>
            <a:rect l="l" t="t" r="r" b="b"/>
            <a:pathLst>
              <a:path w="1792" h="1782">
                <a:moveTo>
                  <a:pt x="0" y="8"/>
                </a:moveTo>
                <a:lnTo>
                  <a:pt x="35" y="16"/>
                </a:lnTo>
                <a:lnTo>
                  <a:pt x="79" y="20"/>
                </a:lnTo>
                <a:lnTo>
                  <a:pt x="143" y="28"/>
                </a:lnTo>
                <a:lnTo>
                  <a:pt x="195" y="24"/>
                </a:lnTo>
                <a:lnTo>
                  <a:pt x="227" y="12"/>
                </a:lnTo>
                <a:lnTo>
                  <a:pt x="267" y="8"/>
                </a:lnTo>
                <a:lnTo>
                  <a:pt x="299" y="0"/>
                </a:lnTo>
                <a:lnTo>
                  <a:pt x="335" y="28"/>
                </a:lnTo>
                <a:lnTo>
                  <a:pt x="403" y="64"/>
                </a:lnTo>
                <a:lnTo>
                  <a:pt x="499" y="92"/>
                </a:lnTo>
                <a:lnTo>
                  <a:pt x="586" y="104"/>
                </a:lnTo>
                <a:lnTo>
                  <a:pt x="650" y="132"/>
                </a:lnTo>
                <a:lnTo>
                  <a:pt x="690" y="148"/>
                </a:lnTo>
                <a:lnTo>
                  <a:pt x="706" y="191"/>
                </a:lnTo>
                <a:lnTo>
                  <a:pt x="734" y="263"/>
                </a:lnTo>
                <a:lnTo>
                  <a:pt x="754" y="315"/>
                </a:lnTo>
                <a:lnTo>
                  <a:pt x="758" y="375"/>
                </a:lnTo>
                <a:lnTo>
                  <a:pt x="772" y="385"/>
                </a:lnTo>
                <a:lnTo>
                  <a:pt x="782" y="395"/>
                </a:lnTo>
                <a:lnTo>
                  <a:pt x="794" y="399"/>
                </a:lnTo>
                <a:lnTo>
                  <a:pt x="842" y="415"/>
                </a:lnTo>
                <a:lnTo>
                  <a:pt x="870" y="447"/>
                </a:lnTo>
                <a:lnTo>
                  <a:pt x="902" y="479"/>
                </a:lnTo>
                <a:lnTo>
                  <a:pt x="930" y="530"/>
                </a:lnTo>
                <a:lnTo>
                  <a:pt x="938" y="578"/>
                </a:lnTo>
                <a:lnTo>
                  <a:pt x="958" y="630"/>
                </a:lnTo>
                <a:lnTo>
                  <a:pt x="982" y="678"/>
                </a:lnTo>
                <a:lnTo>
                  <a:pt x="970" y="714"/>
                </a:lnTo>
                <a:lnTo>
                  <a:pt x="970" y="746"/>
                </a:lnTo>
                <a:lnTo>
                  <a:pt x="950" y="789"/>
                </a:lnTo>
                <a:lnTo>
                  <a:pt x="926" y="821"/>
                </a:lnTo>
                <a:lnTo>
                  <a:pt x="910" y="849"/>
                </a:lnTo>
                <a:lnTo>
                  <a:pt x="898" y="877"/>
                </a:lnTo>
                <a:lnTo>
                  <a:pt x="890" y="905"/>
                </a:lnTo>
                <a:lnTo>
                  <a:pt x="922" y="933"/>
                </a:lnTo>
                <a:lnTo>
                  <a:pt x="958" y="961"/>
                </a:lnTo>
                <a:lnTo>
                  <a:pt x="1010" y="1001"/>
                </a:lnTo>
                <a:lnTo>
                  <a:pt x="1078" y="1061"/>
                </a:lnTo>
                <a:lnTo>
                  <a:pt x="1145" y="1112"/>
                </a:lnTo>
                <a:lnTo>
                  <a:pt x="1185" y="1160"/>
                </a:lnTo>
                <a:lnTo>
                  <a:pt x="1237" y="1204"/>
                </a:lnTo>
                <a:lnTo>
                  <a:pt x="1261" y="1254"/>
                </a:lnTo>
                <a:lnTo>
                  <a:pt x="1285" y="1272"/>
                </a:lnTo>
                <a:lnTo>
                  <a:pt x="1313" y="1276"/>
                </a:lnTo>
                <a:lnTo>
                  <a:pt x="1317" y="1308"/>
                </a:lnTo>
                <a:lnTo>
                  <a:pt x="1337" y="1360"/>
                </a:lnTo>
                <a:lnTo>
                  <a:pt x="1349" y="1439"/>
                </a:lnTo>
                <a:lnTo>
                  <a:pt x="1385" y="1487"/>
                </a:lnTo>
                <a:lnTo>
                  <a:pt x="1393" y="1531"/>
                </a:lnTo>
                <a:lnTo>
                  <a:pt x="1421" y="1547"/>
                </a:lnTo>
                <a:lnTo>
                  <a:pt x="1461" y="1571"/>
                </a:lnTo>
                <a:lnTo>
                  <a:pt x="1445" y="1607"/>
                </a:lnTo>
                <a:lnTo>
                  <a:pt x="1445" y="1655"/>
                </a:lnTo>
                <a:lnTo>
                  <a:pt x="1489" y="1647"/>
                </a:lnTo>
                <a:lnTo>
                  <a:pt x="1525" y="1647"/>
                </a:lnTo>
                <a:lnTo>
                  <a:pt x="1569" y="1659"/>
                </a:lnTo>
                <a:lnTo>
                  <a:pt x="1605" y="1671"/>
                </a:lnTo>
                <a:lnTo>
                  <a:pt x="1636" y="1687"/>
                </a:lnTo>
                <a:lnTo>
                  <a:pt x="1652" y="1679"/>
                </a:lnTo>
                <a:lnTo>
                  <a:pt x="1680" y="1679"/>
                </a:lnTo>
                <a:lnTo>
                  <a:pt x="1704" y="1707"/>
                </a:lnTo>
                <a:lnTo>
                  <a:pt x="1732" y="1719"/>
                </a:lnTo>
                <a:lnTo>
                  <a:pt x="1764" y="1746"/>
                </a:lnTo>
                <a:lnTo>
                  <a:pt x="1792" y="1782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6"/>
          <p:cNvSpPr/>
          <p:nvPr/>
        </p:nvSpPr>
        <p:spPr>
          <a:xfrm>
            <a:off x="4075200" y="3949560"/>
            <a:ext cx="563400" cy="668520"/>
          </a:xfrm>
          <a:custGeom>
            <a:avLst/>
            <a:gdLst/>
            <a:ahLst/>
            <a:rect l="l" t="t" r="r" b="b"/>
            <a:pathLst>
              <a:path w="355" h="421">
                <a:moveTo>
                  <a:pt x="355" y="0"/>
                </a:moveTo>
                <a:lnTo>
                  <a:pt x="329" y="32"/>
                </a:lnTo>
                <a:lnTo>
                  <a:pt x="281" y="102"/>
                </a:lnTo>
                <a:lnTo>
                  <a:pt x="239" y="154"/>
                </a:lnTo>
                <a:lnTo>
                  <a:pt x="195" y="182"/>
                </a:lnTo>
                <a:lnTo>
                  <a:pt x="163" y="240"/>
                </a:lnTo>
                <a:lnTo>
                  <a:pt x="115" y="281"/>
                </a:lnTo>
                <a:lnTo>
                  <a:pt x="79" y="335"/>
                </a:lnTo>
                <a:lnTo>
                  <a:pt x="51" y="383"/>
                </a:lnTo>
                <a:lnTo>
                  <a:pt x="0" y="421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7"/>
          <p:cNvSpPr/>
          <p:nvPr/>
        </p:nvSpPr>
        <p:spPr>
          <a:xfrm>
            <a:off x="2806560" y="4618080"/>
            <a:ext cx="1233720" cy="226800"/>
          </a:xfrm>
          <a:custGeom>
            <a:avLst/>
            <a:gdLst/>
            <a:ahLst/>
            <a:rect l="l" t="t" r="r" b="b"/>
            <a:pathLst>
              <a:path w="777" h="143">
                <a:moveTo>
                  <a:pt x="0" y="42"/>
                </a:moveTo>
                <a:lnTo>
                  <a:pt x="52" y="20"/>
                </a:lnTo>
                <a:lnTo>
                  <a:pt x="106" y="32"/>
                </a:lnTo>
                <a:lnTo>
                  <a:pt x="176" y="74"/>
                </a:lnTo>
                <a:lnTo>
                  <a:pt x="250" y="106"/>
                </a:lnTo>
                <a:lnTo>
                  <a:pt x="323" y="122"/>
                </a:lnTo>
                <a:lnTo>
                  <a:pt x="387" y="143"/>
                </a:lnTo>
                <a:lnTo>
                  <a:pt x="451" y="132"/>
                </a:lnTo>
                <a:lnTo>
                  <a:pt x="505" y="112"/>
                </a:lnTo>
                <a:lnTo>
                  <a:pt x="521" y="84"/>
                </a:lnTo>
                <a:lnTo>
                  <a:pt x="595" y="84"/>
                </a:lnTo>
                <a:lnTo>
                  <a:pt x="617" y="48"/>
                </a:lnTo>
                <a:lnTo>
                  <a:pt x="675" y="36"/>
                </a:lnTo>
                <a:lnTo>
                  <a:pt x="739" y="26"/>
                </a:lnTo>
                <a:lnTo>
                  <a:pt x="761" y="4"/>
                </a:lnTo>
                <a:lnTo>
                  <a:pt x="777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8"/>
          <p:cNvSpPr/>
          <p:nvPr/>
        </p:nvSpPr>
        <p:spPr>
          <a:xfrm>
            <a:off x="2332080" y="668160"/>
            <a:ext cx="1057320" cy="1152720"/>
          </a:xfrm>
          <a:custGeom>
            <a:avLst/>
            <a:gdLst/>
            <a:ahLst/>
            <a:rect l="l" t="t" r="r" b="b"/>
            <a:pathLst>
              <a:path w="666" h="726">
                <a:moveTo>
                  <a:pt x="0" y="726"/>
                </a:moveTo>
                <a:lnTo>
                  <a:pt x="48" y="706"/>
                </a:lnTo>
                <a:lnTo>
                  <a:pt x="83" y="674"/>
                </a:lnTo>
                <a:lnTo>
                  <a:pt x="111" y="634"/>
                </a:lnTo>
                <a:lnTo>
                  <a:pt x="139" y="610"/>
                </a:lnTo>
                <a:lnTo>
                  <a:pt x="167" y="594"/>
                </a:lnTo>
                <a:lnTo>
                  <a:pt x="195" y="550"/>
                </a:lnTo>
                <a:lnTo>
                  <a:pt x="235" y="522"/>
                </a:lnTo>
                <a:lnTo>
                  <a:pt x="275" y="498"/>
                </a:lnTo>
                <a:lnTo>
                  <a:pt x="303" y="455"/>
                </a:lnTo>
                <a:lnTo>
                  <a:pt x="331" y="409"/>
                </a:lnTo>
                <a:lnTo>
                  <a:pt x="335" y="347"/>
                </a:lnTo>
                <a:lnTo>
                  <a:pt x="339" y="297"/>
                </a:lnTo>
                <a:lnTo>
                  <a:pt x="383" y="283"/>
                </a:lnTo>
                <a:lnTo>
                  <a:pt x="411" y="243"/>
                </a:lnTo>
                <a:lnTo>
                  <a:pt x="423" y="215"/>
                </a:lnTo>
                <a:lnTo>
                  <a:pt x="467" y="195"/>
                </a:lnTo>
                <a:lnTo>
                  <a:pt x="471" y="163"/>
                </a:lnTo>
                <a:lnTo>
                  <a:pt x="491" y="128"/>
                </a:lnTo>
                <a:lnTo>
                  <a:pt x="523" y="116"/>
                </a:lnTo>
                <a:lnTo>
                  <a:pt x="559" y="120"/>
                </a:lnTo>
                <a:lnTo>
                  <a:pt x="606" y="80"/>
                </a:lnTo>
                <a:lnTo>
                  <a:pt x="626" y="48"/>
                </a:lnTo>
                <a:lnTo>
                  <a:pt x="642" y="12"/>
                </a:lnTo>
                <a:lnTo>
                  <a:pt x="666" y="0"/>
                </a:lnTo>
              </a:path>
            </a:pathLst>
          </a:custGeom>
          <a:noFill/>
          <a:ln w="648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9"/>
          <p:cNvSpPr/>
          <p:nvPr/>
        </p:nvSpPr>
        <p:spPr>
          <a:xfrm>
            <a:off x="5886360" y="3675240"/>
            <a:ext cx="69840" cy="75960"/>
          </a:xfrm>
          <a:custGeom>
            <a:avLst/>
            <a:gdLst/>
            <a:ahLst/>
            <a:rect l="l" t="t" r="r" b="b"/>
            <a:pathLst>
              <a:path w="44" h="48">
                <a:moveTo>
                  <a:pt x="0" y="0"/>
                </a:moveTo>
                <a:lnTo>
                  <a:pt x="20" y="24"/>
                </a:lnTo>
                <a:lnTo>
                  <a:pt x="44" y="48"/>
                </a:lnTo>
              </a:path>
            </a:pathLst>
          </a:custGeom>
          <a:noFill/>
          <a:ln w="12600">
            <a:solidFill>
              <a:srgbClr val="ff1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2"/>
          <p:cNvSpPr/>
          <p:nvPr/>
        </p:nvSpPr>
        <p:spPr>
          <a:xfrm>
            <a:off x="5815080" y="363060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0"/>
                </a:moveTo>
                <a:lnTo>
                  <a:pt x="41" y="28"/>
                </a:lnTo>
                <a:lnTo>
                  <a:pt x="35" y="36"/>
                </a:lnTo>
                <a:lnTo>
                  <a:pt x="29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29" y="0"/>
                </a:lnTo>
                <a:lnTo>
                  <a:pt x="35" y="6"/>
                </a:lnTo>
                <a:lnTo>
                  <a:pt x="41" y="12"/>
                </a:lnTo>
                <a:lnTo>
                  <a:pt x="41" y="18"/>
                </a:lnTo>
                <a:lnTo>
                  <a:pt x="4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4040280" y="4583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5211720" y="40924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4606920" y="391464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249880" y="2554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5392800" y="281160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39"/>
                </a:lnTo>
                <a:lnTo>
                  <a:pt x="20" y="41"/>
                </a:lnTo>
                <a:lnTo>
                  <a:pt x="12" y="39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5361120" y="336708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0" y="30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4613400" y="19400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30"/>
                </a:lnTo>
                <a:lnTo>
                  <a:pt x="38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8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2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0"/>
          <p:cNvSpPr/>
          <p:nvPr/>
        </p:nvSpPr>
        <p:spPr>
          <a:xfrm>
            <a:off x="5037120" y="1244520"/>
            <a:ext cx="69840" cy="6660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8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8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1792440" y="14270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0" y="28"/>
                </a:lnTo>
                <a:lnTo>
                  <a:pt x="36" y="36"/>
                </a:lnTo>
                <a:lnTo>
                  <a:pt x="30" y="40"/>
                </a:lnTo>
                <a:lnTo>
                  <a:pt x="20" y="42"/>
                </a:lnTo>
                <a:lnTo>
                  <a:pt x="12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30" y="0"/>
                </a:lnTo>
                <a:lnTo>
                  <a:pt x="36" y="6"/>
                </a:lnTo>
                <a:lnTo>
                  <a:pt x="40" y="12"/>
                </a:lnTo>
                <a:lnTo>
                  <a:pt x="40" y="2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2"/>
          <p:cNvSpPr/>
          <p:nvPr/>
        </p:nvSpPr>
        <p:spPr>
          <a:xfrm>
            <a:off x="1579680" y="150984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3"/>
          <p:cNvSpPr/>
          <p:nvPr/>
        </p:nvSpPr>
        <p:spPr>
          <a:xfrm>
            <a:off x="2822400" y="1251000"/>
            <a:ext cx="6696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4"/>
          <p:cNvSpPr/>
          <p:nvPr/>
        </p:nvSpPr>
        <p:spPr>
          <a:xfrm>
            <a:off x="2835360" y="107316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5"/>
          <p:cNvSpPr/>
          <p:nvPr/>
        </p:nvSpPr>
        <p:spPr>
          <a:xfrm>
            <a:off x="2408400" y="234648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21"/>
                </a:moveTo>
                <a:lnTo>
                  <a:pt x="41" y="29"/>
                </a:lnTo>
                <a:lnTo>
                  <a:pt x="37" y="37"/>
                </a:lnTo>
                <a:lnTo>
                  <a:pt x="29" y="41"/>
                </a:lnTo>
                <a:lnTo>
                  <a:pt x="21" y="43"/>
                </a:lnTo>
                <a:lnTo>
                  <a:pt x="13" y="41"/>
                </a:lnTo>
                <a:lnTo>
                  <a:pt x="8" y="37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8" y="6"/>
                </a:lnTo>
                <a:lnTo>
                  <a:pt x="13" y="2"/>
                </a:lnTo>
                <a:lnTo>
                  <a:pt x="21" y="0"/>
                </a:lnTo>
                <a:lnTo>
                  <a:pt x="29" y="2"/>
                </a:lnTo>
                <a:lnTo>
                  <a:pt x="37" y="6"/>
                </a:lnTo>
                <a:lnTo>
                  <a:pt x="41" y="14"/>
                </a:lnTo>
                <a:lnTo>
                  <a:pt x="41" y="21"/>
                </a:lnTo>
                <a:lnTo>
                  <a:pt x="4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6"/>
          <p:cNvSpPr/>
          <p:nvPr/>
        </p:nvSpPr>
        <p:spPr>
          <a:xfrm>
            <a:off x="3760920" y="53172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2"/>
                </a:moveTo>
                <a:lnTo>
                  <a:pt x="42" y="30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7"/>
          <p:cNvSpPr/>
          <p:nvPr/>
        </p:nvSpPr>
        <p:spPr>
          <a:xfrm>
            <a:off x="2297160" y="1789200"/>
            <a:ext cx="6660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20"/>
                </a:moveTo>
                <a:lnTo>
                  <a:pt x="42" y="28"/>
                </a:lnTo>
                <a:lnTo>
                  <a:pt x="36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6" y="6"/>
                </a:lnTo>
                <a:lnTo>
                  <a:pt x="42" y="12"/>
                </a:lnTo>
                <a:lnTo>
                  <a:pt x="42" y="18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8"/>
          <p:cNvSpPr/>
          <p:nvPr/>
        </p:nvSpPr>
        <p:spPr>
          <a:xfrm>
            <a:off x="4454640" y="1155600"/>
            <a:ext cx="6660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0" y="30"/>
                </a:lnTo>
                <a:lnTo>
                  <a:pt x="36" y="38"/>
                </a:lnTo>
                <a:lnTo>
                  <a:pt x="30" y="42"/>
                </a:lnTo>
                <a:lnTo>
                  <a:pt x="20" y="44"/>
                </a:lnTo>
                <a:lnTo>
                  <a:pt x="12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30" y="2"/>
                </a:lnTo>
                <a:lnTo>
                  <a:pt x="36" y="6"/>
                </a:lnTo>
                <a:lnTo>
                  <a:pt x="40" y="14"/>
                </a:lnTo>
                <a:lnTo>
                  <a:pt x="40" y="22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9"/>
          <p:cNvSpPr/>
          <p:nvPr/>
        </p:nvSpPr>
        <p:spPr>
          <a:xfrm>
            <a:off x="5398920" y="996840"/>
            <a:ext cx="69840" cy="669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20"/>
                </a:moveTo>
                <a:lnTo>
                  <a:pt x="42" y="28"/>
                </a:lnTo>
                <a:lnTo>
                  <a:pt x="38" y="36"/>
                </a:lnTo>
                <a:lnTo>
                  <a:pt x="30" y="40"/>
                </a:lnTo>
                <a:lnTo>
                  <a:pt x="22" y="42"/>
                </a:lnTo>
                <a:lnTo>
                  <a:pt x="14" y="40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8" y="6"/>
                </a:lnTo>
                <a:lnTo>
                  <a:pt x="42" y="12"/>
                </a:lnTo>
                <a:lnTo>
                  <a:pt x="42" y="20"/>
                </a:lnTo>
                <a:lnTo>
                  <a:pt x="4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20"/>
          <p:cNvSpPr/>
          <p:nvPr/>
        </p:nvSpPr>
        <p:spPr>
          <a:xfrm>
            <a:off x="2771640" y="4649760"/>
            <a:ext cx="66960" cy="6984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22"/>
                </a:moveTo>
                <a:lnTo>
                  <a:pt x="42" y="30"/>
                </a:lnTo>
                <a:lnTo>
                  <a:pt x="36" y="38"/>
                </a:lnTo>
                <a:lnTo>
                  <a:pt x="30" y="42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6" y="6"/>
                </a:lnTo>
                <a:lnTo>
                  <a:pt x="42" y="14"/>
                </a:lnTo>
                <a:lnTo>
                  <a:pt x="42" y="2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21"/>
          <p:cNvSpPr/>
          <p:nvPr/>
        </p:nvSpPr>
        <p:spPr>
          <a:xfrm>
            <a:off x="3016080" y="4811760"/>
            <a:ext cx="70200" cy="651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21"/>
                </a:moveTo>
                <a:lnTo>
                  <a:pt x="42" y="29"/>
                </a:lnTo>
                <a:lnTo>
                  <a:pt x="38" y="35"/>
                </a:lnTo>
                <a:lnTo>
                  <a:pt x="30" y="39"/>
                </a:lnTo>
                <a:lnTo>
                  <a:pt x="22" y="41"/>
                </a:lnTo>
                <a:lnTo>
                  <a:pt x="14" y="39"/>
                </a:lnTo>
                <a:lnTo>
                  <a:pt x="6" y="35"/>
                </a:lnTo>
                <a:lnTo>
                  <a:pt x="2" y="29"/>
                </a:lnTo>
                <a:lnTo>
                  <a:pt x="0" y="21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2" y="0"/>
                </a:lnTo>
                <a:lnTo>
                  <a:pt x="30" y="2"/>
                </a:lnTo>
                <a:lnTo>
                  <a:pt x="38" y="6"/>
                </a:lnTo>
                <a:lnTo>
                  <a:pt x="42" y="14"/>
                </a:lnTo>
                <a:lnTo>
                  <a:pt x="42" y="21"/>
                </a:lnTo>
                <a:lnTo>
                  <a:pt x="4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401800" y="367524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ck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4167000" y="440064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4167360" y="451944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707360" y="395460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s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4739400" y="25225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chibu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5727960" y="555480"/>
            <a:ext cx="62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ou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5679360" y="83340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 Lam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2970000" y="559908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 Manan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5215320" y="397368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050640" y="466884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2529000" y="235260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t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2529360" y="247644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892520" y="128268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dmund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5"/>
          <p:cNvSpPr/>
          <p:nvPr/>
        </p:nvSpPr>
        <p:spPr>
          <a:xfrm>
            <a:off x="2378880" y="9730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dg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6"/>
          <p:cNvSpPr/>
          <p:nvPr/>
        </p:nvSpPr>
        <p:spPr>
          <a:xfrm>
            <a:off x="1345320" y="1479600"/>
            <a:ext cx="20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3881880" y="485640"/>
            <a:ext cx="45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lhou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2419560" y="1757520"/>
            <a:ext cx="63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Leon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4074840" y="10494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u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739760" y="12128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4740120" y="133668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id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2"/>
          <p:cNvSpPr/>
          <p:nvPr/>
        </p:nvSpPr>
        <p:spPr>
          <a:xfrm>
            <a:off x="4444200" y="179244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ami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3"/>
          <p:cNvSpPr/>
          <p:nvPr/>
        </p:nvSpPr>
        <p:spPr>
          <a:xfrm>
            <a:off x="5511960" y="103356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pa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4845240" y="2719440"/>
            <a:ext cx="54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ucto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971960" y="3225960"/>
            <a:ext cx="39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c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2892240" y="131112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in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2892960" y="14320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en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2748600" y="451656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 Step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2956680" y="373860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deric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0"/>
          <p:cNvSpPr/>
          <p:nvPr/>
        </p:nvSpPr>
        <p:spPr>
          <a:xfrm>
            <a:off x="4250520" y="327960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1"/>
          <p:cNvSpPr/>
          <p:nvPr/>
        </p:nvSpPr>
        <p:spPr>
          <a:xfrm>
            <a:off x="4313520" y="340056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2"/>
          <p:cNvSpPr/>
          <p:nvPr/>
        </p:nvSpPr>
        <p:spPr>
          <a:xfrm>
            <a:off x="2731680" y="342252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int John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3"/>
          <p:cNvSpPr/>
          <p:nvPr/>
        </p:nvSpPr>
        <p:spPr>
          <a:xfrm>
            <a:off x="4100040" y="484344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y of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4072320" y="4964040"/>
            <a:ext cx="65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le de Fun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"/>
          <p:cNvSpPr/>
          <p:nvPr/>
        </p:nvSpPr>
        <p:spPr>
          <a:xfrm>
            <a:off x="6642000" y="1925640"/>
            <a:ext cx="898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ulf of St Law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6"/>
          <p:cNvSpPr/>
          <p:nvPr/>
        </p:nvSpPr>
        <p:spPr>
          <a:xfrm>
            <a:off x="6580440" y="2044800"/>
            <a:ext cx="1026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olfe du Saint-Laur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7"/>
          <p:cNvSpPr/>
          <p:nvPr/>
        </p:nvSpPr>
        <p:spPr>
          <a:xfrm>
            <a:off x="6531480" y="2432160"/>
            <a:ext cx="126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CE EDWARD IS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8"/>
          <p:cNvSpPr/>
          <p:nvPr/>
        </p:nvSpPr>
        <p:spPr>
          <a:xfrm>
            <a:off x="6516360" y="2550960"/>
            <a:ext cx="129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LE-DU-PRINCE-EDO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9"/>
          <p:cNvSpPr/>
          <p:nvPr/>
        </p:nvSpPr>
        <p:spPr>
          <a:xfrm>
            <a:off x="4945320" y="5108400"/>
            <a:ext cx="7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A SCO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0"/>
          <p:cNvSpPr/>
          <p:nvPr/>
        </p:nvSpPr>
        <p:spPr>
          <a:xfrm>
            <a:off x="4793400" y="522936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VELLE-ECO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61"/>
          <p:cNvSpPr/>
          <p:nvPr/>
        </p:nvSpPr>
        <p:spPr>
          <a:xfrm>
            <a:off x="3430440" y="3586320"/>
            <a:ext cx="174600" cy="164880"/>
          </a:xfrm>
          <a:custGeom>
            <a:avLst/>
            <a:gdLst/>
            <a:ahLst/>
            <a:rect l="l" t="t" r="r" b="b"/>
            <a:pathLst>
              <a:path w="110" h="104">
                <a:moveTo>
                  <a:pt x="56" y="0"/>
                </a:moveTo>
                <a:lnTo>
                  <a:pt x="68" y="40"/>
                </a:lnTo>
                <a:lnTo>
                  <a:pt x="110" y="40"/>
                </a:lnTo>
                <a:lnTo>
                  <a:pt x="76" y="64"/>
                </a:lnTo>
                <a:lnTo>
                  <a:pt x="90" y="104"/>
                </a:lnTo>
                <a:lnTo>
                  <a:pt x="56" y="80"/>
                </a:lnTo>
                <a:lnTo>
                  <a:pt x="22" y="104"/>
                </a:lnTo>
                <a:lnTo>
                  <a:pt x="34" y="64"/>
                </a:lnTo>
                <a:lnTo>
                  <a:pt x="0" y="40"/>
                </a:lnTo>
                <a:lnTo>
                  <a:pt x="42" y="4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2"/>
          <p:cNvSpPr/>
          <p:nvPr/>
        </p:nvSpPr>
        <p:spPr>
          <a:xfrm>
            <a:off x="5927040" y="1266840"/>
            <a:ext cx="15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3"/>
          <p:cNvSpPr/>
          <p:nvPr/>
        </p:nvSpPr>
        <p:spPr>
          <a:xfrm>
            <a:off x="5927400" y="1477800"/>
            <a:ext cx="202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UVEAU-BRUNSW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0:24:46Z</dcterms:created>
  <dc:creator>bruce jones</dc:creator>
  <dc:description/>
  <dc:language>en-US</dc:language>
  <cp:lastModifiedBy>james jones</cp:lastModifiedBy>
  <dcterms:modified xsi:type="dcterms:W3CDTF">2023-07-15T21:29:03Z</dcterms:modified>
  <cp:revision>6</cp:revision>
  <dc:subject/>
  <dc:title>PowerPoint Presentation</dc:title>
</cp:coreProperties>
</file>